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CA7D-89F6-4F68-BDE3-B660D81E0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E33A-C494-43E4-8381-BFE217DD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9563-0234-4D26-92DB-27A08439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171C-B3A5-4742-A03E-8948D83DB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8BB1-3562-4C86-A068-7349182F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9AAF-A466-4E6B-8EC7-34945FC0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B118-4AB4-41AB-9B2F-6602BB70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8FE5-642E-4E17-858A-EC4C7D34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4A7F-A3C7-482E-B579-2BC2F1FD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A194-0EB8-46DF-A68B-A443D97F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FB2-3882-490E-9354-8F84E33F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8C8E-0C71-481E-9DFB-972767A6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63056-EAD8-45E8-B045-88CA5D7C31D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image" Target="../media/image6.jpeg"/><Relationship Id="rId4" Type="http://schemas.openxmlformats.org/officeDocument/2006/relationships/slide" Target="slide5.xml"/><Relationship Id="rId5" Type="http://schemas.openxmlformats.org/officeDocument/2006/relationships/image" Target="../media/image6.jpeg"/><Relationship Id="rId6" Type="http://schemas.openxmlformats.org/officeDocument/2006/relationships/slide" Target="slide6.xml"/><Relationship Id="rId7" Type="http://schemas.openxmlformats.org/officeDocument/2006/relationships/image" Target="../media/image7.jpeg"/><Relationship Id="rId8" Type="http://schemas.openxmlformats.org/officeDocument/2006/relationships/hyperlink" Target="file:///../&#1601;&#1607;&#1585;&#1587;%20&#1575;&#1604;&#1578;&#1585;&#1575;&#1606;&#1610;&#1605;.pps" TargetMode="External"/><Relationship Id="rId9" Type="http://schemas.openxmlformats.org/officeDocument/2006/relationships/image" Target="../media/image7.jpeg"/><Relationship Id="rId10" Type="http://schemas.openxmlformats.org/officeDocument/2006/relationships/slide" Target="slide1.xml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3480" y="-28440"/>
            <a:ext cx="9210960" cy="691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79960" y="3611520"/>
            <a:ext cx="80049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 فأنت مليكُ المجدِ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6720" y="4678200"/>
            <a:ext cx="74898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خالقُ كل الأشياء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598760"/>
            <a:ext cx="90428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أهديك كلَ الكـرامــةِ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71560" y="2544840"/>
            <a:ext cx="74534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أسبــحُ 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</a:rPr>
              <a:t>أ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ســــمك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38280" y="1644480"/>
            <a:ext cx="8534520" cy="37508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و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أع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</a:rPr>
              <a:t>ـ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بـــدكَ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كل عمري لك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36880" y="4251240"/>
            <a:ext cx="654948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Times New Roman"/>
              </a:rPr>
              <a:t>أنحني أمامك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152280" y="3475080"/>
            <a:ext cx="833112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أرفــعُ نفسي لـعـرشِكَ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360" y="4724280"/>
            <a:ext cx="66211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فعندكَ راحتـ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76320" y="1074600"/>
            <a:ext cx="927576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روحُكَ القدوس يسدد ل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230976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أعماقَ حاجت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38280" y="1644480"/>
            <a:ext cx="8534520" cy="37508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و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أع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</a:rPr>
              <a:t>ـ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بـــدكَ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كل عمري لك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36880" y="4251240"/>
            <a:ext cx="654948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Times New Roman"/>
              </a:rPr>
              <a:t>أنحني أمامك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355680" y="1012680"/>
            <a:ext cx="1003356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Times New Roman"/>
              </a:rPr>
              <a:t>حطمت قيد معصمي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2160" y="2232000"/>
            <a:ext cx="75247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مـحـوت مأثمي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830160" y="3298680"/>
            <a:ext cx="1081080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Times New Roman"/>
              </a:rPr>
              <a:t>وسيشدو قلبي منشداً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90720" y="4632480"/>
            <a:ext cx="519768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Times New Roman"/>
              </a:rPr>
              <a:t>لـك للأبــد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438280" y="1644480"/>
            <a:ext cx="8534520" cy="37508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و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أع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</a:rPr>
              <a:t>ـ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بـــدكَ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كل عمري لك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36880" y="4251240"/>
            <a:ext cx="654948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Times New Roman"/>
              </a:rPr>
              <a:t>أنحني أمامك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6400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روحك القدو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4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حطمت ق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6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و أعبد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92">
            <a:hlinkClick r:id="rId8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0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أهديك كل الكرا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3:28:45Z</dcterms:created>
  <dc:creator/>
  <dc:description/>
  <dc:language>en-US</dc:language>
  <cp:lastModifiedBy>Sp2</cp:lastModifiedBy>
  <dcterms:modified xsi:type="dcterms:W3CDTF">2008-09-08T15:57:59Z</dcterms:modified>
  <cp:revision>41</cp:revision>
  <dc:subject/>
  <dc:title>PowerPoint Presentation</dc:title>
</cp:coreProperties>
</file>