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E157-6FEA-4FB9-8E4F-DBC242557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1071-2AFA-43AC-8958-0899FDFB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BB8D-DE6D-4261-B417-28F84817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EDE9-8F0F-4008-9A7A-CD054D2A8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C31-7287-4E7B-BFA4-FD9C2E16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746-51CA-4189-8612-25E7D15D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D269-2092-4764-B940-BB7E9003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96BC-63CA-4F09-A9F1-CA52656B7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04F-C541-48B0-8A67-ADBB4C7D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9903-E00E-4879-83AE-25959D4C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BF3-BC99-4CF5-B5C0-133CF324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6DF-DF19-4AD9-8BF7-455CDD420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317B8-0D31-422F-80A4-BFD3D893F96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3.xml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image" Target="../media/image6.jpeg"/><Relationship Id="rId6" Type="http://schemas.openxmlformats.org/officeDocument/2006/relationships/slide" Target="slide6.xml"/><Relationship Id="rId7" Type="http://schemas.openxmlformats.org/officeDocument/2006/relationships/image" Target="../media/image7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7.jpeg"/><Relationship Id="rId10" Type="http://schemas.openxmlformats.org/officeDocument/2006/relationships/slide" Target="slide1.xml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3480" y="-28440"/>
            <a:ext cx="9210960" cy="6914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79960" y="3611520"/>
            <a:ext cx="800496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Times New Roman"/>
              </a:rPr>
              <a:t> فأنت مليكُ المجدِ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56720" y="4678200"/>
            <a:ext cx="74898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خالقُ كل الأشياء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5440" y="1598760"/>
            <a:ext cx="90428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هديك كلَ الكـرامــةِ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71560" y="2544840"/>
            <a:ext cx="745344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سبــحُ 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</a:rPr>
              <a:t>أ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ســــمك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438280" y="1644480"/>
            <a:ext cx="8534520" cy="375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أع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ـــدكَ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كل عمري ل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36880" y="4251240"/>
            <a:ext cx="6549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أنحني أمام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152280" y="3475080"/>
            <a:ext cx="833112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7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7200" spc="-1" strike="noStrike">
                <a:solidFill>
                  <a:srgbClr val="ffff00"/>
                </a:solidFill>
                <a:latin typeface="Times New Roman"/>
              </a:rPr>
              <a:t>أرفــعُ نفسي لـعـرشِكَ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360" y="4724280"/>
            <a:ext cx="662112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فعندكَ راحتـ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-76320" y="1074600"/>
            <a:ext cx="9275760" cy="22885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روحُكَ القدوس يسدد ل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2309760"/>
            <a:ext cx="9144000" cy="11912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00"/>
                </a:solidFill>
                <a:latin typeface="Times New Roman"/>
              </a:rPr>
              <a:t>أعماقَ حاجتي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438280" y="1644480"/>
            <a:ext cx="8534520" cy="375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أع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ـــدكَ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كل عمري ل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136880" y="4251240"/>
            <a:ext cx="6549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أنحني أمام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-355680" y="1012680"/>
            <a:ext cx="1003356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حطمت قيد معصم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12160" y="2232000"/>
            <a:ext cx="752472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مـحـوت مأثمي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830160" y="3298680"/>
            <a:ext cx="1081080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وسيشدو قلبي منشداً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90720" y="4632480"/>
            <a:ext cx="51976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لـك للأبــد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438280" y="1644480"/>
            <a:ext cx="8534520" cy="375084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و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أع</a:t>
            </a:r>
            <a:r>
              <a:rPr b="1" lang="ar-EG" sz="8000" spc="-1" strike="noStrike">
                <a:solidFill>
                  <a:srgbClr val="ffff00"/>
                </a:solidFill>
                <a:latin typeface="Times New Roman"/>
              </a:rPr>
              <a:t>ـ</a:t>
            </a: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بـــدكَ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Times New Roman"/>
              </a:rPr>
              <a:t>كل عمري ل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36880" y="4251240"/>
            <a:ext cx="6549480" cy="13129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00"/>
                </a:solidFill>
                <a:latin typeface="Times New Roman"/>
              </a:rPr>
              <a:t>أنحني أمامك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56400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وحك القدو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حطمت قي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و أعبد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أهديك كل الكرام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5T13:28:45Z</dcterms:created>
  <dc:creator/>
  <dc:description/>
  <dc:language>en-US</dc:language>
  <cp:lastModifiedBy>Sp2</cp:lastModifiedBy>
  <dcterms:modified xsi:type="dcterms:W3CDTF">2008-09-08T15:57:59Z</dcterms:modified>
  <cp:revision>41</cp:revision>
  <dc:subject/>
  <dc:title>PowerPoint Presentation</dc:title>
</cp:coreProperties>
</file>