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67C-FE71-4AAC-8A05-5AADF90B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92A-A31D-4E3C-90F7-93108700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B0D-7726-436C-9EB8-044A54EE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246-8432-48C9-88C4-8CD459D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01A-2825-4BB6-B914-DAB73256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7D5-BCA4-4518-85F5-E5EA9761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AC2-9CBE-4506-BF0F-49C7051A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7A4-6D46-4BD7-8EC0-249AD21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32A-69A7-416F-9B25-2B3BF0A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90D-8240-464C-8F1D-202678C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DD6-3E18-4E01-B4B7-8F31BBD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F0A-EF11-4A26-9A7E-BE0A7E7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DC085-924A-4993-A9B1-11FC5127D7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7C6FD-FB4A-4086-A76F-08730ED0C43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49:48Z</dcterms:created>
  <dc:creator>최봉수</dc:creator>
  <dc:description/>
  <dc:language>en-US</dc:language>
  <cp:lastModifiedBy>맛있다 군만두</cp:lastModifiedBy>
  <dcterms:modified xsi:type="dcterms:W3CDTF">2023-07-13T11:11:15Z</dcterms:modified>
  <cp:revision>3</cp:revision>
  <dc:subject/>
  <dc:title>슬라이드 1</dc:title>
</cp:coreProperties>
</file>