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467-7669-4225-AD7A-A608A7BE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5729-EE45-4B22-B989-51A09511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3A2E-245C-42B9-8D7D-DF32ADC5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A482-5A9B-4806-9819-091C569F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6C6-8B04-4F09-82AE-46C76078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33C-6E1D-4557-AB79-8C4F510C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02E-E077-4A05-BA88-CECE3ADC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E22-EC61-415D-8CD0-4DC1A379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BE8-506D-4BB9-B44B-9E250AF9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B18-E23E-4BCD-8DAD-3E06EB03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CB9-448C-4872-AB0D-793687CE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7B1-7C4F-4A30-90CD-FAE4E7EE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F9C85-F379-4904-A30E-C859F2AF26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25B9C-CC06-4DE4-B615-D5D0EEDE33F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6:49:48Z</dcterms:created>
  <dc:creator>최봉수</dc:creator>
  <dc:description/>
  <dc:language>en-US</dc:language>
  <cp:lastModifiedBy>맛있다 군만두</cp:lastModifiedBy>
  <dcterms:modified xsi:type="dcterms:W3CDTF">2023-07-13T11:11:15Z</dcterms:modified>
  <cp:revision>3</cp:revision>
  <dc:subject/>
  <dc:title>슬라이드 1</dc:title>
</cp:coreProperties>
</file>