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hdphoto1.wdp" ContentType="image/vnd.ms-photo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517-12C1-4C0E-A099-C4AB5979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874-6DDE-4C16-969A-A44C2578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5F6-5570-4084-9399-71713B83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EEB-12C0-43DA-80DB-C3C121D1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F697-E9BE-4072-AC62-88F55B89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C5FF-E85C-4CDE-9BF6-C8114E2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F320-F99D-4BE4-84B4-D6EE102E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995E-B554-4AE4-BDDC-1988E8BB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5A0C-8FB7-4390-9FD2-5D46508F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A894-8C1F-451E-8222-AFEAD9AC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8EDE-5F65-4C8C-8D9F-DE6A8C4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B2D-34C6-4AC1-8086-D5C11F8E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5D60-A6BC-4BEB-A609-877CEC48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415C-4216-4D9A-A2DF-4AAD050F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DA34-0A6C-40B5-B2C0-39BABFF5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E16E-4AF9-4172-AF37-68A35512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AE62-CFF0-499B-8CD9-46B00829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370-688C-4195-98BD-24995D54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439-40EC-4434-BCC5-61D9F1F8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7AA-6C22-454C-9BDB-1DB4324E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B56-AA72-4AC7-BDBC-CF18F42D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2CF-6F0E-4AFE-BA4F-EEA5A64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28A-1424-452F-AE00-BA380F19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279-96BA-4A49-A5F9-C57F620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a919"/>
            </a:gs>
            <a:gs pos="100000">
              <a:srgbClr val="aa8514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2" name="Oval 15" hidden="1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4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5"/>
          <a:srcRect l="0" t="0" r="0" b="23333"/>
          <a:stretch/>
        </p:blipFill>
        <p:spPr>
          <a:xfrm>
            <a:off x="860580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ebebeb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econd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Third level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Fourth level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Fifth level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haparral Pro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AB7D7C-A4D0-40F1-B5B4-17FC7290AAD5}" type="slidenum">
              <a:rPr b="0" lang="en-US" sz="2800" spc="-1" strike="noStrike">
                <a:solidFill>
                  <a:srgbClr val="ffffff"/>
                </a:solidFill>
                <a:latin typeface="Chaparral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a919"/>
            </a:gs>
            <a:gs pos="100000">
              <a:srgbClr val="aa8514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49" name="Oval 15" hidden="1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4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5"/>
          <a:srcRect l="0" t="0" r="0" b="23333"/>
          <a:stretch/>
        </p:blipFill>
        <p:spPr>
          <a:xfrm>
            <a:off x="860580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ebebeb"/>
                </a:solidFill>
                <a:latin typeface="Georgia"/>
              </a:rPr>
              <a:t>Click to edit Master title style</a:t>
            </a:r>
            <a:endParaRPr b="0" lang="en-US" sz="7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haparral Pro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haparral Pro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EC53A0-AFEF-4928-B782-D1470859BFF2}" type="slidenum">
              <a:rPr b="0" lang="en-US" sz="2800" spc="-1" strike="noStrike">
                <a:solidFill>
                  <a:srgbClr val="ffffff"/>
                </a:solidFill>
                <a:latin typeface="Chaparral Pro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241920" y="755280"/>
            <a:ext cx="7091640" cy="68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0000"/>
                </a:solidFill>
                <a:latin typeface="Prototype"/>
              </a:rPr>
              <a:t>R</a:t>
            </a:r>
            <a:r>
              <a:rPr b="0" lang="en-US" sz="8800" spc="-1" strike="noStrike">
                <a:solidFill>
                  <a:srgbClr val="000000"/>
                </a:solidFill>
                <a:latin typeface="Prototype"/>
              </a:rPr>
              <a:t>atoon Stunting</a:t>
            </a:r>
            <a:r>
              <a:rPr b="0" lang="en-US" sz="9600" spc="-1" strike="noStrike">
                <a:solidFill>
                  <a:srgbClr val="000000"/>
                </a:solidFill>
                <a:latin typeface="Prototype"/>
              </a:rPr>
              <a:t> </a:t>
            </a:r>
            <a:r>
              <a:rPr b="0" lang="en-US" sz="44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Prototype"/>
              </a:rPr>
              <a:t>of </a:t>
            </a:r>
            <a:r>
              <a:rPr b="0" lang="en-US" sz="11500" spc="-1" strike="noStrike">
                <a:solidFill>
                  <a:schemeClr val="accent1"/>
                </a:solidFill>
                <a:latin typeface="Prototype"/>
              </a:rPr>
              <a:t>Sugarcan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47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994800" y="98280"/>
            <a:ext cx="5108760" cy="51087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3"/>
          <p:cNvGrpSpPr/>
          <p:nvPr/>
        </p:nvGrpSpPr>
        <p:grpSpPr>
          <a:xfrm>
            <a:off x="361800" y="700200"/>
            <a:ext cx="11911320" cy="5129280"/>
            <a:chOff x="361800" y="700200"/>
            <a:chExt cx="11911320" cy="5129280"/>
          </a:xfrm>
        </p:grpSpPr>
        <p:sp>
          <p:nvSpPr>
            <p:cNvPr id="115" name="TextBox 2"/>
            <p:cNvSpPr/>
            <p:nvPr/>
          </p:nvSpPr>
          <p:spPr>
            <a:xfrm>
              <a:off x="398160" y="1285200"/>
              <a:ext cx="335556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Chaparral Pro"/>
                </a:rPr>
                <a:t>Pathogen Survive in 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"/>
            <p:cNvSpPr/>
            <p:nvPr/>
          </p:nvSpPr>
          <p:spPr>
            <a:xfrm>
              <a:off x="4617360" y="870120"/>
              <a:ext cx="3486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Entry into new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By Infected se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"/>
            <p:cNvSpPr/>
            <p:nvPr/>
          </p:nvSpPr>
          <p:spPr>
            <a:xfrm>
              <a:off x="1839960" y="3787560"/>
              <a:ext cx="3358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Infection in collateral h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5393880" y="5009760"/>
              <a:ext cx="3264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Secondary spread through Mechanical inju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ight Arrow 8"/>
            <p:cNvSpPr/>
            <p:nvPr/>
          </p:nvSpPr>
          <p:spPr>
            <a:xfrm rot="20253000">
              <a:off x="3795480" y="122004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0" name="Right Arrow 9"/>
            <p:cNvSpPr/>
            <p:nvPr/>
          </p:nvSpPr>
          <p:spPr>
            <a:xfrm rot="1601400">
              <a:off x="7788960" y="121680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1" name="Right Arrow 10"/>
            <p:cNvSpPr/>
            <p:nvPr/>
          </p:nvSpPr>
          <p:spPr>
            <a:xfrm rot="5400000">
              <a:off x="9819000" y="279900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2" name="Right Arrow 11"/>
            <p:cNvSpPr/>
            <p:nvPr/>
          </p:nvSpPr>
          <p:spPr>
            <a:xfrm rot="8948400">
              <a:off x="8843400" y="4717440"/>
              <a:ext cx="1589760" cy="208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3" name="Right Arrow 12"/>
            <p:cNvSpPr/>
            <p:nvPr/>
          </p:nvSpPr>
          <p:spPr>
            <a:xfrm rot="13820400">
              <a:off x="4271040" y="488736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4" name="Right Arrow 13"/>
            <p:cNvSpPr/>
            <p:nvPr/>
          </p:nvSpPr>
          <p:spPr>
            <a:xfrm rot="16200000">
              <a:off x="2365920" y="2881440"/>
              <a:ext cx="630720" cy="199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5" name="Arc 12"/>
            <p:cNvSpPr/>
            <p:nvPr/>
          </p:nvSpPr>
          <p:spPr>
            <a:xfrm rot="10800000">
              <a:off x="609120" y="1458720"/>
              <a:ext cx="6811920" cy="4196880"/>
            </a:xfrm>
            <a:prstGeom prst="arc">
              <a:avLst>
                <a:gd name="adj1" fmla="val 14240741"/>
                <a:gd name="adj2" fmla="val 1127584"/>
              </a:avLst>
            </a:prstGeom>
            <a:noFill/>
            <a:ln cap="rnd" w="28575">
              <a:solidFill>
                <a:srgbClr val="ffffff"/>
              </a:solidFill>
              <a:round/>
              <a:tailEnd len="med" type="arrow" w="med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Chaparral Pro"/>
              </a:endParaRPr>
            </a:p>
          </p:txBody>
        </p:sp>
        <p:sp>
          <p:nvSpPr>
            <p:cNvPr id="126" name="Right Arrow 15"/>
            <p:cNvSpPr/>
            <p:nvPr/>
          </p:nvSpPr>
          <p:spPr>
            <a:xfrm rot="16200000">
              <a:off x="4964760" y="3191040"/>
              <a:ext cx="2331360" cy="257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cap="rnd"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haparral Pro"/>
              </a:endParaRPr>
            </a:p>
          </p:txBody>
        </p:sp>
        <p:sp>
          <p:nvSpPr>
            <p:cNvPr id="127" name="Rounded Rectangular Callout 16"/>
            <p:cNvSpPr/>
            <p:nvPr/>
          </p:nvSpPr>
          <p:spPr>
            <a:xfrm>
              <a:off x="6908760" y="2437560"/>
              <a:ext cx="1270800" cy="7678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000000"/>
            </a:solidFill>
            <a:ln cap="rnd">
              <a:solidFill>
                <a:srgbClr val="ffffff"/>
              </a:solidFill>
              <a:round/>
            </a:ln>
          </p:spPr>
          <p:style>
            <a:lnRef idx="3">
              <a:schemeClr val="lt1"/>
            </a:lnRef>
            <a:fillRef idx="1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 Unicode MS"/>
                  <a:ea typeface="Arial Unicode MS"/>
                </a:rPr>
                <a:t>Secondary cyc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ound Diagonal Corner Rectangle 17"/>
            <p:cNvSpPr/>
            <p:nvPr/>
          </p:nvSpPr>
          <p:spPr>
            <a:xfrm>
              <a:off x="361800" y="1111680"/>
              <a:ext cx="3373920" cy="132552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ffff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29" name="Round Diagonal Corner Rectangle 18"/>
            <p:cNvSpPr/>
            <p:nvPr/>
          </p:nvSpPr>
          <p:spPr>
            <a:xfrm>
              <a:off x="1745640" y="3519360"/>
              <a:ext cx="2977560" cy="102060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703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30" name="Round Diagonal Corner Rectangle 19"/>
            <p:cNvSpPr/>
            <p:nvPr/>
          </p:nvSpPr>
          <p:spPr>
            <a:xfrm>
              <a:off x="5400000" y="4805640"/>
              <a:ext cx="3501720" cy="102384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ff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31" name="Round Diagonal Corner Rectangle 20"/>
            <p:cNvSpPr/>
            <p:nvPr/>
          </p:nvSpPr>
          <p:spPr>
            <a:xfrm>
              <a:off x="8798400" y="3431160"/>
              <a:ext cx="2700000" cy="82548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ffc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32" name="Round Diagonal Corner Rectangle 21"/>
            <p:cNvSpPr/>
            <p:nvPr/>
          </p:nvSpPr>
          <p:spPr>
            <a:xfrm>
              <a:off x="8658360" y="1599120"/>
              <a:ext cx="2675880" cy="81036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0070c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  <p:sp>
          <p:nvSpPr>
            <p:cNvPr id="133" name="TextBox 20"/>
            <p:cNvSpPr/>
            <p:nvPr/>
          </p:nvSpPr>
          <p:spPr>
            <a:xfrm>
              <a:off x="8786520" y="1818720"/>
              <a:ext cx="3486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Symptom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21"/>
            <p:cNvSpPr/>
            <p:nvPr/>
          </p:nvSpPr>
          <p:spPr>
            <a:xfrm>
              <a:off x="8947800" y="3674880"/>
              <a:ext cx="2550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Multiplication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haparral Pro"/>
                </a:rPr>
                <a:t>Bact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ound Diagonal Corner Rectangle 24"/>
            <p:cNvSpPr/>
            <p:nvPr/>
          </p:nvSpPr>
          <p:spPr>
            <a:xfrm>
              <a:off x="4595400" y="700200"/>
              <a:ext cx="2459520" cy="758520"/>
            </a:xfrm>
            <a:prstGeom prst="round2DiagRect">
              <a:avLst>
                <a:gd name="adj1" fmla="val 16667"/>
                <a:gd name="adj2" fmla="val 0"/>
              </a:avLst>
            </a:prstGeom>
            <a:noFill/>
            <a:ln cap="rnd" w="38100">
              <a:solidFill>
                <a:srgbClr val="0070c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haparral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480040" cy="112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ffffff"/>
                </a:solidFill>
                <a:latin typeface="Calibri"/>
              </a:rPr>
              <a:t>Favourable Condition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37" name="TextBox 1048631"/>
          <p:cNvSpPr/>
          <p:nvPr/>
        </p:nvSpPr>
        <p:spPr>
          <a:xfrm>
            <a:off x="829800" y="1809360"/>
            <a:ext cx="39996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Infected set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Dense pl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480040" cy="1122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ffffff"/>
                </a:solidFill>
                <a:latin typeface="Calibri"/>
              </a:rPr>
              <a:t>Management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39" name="TextBox 1048634"/>
          <p:cNvSpPr/>
          <p:nvPr/>
        </p:nvSpPr>
        <p:spPr>
          <a:xfrm>
            <a:off x="349920" y="1638360"/>
            <a:ext cx="114919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r>
              <a:rPr b="0" lang="en-IN" sz="3400" spc="-1" strike="noStrike">
                <a:solidFill>
                  <a:srgbClr val="ffffff"/>
                </a:solidFill>
                <a:latin typeface="Chaparral Pro"/>
              </a:rPr>
              <a:t>Select healthy setts for plant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IN" sz="3400" spc="-1" strike="noStrike">
                <a:solidFill>
                  <a:srgbClr val="ffffff"/>
                </a:solidFill>
                <a:latin typeface="Chaparral Pro"/>
              </a:rPr>
              <a:t>Field should maintain at proper sanit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Remove and burn the clumps showing the diseas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Sterilization of cutting knives with lysol or any other antiseptic solu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Hot air treatment of setts at 54</a:t>
            </a:r>
            <a:r>
              <a:rPr b="0" lang="en-US" sz="3400" spc="-1" strike="noStrike" baseline="30000">
                <a:solidFill>
                  <a:srgbClr val="ffffff"/>
                </a:solidFill>
                <a:latin typeface="Chaparral Pro"/>
              </a:rPr>
              <a:t>o</a:t>
            </a: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C for 8 hours or hot water treatment at 50</a:t>
            </a:r>
            <a:r>
              <a:rPr b="0" lang="en-US" sz="3400" spc="-1" strike="noStrike" baseline="30000">
                <a:solidFill>
                  <a:srgbClr val="ffffff"/>
                </a:solidFill>
                <a:latin typeface="Chaparral Pro"/>
              </a:rPr>
              <a:t>o</a:t>
            </a: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C for 2 hrs or aerated steam treatment at 50</a:t>
            </a:r>
            <a:r>
              <a:rPr b="0" lang="en-US" sz="3400" spc="-1" strike="noStrike" baseline="30000">
                <a:solidFill>
                  <a:srgbClr val="ffffff"/>
                </a:solidFill>
                <a:latin typeface="Chaparral Pro"/>
              </a:rPr>
              <a:t>o</a:t>
            </a:r>
            <a:r>
              <a:rPr b="0" lang="en-US" sz="3400" spc="-1" strike="noStrike">
                <a:solidFill>
                  <a:srgbClr val="ffffff"/>
                </a:solidFill>
                <a:latin typeface="Chaparral Pro"/>
              </a:rPr>
              <a:t>C for 1 hou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96" name="Rectangle 10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haparral Pro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3040" y="2207520"/>
            <a:ext cx="1124532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ffff00"/>
                </a:solidFill>
                <a:latin typeface="Prototype"/>
              </a:rPr>
              <a:t>Course title – Diseases of Field &amp; Horticultural Crops &amp; their Management-II 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Prototype"/>
              </a:rPr>
              <a:t>Course No – APP5321</a:t>
            </a:r>
            <a:endParaRPr b="0" lang="en-US" sz="5400" spc="-1" strike="noStrike">
              <a:solidFill>
                <a:srgbClr val="ffffff"/>
              </a:solidFill>
              <a:latin typeface="Chaparral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263880" y="1684440"/>
            <a:ext cx="12628440" cy="1122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Disease - </a:t>
            </a: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Sugarcane Ratoon Stunting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99" name="TextBox 1048621"/>
          <p:cNvSpPr/>
          <p:nvPr/>
        </p:nvSpPr>
        <p:spPr>
          <a:xfrm>
            <a:off x="493920" y="3187800"/>
            <a:ext cx="610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00"/>
                </a:solidFill>
                <a:latin typeface="Chaparral Pro"/>
              </a:rPr>
              <a:t>Causal organism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48622"/>
          <p:cNvSpPr/>
          <p:nvPr/>
        </p:nvSpPr>
        <p:spPr>
          <a:xfrm>
            <a:off x="3951000" y="3156120"/>
            <a:ext cx="7602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IN" sz="4000" spc="-1" strike="noStrike">
                <a:solidFill>
                  <a:srgbClr val="ffffff"/>
                </a:solidFill>
                <a:latin typeface="Calibri"/>
              </a:rPr>
              <a:t>Leifsonia xyli subsp. xy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IN" sz="4000" spc="-1" strike="noStrike">
                <a:solidFill>
                  <a:srgbClr val="ffffff"/>
                </a:solidFill>
                <a:latin typeface="Calibri"/>
              </a:rPr>
              <a:t>Clavibacter xy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8640" y="115200"/>
            <a:ext cx="11768760" cy="855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Symptom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02" name="TextBox 1048624"/>
          <p:cNvSpPr/>
          <p:nvPr/>
        </p:nvSpPr>
        <p:spPr>
          <a:xfrm>
            <a:off x="317160" y="1333440"/>
            <a:ext cx="116402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IN" sz="2800" spc="-1" strike="noStrike">
                <a:solidFill>
                  <a:srgbClr val="ffffff"/>
                </a:solidFill>
                <a:latin typeface="Chaparral Pro"/>
              </a:rPr>
              <a:t>The affected plants are stunted, the stunting being most severe in stubble and ratoon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reduced tillering, thin stalks with shortened internodes and yellowish foliage (mild chlorosi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When mature canes are split open, vascular bundles appear discolou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In young canes, orange color is seen in the form of minute pin head like areas near the no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8640" y="115200"/>
            <a:ext cx="11768760" cy="855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Symptom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04" name="TextBox 1048624"/>
          <p:cNvSpPr/>
          <p:nvPr/>
        </p:nvSpPr>
        <p:spPr>
          <a:xfrm>
            <a:off x="317160" y="1333440"/>
            <a:ext cx="116402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The disease reduces the length, girth and the number of canes per cl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IN" sz="2800" spc="-1" strike="noStrike">
                <a:solidFill>
                  <a:srgbClr val="ffffff"/>
                </a:solidFill>
                <a:latin typeface="Chaparral Pro"/>
              </a:rPr>
              <a:t>The setts taken from diseased plants germinate poorly and the few shoots that are emerged grow very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305800" cy="888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Picture of Symptom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pic>
        <p:nvPicPr>
          <p:cNvPr id="106" name="Picture 2097156" descr=""/>
          <p:cNvPicPr/>
          <p:nvPr/>
        </p:nvPicPr>
        <p:blipFill>
          <a:blip r:embed="rId1"/>
          <a:srcRect l="0" t="0" r="0" b="8379"/>
          <a:stretch/>
        </p:blipFill>
        <p:spPr>
          <a:xfrm>
            <a:off x="477360" y="1875960"/>
            <a:ext cx="5496480" cy="381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97157" descr=""/>
          <p:cNvPicPr/>
          <p:nvPr/>
        </p:nvPicPr>
        <p:blipFill>
          <a:blip r:embed="rId2"/>
          <a:stretch/>
        </p:blipFill>
        <p:spPr>
          <a:xfrm>
            <a:off x="7682760" y="2036160"/>
            <a:ext cx="3861000" cy="38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480040" cy="11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000000"/>
                </a:solidFill>
                <a:latin typeface="Calibri"/>
              </a:rPr>
              <a:t>Etiology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466560" y="1504080"/>
            <a:ext cx="11247840" cy="49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Kingdom –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hylum - Actino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amily – Microbacteriac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m stain –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ell shape – R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spiration - Aero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Leifsonia xyli - microbewiki"/>
          <p:cNvPicPr/>
          <p:nvPr/>
        </p:nvPicPr>
        <p:blipFill>
          <a:blip r:embed="rId1"/>
          <a:stretch/>
        </p:blipFill>
        <p:spPr>
          <a:xfrm>
            <a:off x="518760" y="1317600"/>
            <a:ext cx="5896080" cy="3930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PDF] Recent advances in the molecular biology of Leifsonia xyli subsp. xyli,  causal organism of ratoon stunting disease | Semantic Scholar"/>
          <p:cNvPicPr/>
          <p:nvPr/>
        </p:nvPicPr>
        <p:blipFill>
          <a:blip r:embed="rId2"/>
          <a:stretch/>
        </p:blipFill>
        <p:spPr>
          <a:xfrm>
            <a:off x="6585840" y="1171800"/>
            <a:ext cx="5605920" cy="42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7360" y="115200"/>
            <a:ext cx="11480040" cy="8744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N" sz="4200" spc="-1" strike="noStrike">
                <a:solidFill>
                  <a:srgbClr val="ffffff"/>
                </a:solidFill>
                <a:latin typeface="Calibri"/>
              </a:rPr>
              <a:t>Disease Cycle - </a:t>
            </a:r>
            <a:endParaRPr b="0" lang="en-US" sz="4200" spc="-1" strike="noStrike">
              <a:solidFill>
                <a:srgbClr val="ffffff"/>
              </a:solidFill>
              <a:latin typeface="Chaparral Pro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491760" y="1564920"/>
            <a:ext cx="1120824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The disease spreads through use of </a:t>
            </a:r>
            <a:r>
              <a:rPr b="1" lang="en-US" sz="2800" spc="-1" strike="noStrike">
                <a:solidFill>
                  <a:srgbClr val="ffffff"/>
                </a:solidFill>
                <a:latin typeface="TimesNewRomanPS-BoldMT"/>
              </a:rPr>
              <a:t>diseased setts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The disease also spreads through cane harvesting implements contaminated with the juice of the diseased ca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ffffff"/>
                </a:solidFill>
                <a:latin typeface="TimesNewRomanPS-BoldMT"/>
              </a:rPr>
              <a:t>Maize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NewRomanPS-BoldMT"/>
              </a:rPr>
              <a:t>sorghum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NewRomanPS-BoldMT"/>
              </a:rPr>
              <a:t>Sudan grass 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and </a:t>
            </a:r>
            <a:r>
              <a:rPr b="1" i="1" lang="en-US" sz="2800" spc="-1" strike="noStrike">
                <a:solidFill>
                  <a:srgbClr val="ffffff"/>
                </a:solidFill>
                <a:latin typeface="TimesNewRomanPS-BoldItalicMT"/>
              </a:rPr>
              <a:t>Cynodon 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are some of the collateral hosts of the pathogen.</a:t>
            </a:r>
            <a:r>
              <a:rPr b="0" lang="en-US" sz="2800" spc="-1" strike="noStrike">
                <a:solidFill>
                  <a:srgbClr val="ffffff"/>
                </a:solidFill>
                <a:latin typeface="Chaparral Pro"/>
              </a:rPr>
              <a:t> </a:t>
            </a:r>
            <a:br>
              <a:rPr sz="2800"/>
            </a:br>
            <a:r>
              <a:rPr b="0" lang="en-IN" sz="2800" spc="-1" strike="noStrike">
                <a:solidFill>
                  <a:srgbClr val="ffffff"/>
                </a:solidFill>
                <a:latin typeface="Chaparral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on">
  <a:themeElements>
    <a:clrScheme name="Ion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4849a"/>
      </a:accent5>
      <a:accent6>
        <a:srgbClr val="9e5e9b"/>
      </a:accent6>
      <a:hlink>
        <a:srgbClr val="58c1ba"/>
      </a:hlink>
      <a:folHlink>
        <a:srgbClr val="9dff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on">
  <a:themeElements>
    <a:clrScheme name="Ion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4849a"/>
      </a:accent5>
      <a:accent6>
        <a:srgbClr val="9e5e9b"/>
      </a:accent6>
      <a:hlink>
        <a:srgbClr val="58c1ba"/>
      </a:hlink>
      <a:folHlink>
        <a:srgbClr val="9dff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  <Words>314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1T12:25:37Z</dcterms:created>
  <dc:creator>DEVENDRA KUMAR</dc:creator>
  <dc:description/>
  <dc:language>en-US</dc:language>
  <cp:lastModifiedBy>Devendra Choudhary</cp:lastModifiedBy>
  <dcterms:modified xsi:type="dcterms:W3CDTF">2021-04-07T15:40:38Z</dcterms:modified>
  <cp:revision>10</cp:revision>
  <dc:subject/>
  <dc:title>Question paper discus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3</vt:r8>
  </property>
</Properties>
</file>