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hdphoto1.wdp" ContentType="image/vnd.ms-photo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B24-569F-4908-B855-6AA0E532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C2D-A296-47EF-9718-D8D18BC8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C0D-19FE-4647-BD5B-D4FFDDDC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EC4-F47F-49EA-9DAF-31338906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B31B-6536-457A-9F3B-D1EA91FE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CE9A-5DA5-47AE-8770-47F90FA3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CF2D-1DDC-40C6-9F41-A29BB348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7C95-C5F2-4AC8-ADEA-BC450D95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211F-67D7-411D-8F0B-091B054D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054D-CAE4-49D3-940F-FE502AE2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9B33-361E-4CE3-ADB6-E80AAC73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C72-E9FF-404B-87F4-76CF7B23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459E-CD2F-4BC6-97A8-8E259B22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CE2B-C192-4D86-91E1-C4EA1A1A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9E35-61A7-4AFD-B0D1-ADD83E13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F25C-6986-474E-9911-7776E056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0C7E-3FFB-4FCA-9465-2B36C3D6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ADC-68D3-4656-BB2E-007D7156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FF8-812D-4CED-BA5F-ABA106D3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E52-2978-42AC-8114-16BBC7D9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A1A5-277F-41E1-BE31-4A224F9A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515-96C3-4FD1-A62D-48367306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242-960B-4FCF-964C-A7D50D07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D5BE-06DE-472B-BFC9-AC1BD78F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a919"/>
            </a:gs>
            <a:gs pos="100000">
              <a:srgbClr val="aa8514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3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2" name="Oval 15" hidden="1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4"/>
          <a:srcRect l="0" t="28812" r="0" b="0"/>
          <a:stretch/>
        </p:blipFill>
        <p:spPr>
          <a:xfrm>
            <a:off x="7999560" y="0"/>
            <a:ext cx="1603080" cy="1141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5"/>
          <a:srcRect l="0" t="0" r="0" b="23333"/>
          <a:stretch/>
        </p:blipFill>
        <p:spPr>
          <a:xfrm>
            <a:off x="8605800" y="6095880"/>
            <a:ext cx="993240" cy="761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3" hidden="1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Georgia"/>
              </a:rPr>
              <a:t>Click to edit Master title style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econd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Third level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Fourth level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Fifth level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haparral Pro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haparral Pro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haparral Pro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haparral Pro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haparral Pro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B4142A2-8053-4518-847F-1C325F923556}" type="slidenum">
              <a:rPr b="0" lang="en-US" sz="2800" spc="-1" strike="noStrike">
                <a:solidFill>
                  <a:srgbClr val="ffffff"/>
                </a:solidFill>
                <a:latin typeface="Chaparral Pro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a919"/>
            </a:gs>
            <a:gs pos="100000">
              <a:srgbClr val="aa8514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49" name="Oval 15" hidden="1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4"/>
          <a:srcRect l="0" t="28812" r="0" b="0"/>
          <a:stretch/>
        </p:blipFill>
        <p:spPr>
          <a:xfrm>
            <a:off x="7999560" y="0"/>
            <a:ext cx="1603080" cy="114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5"/>
          <a:srcRect l="0" t="0" r="0" b="23333"/>
          <a:stretch/>
        </p:blipFill>
        <p:spPr>
          <a:xfrm>
            <a:off x="8605800" y="6095880"/>
            <a:ext cx="993240" cy="761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 hidden="1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4880" y="1447920"/>
            <a:ext cx="882540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7200" spc="-1" strike="noStrike">
                <a:solidFill>
                  <a:srgbClr val="ebebeb"/>
                </a:solidFill>
                <a:latin typeface="Georgia"/>
              </a:rPr>
              <a:t>Click to edit Master title style</a:t>
            </a:r>
            <a:endParaRPr b="0" lang="en-US" sz="7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haparral Pro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haparral Pro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haparral Pro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haparral Pro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haparral Pro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173A4BB-B8F1-40A1-A9FF-643CCA40452E}" type="slidenum">
              <a:rPr b="0" lang="en-US" sz="2800" spc="-1" strike="noStrike">
                <a:solidFill>
                  <a:srgbClr val="ffffff"/>
                </a:solidFill>
                <a:latin typeface="Chaparral Pro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241920" y="755280"/>
            <a:ext cx="7091640" cy="68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500" spc="-1" strike="noStrike">
                <a:solidFill>
                  <a:srgbClr val="000000"/>
                </a:solidFill>
                <a:latin typeface="Prototype"/>
              </a:rPr>
              <a:t>R</a:t>
            </a:r>
            <a:r>
              <a:rPr b="0" lang="en-US" sz="8800" spc="-1" strike="noStrike">
                <a:solidFill>
                  <a:srgbClr val="000000"/>
                </a:solidFill>
                <a:latin typeface="Prototype"/>
              </a:rPr>
              <a:t>atoon Stunting</a:t>
            </a:r>
            <a:r>
              <a:rPr b="0" lang="en-US" sz="9600" spc="-1" strike="noStrike">
                <a:solidFill>
                  <a:srgbClr val="000000"/>
                </a:solidFill>
                <a:latin typeface="Prototype"/>
              </a:rPr>
              <a:t> </a:t>
            </a:r>
            <a:r>
              <a:rPr b="0" lang="en-US" sz="44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Prototype"/>
              </a:rPr>
              <a:t>of </a:t>
            </a:r>
            <a:r>
              <a:rPr b="0" lang="en-US" sz="11500" spc="-1" strike="noStrike">
                <a:solidFill>
                  <a:schemeClr val="accent1"/>
                </a:solidFill>
                <a:latin typeface="Prototype"/>
              </a:rPr>
              <a:t>Sugarcan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colorTemperature colorTemp="47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994800" y="98280"/>
            <a:ext cx="5108760" cy="51087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3"/>
          <p:cNvGrpSpPr/>
          <p:nvPr/>
        </p:nvGrpSpPr>
        <p:grpSpPr>
          <a:xfrm>
            <a:off x="361800" y="700200"/>
            <a:ext cx="11911320" cy="5129280"/>
            <a:chOff x="361800" y="700200"/>
            <a:chExt cx="11911320" cy="5129280"/>
          </a:xfrm>
        </p:grpSpPr>
        <p:sp>
          <p:nvSpPr>
            <p:cNvPr id="115" name="TextBox 2"/>
            <p:cNvSpPr/>
            <p:nvPr/>
          </p:nvSpPr>
          <p:spPr>
            <a:xfrm>
              <a:off x="398160" y="1285200"/>
              <a:ext cx="335556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Chaparral Pro"/>
                </a:rPr>
                <a:t>Pathogen Survive in 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"/>
            <p:cNvSpPr/>
            <p:nvPr/>
          </p:nvSpPr>
          <p:spPr>
            <a:xfrm>
              <a:off x="4617360" y="870120"/>
              <a:ext cx="34866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haparral Pro"/>
                </a:rPr>
                <a:t>Entry into new 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haparral Pro"/>
                </a:rPr>
                <a:t>By Infected set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4"/>
            <p:cNvSpPr/>
            <p:nvPr/>
          </p:nvSpPr>
          <p:spPr>
            <a:xfrm>
              <a:off x="1839960" y="3787560"/>
              <a:ext cx="3358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haparral Pro"/>
                </a:rPr>
                <a:t>Infection in collateral h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5"/>
            <p:cNvSpPr/>
            <p:nvPr/>
          </p:nvSpPr>
          <p:spPr>
            <a:xfrm>
              <a:off x="5393880" y="5009760"/>
              <a:ext cx="3264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haparral Pro"/>
                </a:rPr>
                <a:t>Secondary spread through Mechanical inju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ight Arrow 8"/>
            <p:cNvSpPr/>
            <p:nvPr/>
          </p:nvSpPr>
          <p:spPr>
            <a:xfrm rot="20253000">
              <a:off x="3795480" y="1220040"/>
              <a:ext cx="630720" cy="199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cap="rnd"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haparral Pro"/>
              </a:endParaRPr>
            </a:p>
          </p:txBody>
        </p:sp>
        <p:sp>
          <p:nvSpPr>
            <p:cNvPr id="120" name="Right Arrow 9"/>
            <p:cNvSpPr/>
            <p:nvPr/>
          </p:nvSpPr>
          <p:spPr>
            <a:xfrm rot="1601400">
              <a:off x="7788960" y="1216800"/>
              <a:ext cx="630720" cy="199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cap="rnd"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haparral Pro"/>
              </a:endParaRPr>
            </a:p>
          </p:txBody>
        </p:sp>
        <p:sp>
          <p:nvSpPr>
            <p:cNvPr id="121" name="Right Arrow 10"/>
            <p:cNvSpPr/>
            <p:nvPr/>
          </p:nvSpPr>
          <p:spPr>
            <a:xfrm rot="5400000">
              <a:off x="9819000" y="2799000"/>
              <a:ext cx="630720" cy="199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cap="rnd"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haparral Pro"/>
              </a:endParaRPr>
            </a:p>
          </p:txBody>
        </p:sp>
        <p:sp>
          <p:nvSpPr>
            <p:cNvPr id="122" name="Right Arrow 11"/>
            <p:cNvSpPr/>
            <p:nvPr/>
          </p:nvSpPr>
          <p:spPr>
            <a:xfrm rot="8948400">
              <a:off x="8843400" y="4717440"/>
              <a:ext cx="1589760" cy="208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cap="rnd"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haparral Pro"/>
              </a:endParaRPr>
            </a:p>
          </p:txBody>
        </p:sp>
        <p:sp>
          <p:nvSpPr>
            <p:cNvPr id="123" name="Right Arrow 12"/>
            <p:cNvSpPr/>
            <p:nvPr/>
          </p:nvSpPr>
          <p:spPr>
            <a:xfrm rot="13820400">
              <a:off x="4271040" y="4887360"/>
              <a:ext cx="630720" cy="199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cap="rnd"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haparral Pro"/>
              </a:endParaRPr>
            </a:p>
          </p:txBody>
        </p:sp>
        <p:sp>
          <p:nvSpPr>
            <p:cNvPr id="124" name="Right Arrow 13"/>
            <p:cNvSpPr/>
            <p:nvPr/>
          </p:nvSpPr>
          <p:spPr>
            <a:xfrm rot="16200000">
              <a:off x="2365920" y="2881440"/>
              <a:ext cx="630720" cy="199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cap="rnd"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haparral Pro"/>
              </a:endParaRPr>
            </a:p>
          </p:txBody>
        </p:sp>
        <p:sp>
          <p:nvSpPr>
            <p:cNvPr id="125" name="Arc 12"/>
            <p:cNvSpPr/>
            <p:nvPr/>
          </p:nvSpPr>
          <p:spPr>
            <a:xfrm rot="10800000">
              <a:off x="609120" y="1458720"/>
              <a:ext cx="6811920" cy="4196880"/>
            </a:xfrm>
            <a:prstGeom prst="arc">
              <a:avLst>
                <a:gd name="adj1" fmla="val 14240741"/>
                <a:gd name="adj2" fmla="val 1127584"/>
              </a:avLst>
            </a:prstGeom>
            <a:noFill/>
            <a:ln cap="rnd" w="28575">
              <a:solidFill>
                <a:srgbClr val="ffffff"/>
              </a:solidFill>
              <a:round/>
              <a:tailEnd len="med" type="arrow" w="med"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Chaparral Pro"/>
              </a:endParaRPr>
            </a:p>
          </p:txBody>
        </p:sp>
        <p:sp>
          <p:nvSpPr>
            <p:cNvPr id="126" name="Right Arrow 15"/>
            <p:cNvSpPr/>
            <p:nvPr/>
          </p:nvSpPr>
          <p:spPr>
            <a:xfrm rot="16200000">
              <a:off x="4964760" y="3191040"/>
              <a:ext cx="2331360" cy="257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cap="rnd"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haparral Pro"/>
              </a:endParaRPr>
            </a:p>
          </p:txBody>
        </p:sp>
        <p:sp>
          <p:nvSpPr>
            <p:cNvPr id="127" name="Rounded Rectangular Callout 16"/>
            <p:cNvSpPr/>
            <p:nvPr/>
          </p:nvSpPr>
          <p:spPr>
            <a:xfrm>
              <a:off x="6908760" y="2437560"/>
              <a:ext cx="1270800" cy="7678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000000"/>
            </a:solidFill>
            <a:ln cap="rnd">
              <a:solidFill>
                <a:srgbClr val="ffffff"/>
              </a:solidFill>
              <a:round/>
            </a:ln>
          </p:spPr>
          <p:style>
            <a:lnRef idx="3">
              <a:schemeClr val="lt1"/>
            </a:lnRef>
            <a:fillRef idx="1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 Unicode MS"/>
                  <a:ea typeface="Arial Unicode MS"/>
                </a:rPr>
                <a:t>Secondary cyc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ound Diagonal Corner Rectangle 17"/>
            <p:cNvSpPr/>
            <p:nvPr/>
          </p:nvSpPr>
          <p:spPr>
            <a:xfrm>
              <a:off x="361800" y="1111680"/>
              <a:ext cx="3373920" cy="1325520"/>
            </a:xfrm>
            <a:prstGeom prst="round2DiagRect">
              <a:avLst>
                <a:gd name="adj1" fmla="val 16667"/>
                <a:gd name="adj2" fmla="val 0"/>
              </a:avLst>
            </a:prstGeom>
            <a:noFill/>
            <a:ln cap="rnd" w="38100">
              <a:solidFill>
                <a:srgbClr val="ffff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haparral Pro"/>
              </a:endParaRPr>
            </a:p>
          </p:txBody>
        </p:sp>
        <p:sp>
          <p:nvSpPr>
            <p:cNvPr id="129" name="Round Diagonal Corner Rectangle 18"/>
            <p:cNvSpPr/>
            <p:nvPr/>
          </p:nvSpPr>
          <p:spPr>
            <a:xfrm>
              <a:off x="1745640" y="3519360"/>
              <a:ext cx="2977560" cy="1020600"/>
            </a:xfrm>
            <a:prstGeom prst="round2DiagRect">
              <a:avLst>
                <a:gd name="adj1" fmla="val 16667"/>
                <a:gd name="adj2" fmla="val 0"/>
              </a:avLst>
            </a:prstGeom>
            <a:noFill/>
            <a:ln cap="rnd" w="38100">
              <a:solidFill>
                <a:srgbClr val="7030a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haparral Pro"/>
              </a:endParaRPr>
            </a:p>
          </p:txBody>
        </p:sp>
        <p:sp>
          <p:nvSpPr>
            <p:cNvPr id="130" name="Round Diagonal Corner Rectangle 19"/>
            <p:cNvSpPr/>
            <p:nvPr/>
          </p:nvSpPr>
          <p:spPr>
            <a:xfrm>
              <a:off x="5400000" y="4805640"/>
              <a:ext cx="3501720" cy="1023840"/>
            </a:xfrm>
            <a:prstGeom prst="round2DiagRect">
              <a:avLst>
                <a:gd name="adj1" fmla="val 16667"/>
                <a:gd name="adj2" fmla="val 0"/>
              </a:avLst>
            </a:prstGeom>
            <a:noFill/>
            <a:ln cap="rnd" w="38100">
              <a:solidFill>
                <a:srgbClr val="ff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haparral Pro"/>
              </a:endParaRPr>
            </a:p>
          </p:txBody>
        </p:sp>
        <p:sp>
          <p:nvSpPr>
            <p:cNvPr id="131" name="Round Diagonal Corner Rectangle 20"/>
            <p:cNvSpPr/>
            <p:nvPr/>
          </p:nvSpPr>
          <p:spPr>
            <a:xfrm>
              <a:off x="8798400" y="3431160"/>
              <a:ext cx="2700000" cy="825480"/>
            </a:xfrm>
            <a:prstGeom prst="round2DiagRect">
              <a:avLst>
                <a:gd name="adj1" fmla="val 16667"/>
                <a:gd name="adj2" fmla="val 0"/>
              </a:avLst>
            </a:prstGeom>
            <a:noFill/>
            <a:ln cap="rnd" w="38100">
              <a:solidFill>
                <a:srgbClr val="ffc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haparral Pro"/>
              </a:endParaRPr>
            </a:p>
          </p:txBody>
        </p:sp>
        <p:sp>
          <p:nvSpPr>
            <p:cNvPr id="132" name="Round Diagonal Corner Rectangle 21"/>
            <p:cNvSpPr/>
            <p:nvPr/>
          </p:nvSpPr>
          <p:spPr>
            <a:xfrm>
              <a:off x="8658360" y="1599120"/>
              <a:ext cx="2675880" cy="810360"/>
            </a:xfrm>
            <a:prstGeom prst="round2DiagRect">
              <a:avLst>
                <a:gd name="adj1" fmla="val 16667"/>
                <a:gd name="adj2" fmla="val 0"/>
              </a:avLst>
            </a:prstGeom>
            <a:noFill/>
            <a:ln cap="rnd" w="38100">
              <a:solidFill>
                <a:srgbClr val="0070c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haparral Pro"/>
              </a:endParaRPr>
            </a:p>
          </p:txBody>
        </p:sp>
        <p:sp>
          <p:nvSpPr>
            <p:cNvPr id="133" name="TextBox 20"/>
            <p:cNvSpPr/>
            <p:nvPr/>
          </p:nvSpPr>
          <p:spPr>
            <a:xfrm>
              <a:off x="8786520" y="1818720"/>
              <a:ext cx="34866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haparral Pro"/>
                </a:rPr>
                <a:t>Symptom 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21"/>
            <p:cNvSpPr/>
            <p:nvPr/>
          </p:nvSpPr>
          <p:spPr>
            <a:xfrm>
              <a:off x="8947800" y="3674880"/>
              <a:ext cx="25509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haparral Pro"/>
                </a:rPr>
                <a:t>Multiplication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haparral Pro"/>
                </a:rPr>
                <a:t>Bacte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ound Diagonal Corner Rectangle 24"/>
            <p:cNvSpPr/>
            <p:nvPr/>
          </p:nvSpPr>
          <p:spPr>
            <a:xfrm>
              <a:off x="4595400" y="700200"/>
              <a:ext cx="2459520" cy="758520"/>
            </a:xfrm>
            <a:prstGeom prst="round2DiagRect">
              <a:avLst>
                <a:gd name="adj1" fmla="val 16667"/>
                <a:gd name="adj2" fmla="val 0"/>
              </a:avLst>
            </a:prstGeom>
            <a:noFill/>
            <a:ln cap="rnd" w="38100">
              <a:solidFill>
                <a:srgbClr val="0070c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haparral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7360" y="115200"/>
            <a:ext cx="11480040" cy="1122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IN" sz="4200" spc="-1" strike="noStrike">
                <a:solidFill>
                  <a:srgbClr val="ffffff"/>
                </a:solidFill>
                <a:latin typeface="Calibri"/>
              </a:rPr>
              <a:t>Favourable Condition - 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37" name="TextBox 1048631"/>
          <p:cNvSpPr/>
          <p:nvPr/>
        </p:nvSpPr>
        <p:spPr>
          <a:xfrm>
            <a:off x="829800" y="1809360"/>
            <a:ext cx="39996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Chaparral Pro"/>
              </a:rPr>
              <a:t>Infected set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Chaparral Pro"/>
              </a:rPr>
              <a:t>Dense pla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7360" y="115200"/>
            <a:ext cx="11480040" cy="11224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IN" sz="4200" spc="-1" strike="noStrike">
                <a:solidFill>
                  <a:srgbClr val="ffffff"/>
                </a:solidFill>
                <a:latin typeface="Calibri"/>
              </a:rPr>
              <a:t>Management - 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39" name="TextBox 1048634"/>
          <p:cNvSpPr/>
          <p:nvPr/>
        </p:nvSpPr>
        <p:spPr>
          <a:xfrm>
            <a:off x="349920" y="1638360"/>
            <a:ext cx="1149192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r>
              <a:rPr b="0" lang="en-IN" sz="3400" spc="-1" strike="noStrike">
                <a:solidFill>
                  <a:srgbClr val="ffffff"/>
                </a:solidFill>
                <a:latin typeface="Chaparral Pro"/>
              </a:rPr>
              <a:t>Select healthy setts for plant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IN" sz="3400" spc="-1" strike="noStrike">
                <a:solidFill>
                  <a:srgbClr val="ffffff"/>
                </a:solidFill>
                <a:latin typeface="Chaparral Pro"/>
              </a:rPr>
              <a:t>Field should maintain at proper sanit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3400" spc="-1" strike="noStrike">
                <a:solidFill>
                  <a:srgbClr val="ffffff"/>
                </a:solidFill>
                <a:latin typeface="Chaparral Pro"/>
              </a:rPr>
              <a:t>Remove and burn the clumps showing the diseas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3400" spc="-1" strike="noStrike">
                <a:solidFill>
                  <a:srgbClr val="ffffff"/>
                </a:solidFill>
                <a:latin typeface="Chaparral Pro"/>
              </a:rPr>
              <a:t>Sterilization of cutting knives with lysol or any other antiseptic solu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3400" spc="-1" strike="noStrike">
                <a:solidFill>
                  <a:srgbClr val="ffffff"/>
                </a:solidFill>
                <a:latin typeface="Chaparral Pro"/>
              </a:rPr>
              <a:t>Hot air treatment of setts at 54</a:t>
            </a:r>
            <a:r>
              <a:rPr b="0" lang="en-US" sz="3400" spc="-1" strike="noStrike" baseline="30000">
                <a:solidFill>
                  <a:srgbClr val="ffffff"/>
                </a:solidFill>
                <a:latin typeface="Chaparral Pro"/>
              </a:rPr>
              <a:t>o</a:t>
            </a:r>
            <a:r>
              <a:rPr b="0" lang="en-US" sz="3400" spc="-1" strike="noStrike">
                <a:solidFill>
                  <a:srgbClr val="ffffff"/>
                </a:solidFill>
                <a:latin typeface="Chaparral Pro"/>
              </a:rPr>
              <a:t>C for 8 hours or hot water treatment at 50</a:t>
            </a:r>
            <a:r>
              <a:rPr b="0" lang="en-US" sz="3400" spc="-1" strike="noStrike" baseline="30000">
                <a:solidFill>
                  <a:srgbClr val="ffffff"/>
                </a:solidFill>
                <a:latin typeface="Chaparral Pro"/>
              </a:rPr>
              <a:t>o</a:t>
            </a:r>
            <a:r>
              <a:rPr b="0" lang="en-US" sz="3400" spc="-1" strike="noStrike">
                <a:solidFill>
                  <a:srgbClr val="ffffff"/>
                </a:solidFill>
                <a:latin typeface="Chaparral Pro"/>
              </a:rPr>
              <a:t>C for 2 hrs or aerated steam treatment at 50</a:t>
            </a:r>
            <a:r>
              <a:rPr b="0" lang="en-US" sz="3400" spc="-1" strike="noStrike" baseline="30000">
                <a:solidFill>
                  <a:srgbClr val="ffffff"/>
                </a:solidFill>
                <a:latin typeface="Chaparral Pro"/>
              </a:rPr>
              <a:t>o</a:t>
            </a:r>
            <a:r>
              <a:rPr b="0" lang="en-US" sz="3400" spc="-1" strike="noStrike">
                <a:solidFill>
                  <a:srgbClr val="ffffff"/>
                </a:solidFill>
                <a:latin typeface="Chaparral Pro"/>
              </a:rPr>
              <a:t>C for 1 hou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96" name="Rectangle 10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haparral Pro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3040" y="2207520"/>
            <a:ext cx="1124532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ffff00"/>
                </a:solidFill>
                <a:latin typeface="Prototype"/>
              </a:rPr>
              <a:t>Course title – Diseases of Field &amp; Horticultural Crops &amp; their Management-II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Prototype"/>
              </a:rPr>
              <a:t>Course No – APP5321</a:t>
            </a:r>
            <a:endParaRPr b="0" lang="en-US" sz="5400" spc="-1" strike="noStrike">
              <a:solidFill>
                <a:srgbClr val="ffffff"/>
              </a:solidFill>
              <a:latin typeface="Chaparral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263880" y="1684440"/>
            <a:ext cx="12628440" cy="1122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Disease - </a:t>
            </a:r>
            <a:r>
              <a:rPr b="1" lang="en-IN" sz="4200" spc="-1" strike="noStrike">
                <a:solidFill>
                  <a:srgbClr val="000000"/>
                </a:solidFill>
                <a:latin typeface="Calibri"/>
              </a:rPr>
              <a:t>Sugarcane Ratoon Stunting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99" name="TextBox 1048621"/>
          <p:cNvSpPr/>
          <p:nvPr/>
        </p:nvSpPr>
        <p:spPr>
          <a:xfrm>
            <a:off x="493920" y="3187800"/>
            <a:ext cx="6102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Chaparral Pro"/>
              </a:rPr>
              <a:t>Causal organism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48622"/>
          <p:cNvSpPr/>
          <p:nvPr/>
        </p:nvSpPr>
        <p:spPr>
          <a:xfrm>
            <a:off x="3951000" y="3156120"/>
            <a:ext cx="7602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IN" sz="4000" spc="-1" strike="noStrike">
                <a:solidFill>
                  <a:srgbClr val="ffffff"/>
                </a:solidFill>
                <a:latin typeface="Calibri"/>
              </a:rPr>
              <a:t>Leifsonia xyli subsp. xy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IN" sz="4000" spc="-1" strike="noStrike">
                <a:solidFill>
                  <a:srgbClr val="ffffff"/>
                </a:solidFill>
                <a:latin typeface="Calibri"/>
              </a:rPr>
              <a:t>Clavibacter xy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8640" y="115200"/>
            <a:ext cx="11768760" cy="855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IN" sz="4200" spc="-1" strike="noStrike">
                <a:solidFill>
                  <a:srgbClr val="000000"/>
                </a:solidFill>
                <a:latin typeface="Calibri"/>
              </a:rPr>
              <a:t>Symptom - 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02" name="TextBox 1048624"/>
          <p:cNvSpPr/>
          <p:nvPr/>
        </p:nvSpPr>
        <p:spPr>
          <a:xfrm>
            <a:off x="317160" y="1333440"/>
            <a:ext cx="1164024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IN" sz="2800" spc="-1" strike="noStrike">
                <a:solidFill>
                  <a:srgbClr val="ffffff"/>
                </a:solidFill>
                <a:latin typeface="Chaparral Pro"/>
              </a:rPr>
              <a:t>The affected plants are stunted, the stunting being most severe in stubble and ratoon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haparral Pro"/>
              </a:rPr>
              <a:t>reduced tillering, thin stalks with shortened internodes and yellowish foliage (mild chlorosi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haparral Pro"/>
              </a:rPr>
              <a:t>When mature canes are split open, vascular bundles appear discolou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haparral Pro"/>
              </a:rPr>
              <a:t>In young canes, orange color is seen in the form of minute pin head like areas near the no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8640" y="115200"/>
            <a:ext cx="11768760" cy="855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IN" sz="4200" spc="-1" strike="noStrike">
                <a:solidFill>
                  <a:srgbClr val="000000"/>
                </a:solidFill>
                <a:latin typeface="Calibri"/>
              </a:rPr>
              <a:t>Symptom - 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04" name="TextBox 1048624"/>
          <p:cNvSpPr/>
          <p:nvPr/>
        </p:nvSpPr>
        <p:spPr>
          <a:xfrm>
            <a:off x="317160" y="1333440"/>
            <a:ext cx="1164024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haparral Pro"/>
              </a:rPr>
              <a:t>The disease reduces the length, girth and the number of canes per clu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IN" sz="2800" spc="-1" strike="noStrike">
                <a:solidFill>
                  <a:srgbClr val="ffffff"/>
                </a:solidFill>
                <a:latin typeface="Chaparral Pro"/>
              </a:rPr>
              <a:t>The setts taken from diseased plants germinate poorly and the few shoots that are emerged grow very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7360" y="115200"/>
            <a:ext cx="11305800" cy="8888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IN" sz="4200" spc="-1" strike="noStrike">
                <a:solidFill>
                  <a:srgbClr val="000000"/>
                </a:solidFill>
                <a:latin typeface="Calibri"/>
              </a:rPr>
              <a:t>Picture of Symptom - 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pic>
        <p:nvPicPr>
          <p:cNvPr id="106" name="Picture 2097156" descr=""/>
          <p:cNvPicPr/>
          <p:nvPr/>
        </p:nvPicPr>
        <p:blipFill>
          <a:blip r:embed="rId1"/>
          <a:srcRect l="0" t="0" r="0" b="8379"/>
          <a:stretch/>
        </p:blipFill>
        <p:spPr>
          <a:xfrm>
            <a:off x="477360" y="1875960"/>
            <a:ext cx="5496480" cy="381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97157" descr=""/>
          <p:cNvPicPr/>
          <p:nvPr/>
        </p:nvPicPr>
        <p:blipFill>
          <a:blip r:embed="rId2"/>
          <a:stretch/>
        </p:blipFill>
        <p:spPr>
          <a:xfrm>
            <a:off x="7682760" y="2036160"/>
            <a:ext cx="3861000" cy="381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7360" y="115200"/>
            <a:ext cx="11480040" cy="112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IN" sz="4200" spc="-1" strike="noStrike">
                <a:solidFill>
                  <a:srgbClr val="000000"/>
                </a:solidFill>
                <a:latin typeface="Calibri"/>
              </a:rPr>
              <a:t>Etiology - 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09" name="Content Placeholder 2"/>
          <p:cNvSpPr/>
          <p:nvPr/>
        </p:nvSpPr>
        <p:spPr>
          <a:xfrm>
            <a:off x="466560" y="1504080"/>
            <a:ext cx="11247840" cy="49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"/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Kingdom –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"/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hylum - Actino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"/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amily – Microbacteriace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"/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m stain –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"/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ell shape – R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"/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espiration - Aerob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Leifsonia xyli - microbewiki"/>
          <p:cNvPicPr/>
          <p:nvPr/>
        </p:nvPicPr>
        <p:blipFill>
          <a:blip r:embed="rId1"/>
          <a:stretch/>
        </p:blipFill>
        <p:spPr>
          <a:xfrm>
            <a:off x="518760" y="1317600"/>
            <a:ext cx="5896080" cy="3930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PDF] Recent advances in the molecular biology of Leifsonia xyli subsp. xyli,  causal organism of ratoon stunting disease | Semantic Scholar"/>
          <p:cNvPicPr/>
          <p:nvPr/>
        </p:nvPicPr>
        <p:blipFill>
          <a:blip r:embed="rId2"/>
          <a:stretch/>
        </p:blipFill>
        <p:spPr>
          <a:xfrm>
            <a:off x="6585840" y="1171800"/>
            <a:ext cx="5605920" cy="42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7360" y="115200"/>
            <a:ext cx="11480040" cy="8744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IN" sz="4200" spc="-1" strike="noStrike">
                <a:solidFill>
                  <a:srgbClr val="ffffff"/>
                </a:solidFill>
                <a:latin typeface="Calibri"/>
              </a:rPr>
              <a:t>Disease Cycle - 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491760" y="1564920"/>
            <a:ext cx="1120824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The disease spreads through use of </a:t>
            </a:r>
            <a:r>
              <a:rPr b="1" lang="en-US" sz="2800" spc="-1" strike="noStrike">
                <a:solidFill>
                  <a:srgbClr val="ffffff"/>
                </a:solidFill>
                <a:latin typeface="TimesNewRomanPS-BoldMT"/>
              </a:rPr>
              <a:t>diseased setts</a:t>
            </a: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The disease also spreads through cane harvesting implements contaminated with the juice of the diseased ca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ffffff"/>
                </a:solidFill>
                <a:latin typeface="TimesNewRomanPS-BoldMT"/>
              </a:rPr>
              <a:t>Maize</a:t>
            </a: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NewRomanPS-BoldMT"/>
              </a:rPr>
              <a:t>sorghum</a:t>
            </a: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NewRomanPS-BoldMT"/>
              </a:rPr>
              <a:t>Sudan grass </a:t>
            </a: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and </a:t>
            </a:r>
            <a:r>
              <a:rPr b="1" i="1" lang="en-US" sz="2800" spc="-1" strike="noStrike">
                <a:solidFill>
                  <a:srgbClr val="ffffff"/>
                </a:solidFill>
                <a:latin typeface="TimesNewRomanPS-BoldItalicMT"/>
              </a:rPr>
              <a:t>Cynodon </a:t>
            </a: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are some of the collateral hosts of the pathogen.</a:t>
            </a:r>
            <a:r>
              <a:rPr b="0" lang="en-US" sz="2800" spc="-1" strike="noStrike">
                <a:solidFill>
                  <a:srgbClr val="ffffff"/>
                </a:solidFill>
                <a:latin typeface="Chaparral Pro"/>
              </a:rPr>
              <a:t> </a:t>
            </a:r>
            <a:br>
              <a:rPr sz="2800"/>
            </a:br>
            <a:r>
              <a:rPr b="0" lang="en-IN" sz="2800" spc="-1" strike="noStrike">
                <a:solidFill>
                  <a:srgbClr val="ffffff"/>
                </a:solidFill>
                <a:latin typeface="Chaparral 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Ion">
  <a:themeElements>
    <a:clrScheme name="Ion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4849a"/>
      </a:accent5>
      <a:accent6>
        <a:srgbClr val="9e5e9b"/>
      </a:accent6>
      <a:hlink>
        <a:srgbClr val="58c1ba"/>
      </a:hlink>
      <a:folHlink>
        <a:srgbClr val="9dff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Ion">
  <a:themeElements>
    <a:clrScheme name="Ion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4849a"/>
      </a:accent5>
      <a:accent6>
        <a:srgbClr val="9e5e9b"/>
      </a:accent6>
      <a:hlink>
        <a:srgbClr val="58c1ba"/>
      </a:hlink>
      <a:folHlink>
        <a:srgbClr val="9dff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  <Words>314</Words>
  <Paragraphs>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1T12:25:37Z</dcterms:created>
  <dc:creator>DEVENDRA KUMAR</dc:creator>
  <dc:description/>
  <dc:language>en-US</dc:language>
  <cp:lastModifiedBy>Devendra Choudhary</cp:lastModifiedBy>
  <dcterms:modified xsi:type="dcterms:W3CDTF">2021-04-07T15:40:38Z</dcterms:modified>
  <cp:revision>10</cp:revision>
  <dc:subject/>
  <dc:title>Question paper discus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3</vt:r8>
  </property>
</Properties>
</file>