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FB2-071D-40B8-99E6-501A313E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A24-9B90-415B-AB68-AE5CD8C3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048-E988-4E5C-B182-CDF9679B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B1E-EE93-4FCA-B330-1986F8C2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626-9AAF-4788-8793-93E1C6EE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780-6C5C-4261-9A76-4D738863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85C-69F7-46EB-991F-F00A0118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37C-E81D-4A62-BEF9-D89FE26B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D4D-10EE-4A2B-BF24-1A5FC9A3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3E8-AF68-4B21-A1F1-63115260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046-3783-4723-BC1A-58CCDB8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761-A968-4360-9C86-168EA6AD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A2C99-50F9-4FED-A506-B317723BD3C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6FC8F-E7A0-4D08-BAC0-833A019B09E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12:26Z</dcterms:created>
  <dc:creator>최봉수</dc:creator>
  <dc:description/>
  <dc:language>en-US</dc:language>
  <cp:lastModifiedBy>맛있다 군만두</cp:lastModifiedBy>
  <dcterms:modified xsi:type="dcterms:W3CDTF">2023-07-13T06:57:38Z</dcterms:modified>
  <cp:revision>5</cp:revision>
  <dc:subject/>
  <dc:title>슬라이드 1</dc:title>
</cp:coreProperties>
</file>