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3AE-F7BB-4835-9097-AF9033BF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147-B344-48BA-B107-4B94DA7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086-D04B-41A1-BDFA-8E19BAA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05B-78A7-4447-BA26-C94365C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69A-C4C5-46B2-A97C-83AAFF0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F98-B628-4B8E-AB76-A4D57EF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094-1842-4398-8925-DA6B3FB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30A-741E-4B7D-AD35-7F49A18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6E2-9A6D-4E4A-AAC8-4B9654AD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682-D3F0-41BA-A4AA-9EDD739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68D-C4BD-4E84-B17C-6490AE9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FAB-2444-42AC-B5F6-4613A10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DC3C3-0297-45FC-ADAE-749F45977C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F9C7F-9C76-495C-9B0D-2C9F3298436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12:26Z</dcterms:created>
  <dc:creator>최봉수</dc:creator>
  <dc:description/>
  <dc:language>en-US</dc:language>
  <cp:lastModifiedBy>맛있다 군만두</cp:lastModifiedBy>
  <dcterms:modified xsi:type="dcterms:W3CDTF">2023-07-13T06:57:38Z</dcterms:modified>
  <cp:revision>5</cp:revision>
  <dc:subject/>
  <dc:title>슬라이드 1</dc:title>
</cp:coreProperties>
</file>