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C34-0D0E-41ED-9C5F-24195883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975-8BD2-42CB-961E-7424C654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855-699E-4042-A67F-B778AC78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06A-8470-45FA-BB81-C1F9B5B9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9DA-B41E-4A3D-A97A-39F5AB4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9A4-B138-4708-84C4-049BFCB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8D8-4C90-403D-952F-18125548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32F-D121-410C-B1D4-010788A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E7B-22D5-4627-9820-447AFBB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6E7-4BD7-4CD4-85FE-49B7FC8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212-7D1A-419F-8645-BCF9541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CA5-7931-4AD4-A1C7-AA03F16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062-E376-4277-B3DF-721AAC2A91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3:15:18Z</dcterms:modified>
  <cp:revision>23</cp:revision>
  <dc:subject/>
  <dc:title>슬라이드 1</dc:title>
</cp:coreProperties>
</file>