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F8A-DA86-4811-A7DD-07634C7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F80-3E6A-4E96-B55F-AB72EA6A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D8D-A630-4ED4-B074-E936E0F9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2EE-1D15-4A81-8333-FAE66C15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5FE-45DF-4B93-89FC-20ACAA38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F03-7E5C-4261-ACB8-526B6D6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C55-86FA-43D8-AFFC-4455218D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B6E-19FF-4D63-A72B-8BD0EF9D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C82-52DE-4811-9691-F671FAEA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D2F-3B77-4347-8430-2A843B7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555-F6C8-405D-B920-F67EFF5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9A8-2DC9-4FF7-8D02-7FD36033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BE14-92D4-4D71-A4EB-D2725187B2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2T03:15:18Z</dcterms:modified>
  <cp:revision>23</cp:revision>
  <dc:subject/>
  <dc:title>슬라이드 1</dc:title>
</cp:coreProperties>
</file>