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8755-C0FB-4777-A925-81D22A7A9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856F-4151-4428-BE39-515D2305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D49B-E46D-48CB-91C9-DE50F25AF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771B-D23E-4AF6-83C3-E8824B127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9EF1-C982-45ED-B6F2-CA356DAD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20F2-F6FA-40C2-8167-E8BE34A5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64F9-892B-4102-900F-97D915E7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CFAF-DF2B-41AC-A7BF-1FA56BAB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EB35-DF8E-46B3-A6C8-FE299309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BCFC-373E-4E7D-B0F3-4924BB21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6237-D807-47E2-B798-8A412B8B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D8B8-67BD-4CA0-878B-8C326C24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3B8D-1C37-4AC9-ADD8-6E1407A7B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1197000"/>
            <a:ext cx="81374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000000"/>
                </a:solidFill>
                <a:latin typeface="comic"/>
                <a:cs typeface="Andalus"/>
              </a:rPr>
              <a:t>الأدوية المؤثرة في </a:t>
            </a:r>
            <a:br>
              <a:rPr sz="5400"/>
            </a:br>
            <a:r>
              <a:rPr b="1" lang="ar-SY" sz="5400" spc="-1" strike="noStrike">
                <a:solidFill>
                  <a:srgbClr val="000000"/>
                </a:solidFill>
                <a:latin typeface="comic"/>
                <a:cs typeface="Andalus"/>
              </a:rPr>
              <a:t>الجملة العصبية المركزية</a:t>
            </a:r>
            <a:br>
              <a:rPr sz="5400"/>
            </a:br>
            <a:r>
              <a:rPr b="1" lang="ar-SY" sz="5400" spc="-1" strike="noStrike">
                <a:solidFill>
                  <a:srgbClr val="000000"/>
                </a:solidFill>
                <a:latin typeface="comic"/>
                <a:ea typeface="Tahoma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omic"/>
                <a:ea typeface="Tahoma"/>
              </a:rPr>
              <a:t>DRUG ACTION IN THE CENTRAL NERVOUS SYST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867280" y="54936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Arial"/>
              </a:rPr>
              <a:t>الفوائد العلاجية للأدوية المزيلة للقلق والأدوية المنوم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549360"/>
            <a:ext cx="25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Arial"/>
              </a:rPr>
              <a:t>مساوئ للأدوية المزيلة للقلق والأدوية المنوم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87640" y="981000"/>
            <a:ext cx="30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 u="sng">
                <a:solidFill>
                  <a:srgbClr val="000000"/>
                </a:solidFill>
                <a:uFillTx/>
                <a:latin typeface="Arial"/>
              </a:rPr>
              <a:t>أدوية أخر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32000" y="2205000"/>
            <a:ext cx="21607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PIR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ZOPICL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YDROXYZ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ALEPL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OLPID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91280" y="1700280"/>
            <a:ext cx="3744720" cy="1224000"/>
          </a:xfrm>
          <a:prstGeom prst="leftArrowCallout">
            <a:avLst>
              <a:gd name="adj1" fmla="val 16214"/>
              <a:gd name="adj2" fmla="val 15380"/>
              <a:gd name="adj3" fmla="val 16728"/>
              <a:gd name="adj4" fmla="val 911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400" spc="-1" strike="noStrike">
                <a:solidFill>
                  <a:srgbClr val="000000"/>
                </a:solidFill>
                <a:latin typeface="Arial"/>
              </a:rPr>
              <a:t> يفيد في العلاج الطويل الأمد للقلق المزمن مع أعراض الهيوجية و العدائية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400" spc="-1" strike="noStrike">
                <a:solidFill>
                  <a:srgbClr val="000000"/>
                </a:solidFill>
                <a:latin typeface="Arial"/>
              </a:rPr>
              <a:t> يقوي ضعف الجملة العصبية المركزية الناجم عن الكحو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400" spc="-1" strike="noStrike">
                <a:solidFill>
                  <a:srgbClr val="000000"/>
                </a:solidFill>
                <a:latin typeface="Arial"/>
              </a:rPr>
              <a:t> احتمال أقل للإدمان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23280" y="1773360"/>
            <a:ext cx="2663640" cy="1224000"/>
          </a:xfrm>
          <a:prstGeom prst="leftArrowCallout">
            <a:avLst>
              <a:gd name="adj1" fmla="val 17113"/>
              <a:gd name="adj2" fmla="val 15380"/>
              <a:gd name="adj3" fmla="val 33418"/>
              <a:gd name="adj4" fmla="val 77586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400" spc="-1" strike="noStrike">
                <a:solidFill>
                  <a:srgbClr val="000000"/>
                </a:solidFill>
                <a:latin typeface="Arial"/>
              </a:rPr>
              <a:t> بداية تأثير أبطأ من البنزوديازيبينات</a:t>
            </a:r>
            <a:r>
              <a:rPr b="1" lang="ar-SY" sz="14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400" spc="-1" strike="noStrike">
                <a:solidFill>
                  <a:srgbClr val="000000"/>
                </a:solidFill>
                <a:latin typeface="Arial"/>
              </a:rPr>
              <a:t> لا يملك فعالية مرخية للعضلات أو مضادة للاختلا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35640" y="3139920"/>
            <a:ext cx="3600360" cy="505080"/>
          </a:xfrm>
          <a:prstGeom prst="leftArrow">
            <a:avLst>
              <a:gd name="adj1" fmla="val 60380"/>
              <a:gd name="adj2" fmla="val 21120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400" spc="-1" strike="noStrike">
                <a:solidFill>
                  <a:srgbClr val="000000"/>
                </a:solidFill>
                <a:latin typeface="Arial"/>
              </a:rPr>
              <a:t>فعال لفترة تصل إلى </a:t>
            </a:r>
            <a:r>
              <a:rPr b="1" lang="ar-SY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Y" sz="1400" spc="-1" strike="noStrike">
                <a:solidFill>
                  <a:srgbClr val="000000"/>
                </a:solidFill>
                <a:latin typeface="Arial"/>
              </a:rPr>
              <a:t> شهو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59280" y="5013360"/>
            <a:ext cx="287280" cy="1079640"/>
          </a:xfrm>
          <a:custGeom>
            <a:avLst/>
            <a:gdLst>
              <a:gd name="textAreaLeft" fmla="*/ 0 w 287280"/>
              <a:gd name="textAreaRight" fmla="*/ 10368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30"/>
                </a:lnTo>
                <a:cubicBezTo>
                  <a:pt x="10800" y="9930"/>
                  <a:pt x="16200" y="10830"/>
                  <a:pt x="21600" y="10830"/>
                </a:cubicBezTo>
                <a:cubicBezTo>
                  <a:pt x="16200" y="10830"/>
                  <a:pt x="10800" y="11730"/>
                  <a:pt x="10800" y="1263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19640" y="4941720"/>
            <a:ext cx="3745080" cy="1224000"/>
          </a:xfrm>
          <a:prstGeom prst="leftArrowCallout">
            <a:avLst>
              <a:gd name="adj1" fmla="val 16214"/>
              <a:gd name="adj2" fmla="val 15380"/>
              <a:gd name="adj3" fmla="val 16729"/>
              <a:gd name="adj4" fmla="val 911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400" spc="-1" strike="noStrike">
                <a:solidFill>
                  <a:srgbClr val="000000"/>
                </a:solidFill>
                <a:latin typeface="Arial"/>
              </a:rPr>
              <a:t>لا تبدي تبديلات سحب الدوا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400" spc="-1" strike="noStrike">
                <a:solidFill>
                  <a:srgbClr val="000000"/>
                </a:solidFill>
                <a:latin typeface="Arial"/>
              </a:rPr>
              <a:t>يؤدي إلى عودة الأرق بشكل قلي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400" spc="-1" strike="noStrike">
                <a:solidFill>
                  <a:srgbClr val="000000"/>
                </a:solidFill>
                <a:latin typeface="Arial"/>
              </a:rPr>
              <a:t>لا يحدث تحمل للدواء بالاستعمال طويل الأمد أو يحدث تحمل قلي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203640" y="5013360"/>
            <a:ext cx="288720" cy="1079640"/>
          </a:xfrm>
          <a:custGeom>
            <a:avLst/>
            <a:gdLst>
              <a:gd name="textAreaLeft" fmla="*/ 360 w 288720"/>
              <a:gd name="textAreaRight" fmla="*/ 104400 w 28872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30"/>
                </a:lnTo>
                <a:cubicBezTo>
                  <a:pt x="10800" y="9930"/>
                  <a:pt x="16200" y="10830"/>
                  <a:pt x="21600" y="10830"/>
                </a:cubicBezTo>
                <a:cubicBezTo>
                  <a:pt x="16200" y="10830"/>
                  <a:pt x="10800" y="11730"/>
                  <a:pt x="10800" y="1263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95280" y="5157720"/>
            <a:ext cx="2664000" cy="863640"/>
          </a:xfrm>
          <a:prstGeom prst="leftArrowCallout">
            <a:avLst>
              <a:gd name="adj1" fmla="val 17113"/>
              <a:gd name="adj2" fmla="val 15380"/>
              <a:gd name="adj3" fmla="val 47369"/>
              <a:gd name="adj4" fmla="val 77586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400" spc="-1" strike="noStrike">
                <a:solidFill>
                  <a:srgbClr val="000000"/>
                </a:solidFill>
                <a:latin typeface="Arial"/>
              </a:rPr>
              <a:t> ليس لها تأثير مرخي عضلي أو مضاد  للاختلا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9000"/>
                            </p:stCondLst>
                            <p:childTnLst>
                              <p:par>
                                <p:cTn id="141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6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1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2000"/>
                            </p:stCondLst>
                            <p:childTnLst>
                              <p:par>
                                <p:cTn id="156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867280" y="54936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Arial"/>
              </a:rPr>
              <a:t>الفوائد العلاجية للأدوية المزيلة للقلق والأدوية المنوم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549360"/>
            <a:ext cx="252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Arial"/>
              </a:rPr>
              <a:t>مساوئ للأدوية المزيلة للقلق والأدوية المنوم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87640" y="981000"/>
            <a:ext cx="302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 u="sng">
                <a:solidFill>
                  <a:srgbClr val="000000"/>
                </a:solidFill>
                <a:uFillTx/>
                <a:latin typeface="Arial"/>
              </a:rPr>
              <a:t>الباربيتوريات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ARBITURAT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16360" y="2013120"/>
            <a:ext cx="3025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ENOBARBIT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TOBARB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BARB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OBARB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OP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71640" y="1844640"/>
            <a:ext cx="432000" cy="4105440"/>
          </a:xfrm>
          <a:custGeom>
            <a:avLst/>
            <a:gdLst>
              <a:gd name="textAreaLeft" fmla="*/ 276120 w 432000"/>
              <a:gd name="textAreaRight" fmla="*/ 432360 w 432000"/>
              <a:gd name="textAreaTop" fmla="*/ 106920 h 4105440"/>
              <a:gd name="textAreaBottom" fmla="*/ 3998520 h 410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0200" y="2563920"/>
            <a:ext cx="2376360" cy="2736720"/>
          </a:xfrm>
          <a:prstGeom prst="leftArrowCallout">
            <a:avLst>
              <a:gd name="adj1" fmla="val 19708"/>
              <a:gd name="adj2" fmla="val 17712"/>
              <a:gd name="adj3" fmla="val 15356"/>
              <a:gd name="adj4" fmla="val 77586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تحرض الباربيتوريات التحمل و الأنزيمات المستقلبة للدواء و الاعتماد الفيزيائي و تظهر أعراضاً شديدة لسحب الدو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19640" y="5229360"/>
            <a:ext cx="3600360" cy="504720"/>
          </a:xfrm>
          <a:prstGeom prst="leftArrow">
            <a:avLst>
              <a:gd name="adj1" fmla="val 60380"/>
              <a:gd name="adj2" fmla="val 21135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بداية تأثير سريعة</a:t>
            </a:r>
            <a:r>
              <a:rPr b="0" lang="ar-SY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500"/>
                            </p:stCondLst>
                            <p:childTnLst>
                              <p:par>
                                <p:cTn id="174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105588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000000"/>
                </a:solidFill>
                <a:latin typeface="comic"/>
                <a:cs typeface="Andalus"/>
              </a:rPr>
              <a:t>الأدوية المضادة للذهان  </a:t>
            </a:r>
            <a:r>
              <a:rPr b="1" lang="en-US" sz="3600" spc="-1" strike="noStrike">
                <a:solidFill>
                  <a:srgbClr val="000000"/>
                </a:solidFill>
                <a:latin typeface="comic"/>
                <a:ea typeface="Andalus"/>
              </a:rPr>
              <a:t>NEUROLEPTIC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000000"/>
                </a:solidFill>
                <a:latin typeface="comic"/>
                <a:cs typeface="Andalus"/>
              </a:rPr>
              <a:t>أو المضادة للنفاس </a:t>
            </a:r>
            <a:r>
              <a:rPr b="1" lang="en-US" sz="3600" spc="-1" strike="noStrike">
                <a:solidFill>
                  <a:srgbClr val="000000"/>
                </a:solidFill>
                <a:latin typeface="comic"/>
                <a:ea typeface="Andalus"/>
              </a:rPr>
              <a:t>ANTIPSYCHOTIC DRUGS</a:t>
            </a:r>
            <a:r>
              <a:rPr b="1" lang="en-US" sz="3600" spc="-1" strike="noStrike">
                <a:solidFill>
                  <a:srgbClr val="000000"/>
                </a:solidFill>
                <a:latin typeface="comic"/>
                <a:ea typeface="Andalus"/>
              </a:rPr>
              <a:t> </a:t>
            </a:r>
            <a:r>
              <a:rPr b="1" lang="ar-SY" sz="3600" spc="-1" strike="noStrike">
                <a:solidFill>
                  <a:srgbClr val="000000"/>
                </a:solidFill>
                <a:latin typeface="comic"/>
                <a:ea typeface="Andalu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000000"/>
                </a:solidFill>
                <a:latin typeface="comic"/>
                <a:cs typeface="Andalus"/>
              </a:rPr>
              <a:t>أو المضادة للفصام </a:t>
            </a:r>
            <a:r>
              <a:rPr b="1" lang="en-US" sz="3600" spc="-1" strike="noStrike">
                <a:solidFill>
                  <a:srgbClr val="000000"/>
                </a:solidFill>
                <a:latin typeface="comic"/>
                <a:ea typeface="Andalus"/>
              </a:rPr>
              <a:t>SCHIZOPHRENIA</a:t>
            </a:r>
            <a:r>
              <a:rPr b="1" lang="en-US" sz="3600" spc="-1" strike="noStrike">
                <a:solidFill>
                  <a:srgbClr val="000000"/>
                </a:solidFill>
                <a:latin typeface="comic"/>
                <a:ea typeface="Andalus"/>
              </a:rPr>
              <a:t> </a:t>
            </a:r>
            <a:r>
              <a:rPr b="1" lang="ar-SY" sz="3600" spc="-1" strike="noStrike">
                <a:solidFill>
                  <a:srgbClr val="000000"/>
                </a:solidFill>
                <a:latin typeface="comic"/>
                <a:ea typeface="Andalu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000000"/>
                </a:solidFill>
                <a:latin typeface="comic"/>
                <a:cs typeface="Andalus"/>
              </a:rPr>
              <a:t>أو المهدئات الكبرى أو المنعشات العصب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163332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ENOTHIAZINES : THIORIDAZINE , CHLORPROMAZENE ,FLUPHENAZ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OXANTHENES : THIOTIX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YRPHENEONOS : HALOPERID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73960" y="1249200"/>
            <a:ext cx="43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شمل المجموعات الكيميائية الرئيسة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76560" y="33012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فصام هو اضطراب عقلي ناجم عن اضطراب وراثي في وظيفة الدما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2440" y="31035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TINDOLE , QUETIAPINE , RISPERIDONE , PIMOZIDE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LINDONE , OLANZAPINE , LOXAPINE , CLOZAP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0360" y="2616120"/>
            <a:ext cx="446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أدوية الحديثة أقل سمية وأكثر فعالية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496280" y="816120"/>
            <a:ext cx="96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تصنيف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49560" y="4293360"/>
            <a:ext cx="39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آلية التأثير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hanism of action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14240" y="4627440"/>
            <a:ext cx="791064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حصر فعالية مستقبل الدوبامين في الدماغ (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ar-SY" sz="1800" spc="-1" strike="noStrike">
                <a:solidFill>
                  <a:srgbClr val="000000"/>
                </a:solidFill>
                <a:latin typeface="Arial"/>
              </a:rPr>
              <a:t>في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الجملة اللمبية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حصر فعالية مستقبل السيروتونين في الدما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بعض الأدوية تحصر مستقبلات أخرى كولينرجية – أدرينرجية – هيستامينية , وتملك ألفة لمستقبلات أخرى مثال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ZAPINE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 يملك ألفة عالية لمستقبلات</a:t>
            </a:r>
            <a:r>
              <a:rPr b="1" i="1" lang="ar-SY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T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ar-SY" sz="1800" spc="-1" strike="noStrike">
                <a:solidFill>
                  <a:srgbClr val="000000"/>
                </a:solidFill>
                <a:latin typeface="Arial"/>
              </a:rPr>
              <a:t>-5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و المستقبلات الموسكارينية والأدرينرجية ألفا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0"/>
                            </p:stCondLst>
                            <p:childTnLst>
                              <p:par>
                                <p:cTn id="20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7000"/>
                            </p:stCondLst>
                            <p:childTnLst>
                              <p:par>
                                <p:cTn id="2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2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76240" y="901800"/>
            <a:ext cx="1962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-947880" y="1482840"/>
            <a:ext cx="0" cy="16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534520" y="1604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091880" y="1604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534520" y="1604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534520" y="187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091880" y="1604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091880" y="187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534520" y="187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091880" y="187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534520" y="2368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091880" y="2368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534520" y="2368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091880" y="2368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534520" y="3100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091880" y="3100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534520" y="3100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534520" y="3375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091880" y="3100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091880" y="3375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534520" y="3375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091880" y="3375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-947880" y="-128952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-863640" y="507060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-863640" y="771948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76240" y="-1870200"/>
            <a:ext cx="1962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76240" y="-1870200"/>
            <a:ext cx="1962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76240" y="-1870200"/>
            <a:ext cx="1962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534520" y="-1166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091880" y="-1166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534520" y="-1166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534520" y="-892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091880" y="-1166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091880" y="-892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534520" y="-892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091880" y="-892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534520" y="-403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091880" y="-403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534520" y="-403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091880" y="-403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534520" y="328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091880" y="328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534520" y="328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534520" y="603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091880" y="328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091880" y="603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534520" y="603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091880" y="603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534520" y="137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091880" y="137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534520" y="137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534520" y="1646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091880" y="137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091880" y="1646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534520" y="1646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534520" y="1920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091880" y="1646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091880" y="1920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534520" y="1920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091880" y="1920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534520" y="2349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091880" y="2349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534520" y="2349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091880" y="2349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149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534520" y="3149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091880" y="3854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091880" y="3854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0" y="615960"/>
          <a:ext cx="9144000" cy="5506920"/>
        </p:xfrm>
        <a:graphic>
          <a:graphicData uri="http://schemas.openxmlformats.org/drawingml/2006/table">
            <a:tbl>
              <a:tblPr/>
              <a:tblGrid>
                <a:gridCol w="1279440"/>
                <a:gridCol w="1279440"/>
                <a:gridCol w="1729080"/>
                <a:gridCol w="1197000"/>
                <a:gridCol w="1188720"/>
                <a:gridCol w="1190880"/>
                <a:gridCol w="1279440"/>
              </a:tblGrid>
              <a:tr h="87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صر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صر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صر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صر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صر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صر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سم الدوا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غالبية الفينوكيازينات 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OXANTHENES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oridaz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OPERIDOL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ZAPI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INDON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ANZAPIN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TIAPIN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PERIDON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TINDOL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فتاح  : + حصر , - لا يؤثر , يشير عدد (+) إلى شدة حصر المستقبل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7288560" y="25956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تأثيرات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4360" y="3933360"/>
            <a:ext cx="77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تأثيرات أخرى :  هبوط ضغط نتيجة حصر مستقبلات ألفا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زيادة إطلاق البرولاكتين  نتيجة حصر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في النخام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مضادات قوية للمستقبل الهيستاميني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Y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5640" y="4868280"/>
            <a:ext cx="773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حرائك الدوائي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armacokinet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: تستقلب بواسطة جملة السيتوكروم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4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في الكبد و تكون بعض المستقلبات فعال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4360" y="5733360"/>
            <a:ext cx="78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تأثيرات الجانبية :  تأثيرات خارج هرمية – عسر حركة آجل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dive dyskines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- تخليط ذهني – جفاف فم – احتباس بول – هبوط ضغط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59280" y="482760"/>
            <a:ext cx="53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مضادة للنفاس حيث تنقص الهياج و الاهلاسات المرافقة للفصام 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8360" y="915120"/>
            <a:ext cx="793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 rtl="1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أثيرات خارج هرمي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apyramidal ef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نتيجة حصر المستقبلات الدوبامينيرجية يختل التوازن بين التأثيرات المثبطة للدوبامين و التأثيرات المحرضة الكولينرجية فتظهر الأعراض الباركنسونية غير المرغوبة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2059920"/>
            <a:ext cx="78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 rtl="1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أثير مضاد للقيء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iemetic  effa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: لأنها تحصر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2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في منطقة إطلاق المستقبل الكيميائي في البصل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9640" y="2570760"/>
            <a:ext cx="788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 rtl="1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أثيرات مضادة للموسكارين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imuscarinic ef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: بعض مضادات الذهان تسبب تأثيرات مضادة للكولين , هذا يخفف من التأثيرات خارج هرمية و خاص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zapine - chlorpromazine – thioridazine – olanzap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بينما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loperid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phenaz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تملك فعالية منخفضة مضادة للكولين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000"/>
                            </p:stCondLst>
                            <p:childTnLst>
                              <p:par>
                                <p:cTn id="242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7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2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7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2000"/>
                            </p:stCondLst>
                            <p:childTnLst>
                              <p:par>
                                <p:cTn id="262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44000" y="2013120"/>
            <a:ext cx="8992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000000"/>
                </a:solidFill>
                <a:latin typeface="comic"/>
                <a:cs typeface="Andalus"/>
              </a:rPr>
              <a:t>الأدوية المضادة للاكتئا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000000"/>
                </a:solidFill>
                <a:latin typeface="comic"/>
                <a:ea typeface="Andalus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comic"/>
                <a:ea typeface="Andalus"/>
              </a:rPr>
              <a:t>ANTIDEPRESSANT DRUG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929280" y="98028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تصنيف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55640" y="1513440"/>
            <a:ext cx="7893000" cy="35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r" rtl="1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  <a:cs typeface="Simplified Arabic"/>
              </a:rPr>
              <a:t>مثبطات عود التقاط السيرتونين الانتقائية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plified Arabic"/>
              </a:rPr>
              <a:t>Selective Serotonin Re-Uptake Inhibitors 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Simplified Arabic"/>
              </a:rPr>
              <a:t>SSRI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Arial"/>
                <a:ea typeface="Simplified Arabic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plified Arab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  <a:cs typeface="Simplified Arabic"/>
              </a:rPr>
              <a:t>مثبطات عود التقاط السيرتونين و النور ابي نيفر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plified Arabic"/>
              </a:rPr>
              <a:t>Serotonin / NorEpinephrine Re-Uptake Inhibitors 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Simplified Arabic"/>
              </a:rPr>
              <a:t>SNRI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  <a:ea typeface="Simplified Arabic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plified Arab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  <a:cs typeface="Simplified Arabic"/>
              </a:rPr>
              <a:t>مضادات الاكتئاب اللانموذجية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plified Arabic"/>
              </a:rPr>
              <a:t>Antidepressants Atypi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  <a:cs typeface="Simplified Arabic"/>
              </a:rPr>
              <a:t>مضادات الاكتئاب ثلاثية الحلقة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plified Arabic"/>
              </a:rPr>
              <a:t>Tricyclic Antidepressants 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Simplified Arabic"/>
              </a:rPr>
              <a:t>TA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Simplified Arabic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  <a:cs typeface="Simplified Arabic"/>
              </a:rPr>
              <a:t>مثبطات الأوكسيداز أحادي الأمين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plified Arabic"/>
              </a:rPr>
              <a:t>Mono Amine Oxidase Inhibitors  (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O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0" y="386712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5040" y="408564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plified Arabic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684520" y="620280"/>
            <a:ext cx="63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buClr>
                <a:srgbClr val="000000"/>
              </a:buClr>
              <a:buFont typeface="Arial"/>
              <a:buAutoNum type="alphaU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مثبطات عود التقاط السيرتونين الانتقائية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ive Serotonin Re-Uptake Inhibitors 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SR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63640" y="4652640"/>
            <a:ext cx="68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ضم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OXETINE – CITALOPRAM – ESCITALOP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VOXAMINE – PAROXETINE – SERTRAL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87280" y="1989000"/>
            <a:ext cx="755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ثبط بشكل نوعي إعادة التقاط السيرتونين الانتقائية وبالتالي زيادة تراكيز الناقل العصبي ف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مسافات الشبكية و بالنهاية زيادة فعالية  العصبون بعد المشبك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5200" y="2781360"/>
            <a:ext cx="1015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ملك قدرة ضئيلة على حصر المستقبلات الموسكارينية و الأدرينرجية ألفا و الهيستامينية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ar-SY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91400" y="3278160"/>
            <a:ext cx="637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أثيراتها الجانبية قليلة وآمنة نسبياً حتى بالجرعات العالية</a:t>
            </a:r>
            <a:r>
              <a:rPr b="0" lang="ar-SY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340000" y="3860640"/>
            <a:ext cx="63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هي أدوية الخيار الأول لعلاج الاكتئاب , حلت مكان مضادات الاكتئاب ثلاثية الحلق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و مثبطات الأوكسيداز أحادي الأم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0"/>
                            </p:stCondLst>
                            <p:childTnLst>
                              <p:par>
                                <p:cTn id="326" nodeType="afterEffect" fill="hold" presetClass="entr" presetID="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1" nodeType="afterEffect" fill="hold" presetClass="entr" presetID="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9000"/>
                            </p:stCondLst>
                            <p:childTnLst>
                              <p:par>
                                <p:cTn id="33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4000"/>
                            </p:stCondLst>
                            <p:childTnLst>
                              <p:par>
                                <p:cTn id="34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9000"/>
                            </p:stCondLst>
                            <p:childTnLst>
                              <p:par>
                                <p:cTn id="346" nodeType="afterEffect" fill="hold" presetClass="entr" presetID="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41440" y="1133640"/>
            <a:ext cx="3886200" cy="34732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22120" y="4566240"/>
            <a:ext cx="45165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ematic diagram showing some of the potential sites of action of antidepressant drugs. Chron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rapy with these drugs has been proved to reduce reuptake of norepinephrine or serotonin (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th), reduce the number of postsynaptic receptors, and reduce the generation of cAMP.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O inhibitors act on MAO in the nerve terminals and cause the same effects on receptors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P gen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860840" y="404280"/>
            <a:ext cx="715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buClr>
                <a:srgbClr val="000000"/>
              </a:buClr>
              <a:buFont typeface="Arial"/>
              <a:buAutoNum type="alphaUcPeriod" startAt="2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مثبطات إعادة التقاط النور ابي نفرين و السيرتونين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otonin / Nor Epinephrine Re-Uptake Inhibitors  (SNR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52000" y="1412280"/>
            <a:ext cx="59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هذه المجموعة تقوم بالتثبيط الانتقائي لاعادة التقا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كل من السيرتونين والنور ابي نيفرين معا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30920" y="221184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لا تملك أي فعالية على المستقبلات الأدرنرجية أو الموسكارينية أو الهيستامينية و بالتالي تأثيراتها الجانبية أق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78160" y="3715920"/>
            <a:ext cx="352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ضم</a:t>
            </a:r>
            <a:r>
              <a:rPr b="0" lang="ar-SY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NLAFAXINE – DULOXE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000"/>
                            </p:stCondLst>
                            <p:childTnLst>
                              <p:par>
                                <p:cTn id="35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3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3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19640" y="2483640"/>
            <a:ext cx="736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000000"/>
                </a:solidFill>
                <a:latin typeface="comic"/>
                <a:cs typeface="Andalus"/>
              </a:rPr>
              <a:t>الأدوية المنومة المركن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  <a:ea typeface="Andalus"/>
              </a:rPr>
              <a:t>ANXIOLYTIC AND HYPNOT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000000"/>
                </a:solidFill>
                <a:latin typeface="comic"/>
                <a:cs typeface="Andalus"/>
              </a:rPr>
              <a:t>أو المهدئات الصغر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340640" y="475560"/>
            <a:ext cx="783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مضادات الاكتئاب الثلاثية الحلقة :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cyclic Antidepressants  (TA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0640" y="1051920"/>
            <a:ext cx="888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ضم الأمينات الثلاثية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IPRAMINE – AMITRIPTYLINE – CLOMIPRAMINE – DOXEPIN – TRIMIPRAM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-360" y="2139480"/>
            <a:ext cx="90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أمينات الثانوية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TRIPTYLINE – DESIPRAMINE – AMOXAPINE MAPROTILINE PROTRIPTY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01480" y="3572640"/>
            <a:ext cx="88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عتمد اختيار الدواء على مدى تحمل المريض للتأثيرات الجانبية و على  مدة التأثي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2320" y="4084200"/>
            <a:ext cx="88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حصر التقاط النورابي نيفرين و السيرتونين إلى داخل العصبو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حصر المستقبلات السيروتونينية - الأدرنرجية ألفا -  الموسكارينية – الهيستامين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-1090800" y="4941720"/>
            <a:ext cx="1194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استخدام العلاجي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ستخدم لعلاج الاكتئاب الشديد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ستخدم الايمبيرامين للسيطرة على بوال الفراش عند الأطفال عن طريق تقليص المصرة الداخلية للمثان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ستخدم الأميتربتلين لعلاج ألم الاعتلال العصبي المزمن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3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3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3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3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4000"/>
                            </p:stCondLst>
                            <p:childTnLst>
                              <p:par>
                                <p:cTn id="3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0"/>
                            </p:stCondLst>
                            <p:childTnLst>
                              <p:par>
                                <p:cTn id="3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0" y="158760"/>
          <a:ext cx="9144000" cy="6556320"/>
        </p:xfrm>
        <a:graphic>
          <a:graphicData uri="http://schemas.openxmlformats.org/drawingml/2006/table">
            <a:tbl>
              <a:tblPr/>
              <a:tblGrid>
                <a:gridCol w="1671480"/>
                <a:gridCol w="1347840"/>
                <a:gridCol w="2264040"/>
                <a:gridCol w="928440"/>
                <a:gridCol w="2932200"/>
              </a:tblGrid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صر عود التقاط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صر عود التقاط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صر المستقبلات الموسكارين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ركي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سم الدوا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ثلاثية الحلقة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ITRIPTYLI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XEPIN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PRAMINE , PROTRIPTYLI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IPRAMINE , NORTRIPTYLI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مختلفة الحلقة الجيل الثان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XAPI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PROPION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ZODO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PROTILI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مختلفة الحلقة الجيل الثالث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RTAZAPI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FAZODO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LAFAXIN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ثبطات عود التقاط السيرتونين الانتقائية</a:t>
                      </a:r>
                      <a:r>
                        <a:rPr b="0" lang="ar-S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OXETINE – CITALOPRAM –PAROXETINE – SERTRALIN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فتاح  : - لا يؤثر , ++ تأثير متوسط , + تأثير خفيف , +++ تأثير شديد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14080" y="1556640"/>
            <a:ext cx="84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مثبطات الأوكسيداز أحادي الأمين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OI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 Amine Oxidase Inhibit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-1571400" y="2204280"/>
            <a:ext cx="122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أوكسيداز أحادي الأمين هو أنزيم ميتوكندري موجود في النسيج  العصبي و الأنسجة الأخرى مثل المعي و الكبد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-889920" y="2851920"/>
            <a:ext cx="111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ؤكسد الـ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الكاتيكولامينات ( نور ابي نيفرين – دوبامين – سيروتونين ) خارج الحويصلات المشبكي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4360" y="3370680"/>
            <a:ext cx="809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ثبيط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عدم تدرك جزيئات الناقل العصبي تسمح بتراكم  الكاتيكولامينات قبل المشبك و تسريبها إلى المسافة المشبكية مما يسسب تفعيل مستقبلات السيروتونينية و النورابي نيفرين</a:t>
            </a:r>
            <a:r>
              <a:rPr b="0" lang="ar-SY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81400" y="4658760"/>
            <a:ext cx="63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توافر حالياً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أدوية من مثبطا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لمعالجة الاكتئاب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ENELZINE – ISOCARBOXAZID – TRANYLCYPROM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3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3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500"/>
                            </p:stCondLst>
                            <p:childTnLst>
                              <p:par>
                                <p:cTn id="41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6500"/>
                            </p:stCondLst>
                            <p:childTnLst>
                              <p:par>
                                <p:cTn id="41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3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3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9500"/>
                            </p:stCondLst>
                            <p:childTnLst>
                              <p:par>
                                <p:cTn id="42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3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3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2500"/>
                            </p:stCondLst>
                            <p:childTnLst>
                              <p:par>
                                <p:cTn id="42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3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3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735280" y="256320"/>
            <a:ext cx="665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buClr>
                <a:srgbClr val="000000"/>
              </a:buClr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مضادات الاكتئاب اللانموذجية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idepressants Atypi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179720" y="879120"/>
            <a:ext cx="77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هي مجموعة مختلطة من الأدوية التي تؤثر بعدة طرق مختلفة و تضم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ZODONE – NEFAZODONE – MIRTAZAPINE – BUPROP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364920" y="1705680"/>
            <a:ext cx="611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حصر الميرتازابين مستقبلا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و مستقبلات 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ِ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-460800" y="2309040"/>
            <a:ext cx="107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حصر النيفازودون و الترازودون مستقبلا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قبل المشبك فتؤدي لزيادة تحرر السيروتونين</a:t>
            </a:r>
            <a:r>
              <a:rPr b="0" lang="ar-SY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498680" y="2863800"/>
            <a:ext cx="6253200" cy="3568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4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3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3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6000"/>
                            </p:stCondLst>
                            <p:childTnLst>
                              <p:par>
                                <p:cTn id="45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-1618560" y="548640"/>
            <a:ext cx="122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حرائك الدوائي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armacokinet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إن مضادات الاكتئاب تستغرق نموذجياً اسبوعين لتعطي التحسن بالمزاج و الفائدة العظمى بعد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اسبوع أو أكثر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9640" y="1354680"/>
            <a:ext cx="813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تأثيرات الجانبي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erse ef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نتيجة حصر الأستيل كولين : تشوش بالرؤية - جفاف فم –احتباس بول – إمساك – صرع – تفاقم الزر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تنبيه الكاتيكولامين يسبب تنبيه القل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حصر مستقبلات ألفا  يسبب هبوط ضغط – تسرع قلب انعكاسي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3132000" y="14400"/>
          <a:ext cx="2808360" cy="683892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ثبطات عود التقاط السيرتونين الانتقائية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ALOPRAM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ITALOPRAM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OXETI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VOXAMI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OXETI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TRALI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ثبطات إعادة التقاط النور ابي نفرين و السيرتوني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LAFAXI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LOXETI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ضادات الاكتئاب اللانموذجي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RTAZAPI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FAZOD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ZODO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ضادات الاكتئاب الثلاثية الحلقة 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ITRIPTYLI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XAPI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MIPRAMI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PRAMI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XEPIN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IPRAMI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PROTILI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RIPTYLI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RIPTYLI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MIPRAMI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ثبطات المونوأمين أوكسيدا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NELZI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YLCYPROMID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86" name=""/>
          <p:cNvGrpSpPr/>
          <p:nvPr/>
        </p:nvGrpSpPr>
        <p:grpSpPr>
          <a:xfrm>
            <a:off x="5565600" y="189000"/>
            <a:ext cx="3240360" cy="4119480"/>
            <a:chOff x="5565600" y="189000"/>
            <a:chExt cx="3240360" cy="4119480"/>
          </a:xfrm>
        </p:grpSpPr>
        <p:sp>
          <p:nvSpPr>
            <p:cNvPr id="287" name=""/>
            <p:cNvSpPr/>
            <p:nvPr/>
          </p:nvSpPr>
          <p:spPr>
            <a:xfrm>
              <a:off x="6861240" y="189000"/>
              <a:ext cx="1944720" cy="6426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800" spc="-1" strike="noStrike">
                  <a:solidFill>
                    <a:srgbClr val="000000"/>
                  </a:solidFill>
                  <a:latin typeface="Arial"/>
                </a:rPr>
                <a:t>اضطراب معدي معوي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5579640" y="407880"/>
              <a:ext cx="6476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5579640" y="638280"/>
              <a:ext cx="6476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5579640" y="898560"/>
              <a:ext cx="6476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5579640" y="1128600"/>
              <a:ext cx="6476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5565600" y="1403280"/>
              <a:ext cx="6480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5579640" y="1635120"/>
              <a:ext cx="6476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5565600" y="2084400"/>
              <a:ext cx="6480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5565600" y="2346480"/>
              <a:ext cx="6480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579640" y="4290840"/>
              <a:ext cx="6476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5579640" y="3071880"/>
              <a:ext cx="6476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40600" y="406440"/>
              <a:ext cx="5950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6226200" y="406440"/>
              <a:ext cx="14400" cy="39020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5397120" y="2816280"/>
            <a:ext cx="3480120" cy="3832200"/>
            <a:chOff x="5397120" y="2816280"/>
            <a:chExt cx="3480120" cy="3832200"/>
          </a:xfrm>
        </p:grpSpPr>
        <p:sp>
          <p:nvSpPr>
            <p:cNvPr id="301" name=""/>
            <p:cNvSpPr/>
            <p:nvPr/>
          </p:nvSpPr>
          <p:spPr>
            <a:xfrm>
              <a:off x="7213680" y="6280200"/>
              <a:ext cx="1663560" cy="368280"/>
            </a:xfrm>
            <a:prstGeom prst="rect">
              <a:avLst/>
            </a:prstGeom>
            <a:noFill/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800" spc="-1" strike="noStrike">
                  <a:solidFill>
                    <a:srgbClr val="000000"/>
                  </a:solidFill>
                  <a:latin typeface="Arial"/>
                </a:rPr>
                <a:t>كسب الوزن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6676560" y="6473880"/>
              <a:ext cx="507960" cy="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6676920" y="2816280"/>
              <a:ext cx="0" cy="3657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5427720" y="2816280"/>
              <a:ext cx="1249200" cy="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5397120" y="3789360"/>
              <a:ext cx="1249560" cy="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5411880" y="4311720"/>
              <a:ext cx="1249200" cy="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5411880" y="4776840"/>
              <a:ext cx="1249200" cy="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5425560" y="5022720"/>
              <a:ext cx="1249560" cy="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5411880" y="5981760"/>
              <a:ext cx="1249200" cy="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71520" y="3773520"/>
            <a:ext cx="3024000" cy="3191760"/>
            <a:chOff x="371520" y="3773520"/>
            <a:chExt cx="3024000" cy="3191760"/>
          </a:xfrm>
        </p:grpSpPr>
        <p:sp>
          <p:nvSpPr>
            <p:cNvPr id="311" name=""/>
            <p:cNvSpPr/>
            <p:nvPr/>
          </p:nvSpPr>
          <p:spPr>
            <a:xfrm>
              <a:off x="371520" y="6048360"/>
              <a:ext cx="2201760" cy="91692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800" spc="-1" strike="noStrike">
                  <a:solidFill>
                    <a:srgbClr val="000000"/>
                  </a:solidFill>
                  <a:latin typeface="Arial"/>
                </a:rPr>
                <a:t>احتمال كبير لهبوط الضغط الانتصابي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83000" y="6486480"/>
              <a:ext cx="78408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83000" y="6718320"/>
              <a:ext cx="78408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2568600" y="3773520"/>
              <a:ext cx="0" cy="22636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97040" y="4773600"/>
              <a:ext cx="7844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41600" y="3800520"/>
              <a:ext cx="85392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50920" y="260280"/>
            <a:ext cx="3144600" cy="5705640"/>
            <a:chOff x="250920" y="260280"/>
            <a:chExt cx="3144600" cy="5705640"/>
          </a:xfrm>
        </p:grpSpPr>
        <p:sp>
          <p:nvSpPr>
            <p:cNvPr id="318" name=""/>
            <p:cNvSpPr/>
            <p:nvPr/>
          </p:nvSpPr>
          <p:spPr>
            <a:xfrm>
              <a:off x="250920" y="260280"/>
              <a:ext cx="1996920" cy="6426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800" spc="-1" strike="noStrike">
                  <a:solidFill>
                    <a:srgbClr val="000000"/>
                  </a:solidFill>
                  <a:latin typeface="Arial"/>
                </a:rPr>
                <a:t>تركين قد يفيد من أجل الهيا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49640" y="871560"/>
              <a:ext cx="11318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249640" y="942840"/>
              <a:ext cx="0" cy="5023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263680" y="1147680"/>
              <a:ext cx="11318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263680" y="2846520"/>
              <a:ext cx="11318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263680" y="3078000"/>
              <a:ext cx="11318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63680" y="3325680"/>
              <a:ext cx="11318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249640" y="3846600"/>
              <a:ext cx="11318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49640" y="4035600"/>
              <a:ext cx="11318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49640" y="4295880"/>
              <a:ext cx="11318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35240" y="4803840"/>
              <a:ext cx="11318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35240" y="5021280"/>
              <a:ext cx="11318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49640" y="5254560"/>
              <a:ext cx="11318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49640" y="5500800"/>
              <a:ext cx="11318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235240" y="5965920"/>
              <a:ext cx="11318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443160" y="2433960"/>
            <a:ext cx="822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000000"/>
                </a:solidFill>
                <a:latin typeface="comic"/>
                <a:ea typeface="Andalus"/>
              </a:rPr>
              <a:t> داء باركونسو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000000"/>
                </a:solidFill>
                <a:latin typeface="comic"/>
                <a:ea typeface="Andalus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comic"/>
                <a:ea typeface="Andalus"/>
              </a:rPr>
              <a:t>PARKINSON 'S DISEA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3291120" cy="41245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95280" y="4939920"/>
            <a:ext cx="8466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ematic representation of the sequence of neurons involved in parkinsonism and Huntington'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rea. Top: Dopaminergic neurons (color) originating in the substantia nigra normally inhibit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BAergic output from the striatum, whereas cholinergic neurons (gray) exert an excit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ect. Middle: In parkinsonism, there is a selective loss of dopaminergic neurons (dashed, color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ttom: In Huntington's chorea, some cholinergic neurons may be lost (gray), but even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BAergic neurons (black, dashed) degener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500720" y="808200"/>
            <a:ext cx="4319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رتبط هذا الداء بتخرب خلايا المادة السوداء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TANTIA NIGR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التي تسبب تنكساً في العصبونات الدوبامنرجية المسؤولة عن إفراز الدوبامين في الجسم المخطط الجديد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OSTRIAT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مما ينقص التأثير المثبط المعدل الطبيعي للدوبامين مسبباً زيادة انتاج الاستيل كولين الذي يحرض سلسلة من الاشارات الشاذة ينجم عنها فقدان السيطرة على الحركات العضلي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2936880" y="393840"/>
            <a:ext cx="3722760" cy="49068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253800" y="5653080"/>
            <a:ext cx="8619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nctional circuitry between the cortex, basal ganglia, and thalamus. The invol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urotransmitters are indicated. In Parkinson's disease, there is degeneration of the pars compa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 the substantia nigra, leading to overactivity in the indirect pathway (color) and increa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utamatergic atergic activity by the subthalamic nucle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6460560" y="2189880"/>
            <a:ext cx="179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vodop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55640" y="2859480"/>
            <a:ext cx="792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ستعمل(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odopa ( l-dop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ذي هو طليعة للدوبامين بدلا من الدوبامين لأن الدوبامين ذو جاهزية حيوية قليلة و لا يعبر بثبات الحاجز الدموي الدماغي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55640" y="429948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عطى الليفودوبا عادة مع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bidop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و هو دواء لا يستطيع عبور الحاجز الدموي الدماغي و لكنه يثب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p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ديكاربوكسيلاز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في النسج المحيطية , هذه المشاركة تخفض من جرعة الليفودوبا و بالتالي تنقص من شدة التأثيرات الجانبية عن الدوبامين المتشكل في المحيط .</a:t>
            </a:r>
            <a:r>
              <a:rPr b="0" lang="ar-SY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55640" y="393300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تحول الحمض الأميني إلى دوبامين بواسطة أنزيم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p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ديكاربوكسيلاز</a:t>
            </a:r>
            <a:r>
              <a:rPr b="0" lang="ar-SY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4360" y="1059120"/>
            <a:ext cx="796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شمل استراتيجيات  المعالجة الدوائية لداء باركنسون العمل على زيادة فعالية الدوبامين الدماغي أو انقاص الفعالية الكولنرجية المسكارينية في الدماغ أو كلاهما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1280" y="685080"/>
            <a:ext cx="79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أدوية المستعملة في داء باركنسون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2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000"/>
                            </p:stCondLst>
                            <p:childTnLst>
                              <p:par>
                                <p:cTn id="4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6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3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3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3000"/>
                            </p:stCondLst>
                            <p:childTnLst>
                              <p:par>
                                <p:cTn id="49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89320" y="12794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أدوية المنومة المركن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7680" y="22161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 u="sng">
                <a:solidFill>
                  <a:srgbClr val="000000"/>
                </a:solidFill>
                <a:uFillTx/>
                <a:latin typeface="Arial"/>
              </a:rPr>
              <a:t>أدوية أخر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89320" y="221616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 u="sng">
                <a:solidFill>
                  <a:srgbClr val="000000"/>
                </a:solidFill>
                <a:uFillTx/>
                <a:latin typeface="Arial"/>
              </a:rPr>
              <a:t>الباربيتوريات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ARBITURA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4960" y="221616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 u="sng">
                <a:solidFill>
                  <a:srgbClr val="000000"/>
                </a:solidFill>
                <a:uFillTx/>
                <a:latin typeface="Arial"/>
              </a:rPr>
              <a:t>البنزوديازيبينات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enzodiazepi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4960" y="3583080"/>
            <a:ext cx="10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مدة التأثير قصير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28600" y="4383000"/>
            <a:ext cx="10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مدة التأثير متوسط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1320" y="487980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مدة التأثير طوي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"/>
          <p:cNvCxnSpPr>
            <a:stCxn id="46" idx="2"/>
            <a:endCxn id="47" idx="0"/>
          </p:cNvCxnSpPr>
          <p:nvPr/>
        </p:nvCxnSpPr>
        <p:spPr>
          <a:xfrm rot="5400000">
            <a:off x="838440" y="2788200"/>
            <a:ext cx="726120" cy="864360"/>
          </a:xfrm>
          <a:prstGeom prst="bentConnector3">
            <a:avLst>
              <a:gd name="adj1" fmla="val 4985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" name=""/>
          <p:cNvCxnSpPr/>
          <p:nvPr/>
        </p:nvCxnSpPr>
        <p:spPr>
          <a:xfrm flipV="1" rot="10800000">
            <a:off x="1632960" y="2856960"/>
            <a:ext cx="1080" cy="1301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"/>
          <p:cNvCxnSpPr/>
          <p:nvPr/>
        </p:nvCxnSpPr>
        <p:spPr>
          <a:xfrm flipH="1" rot="16200000">
            <a:off x="1197360" y="3298680"/>
            <a:ext cx="2022840" cy="1152720"/>
          </a:xfrm>
          <a:prstGeom prst="bentConnector3">
            <a:avLst>
              <a:gd name="adj1" fmla="val 176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3" name=""/>
          <p:cNvSpPr/>
          <p:nvPr/>
        </p:nvSpPr>
        <p:spPr>
          <a:xfrm>
            <a:off x="3362400" y="3654360"/>
            <a:ext cx="10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مدة التأثير قصيرة جدا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26040" y="445464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مدة التأثير قصير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78400" y="495144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مدة التأثير طوي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endCxn id="53" idx="0"/>
          </p:cNvCxnSpPr>
          <p:nvPr/>
        </p:nvCxnSpPr>
        <p:spPr>
          <a:xfrm rot="5400000">
            <a:off x="3935520" y="2859480"/>
            <a:ext cx="726120" cy="864360"/>
          </a:xfrm>
          <a:prstGeom prst="bentConnector3">
            <a:avLst>
              <a:gd name="adj1" fmla="val 4985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/>
          <p:nvPr/>
        </p:nvCxnSpPr>
        <p:spPr>
          <a:xfrm flipV="1" rot="10800000">
            <a:off x="4730040" y="2928600"/>
            <a:ext cx="1080" cy="1302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" name=""/>
          <p:cNvCxnSpPr/>
          <p:nvPr/>
        </p:nvCxnSpPr>
        <p:spPr>
          <a:xfrm flipH="1" rot="16200000">
            <a:off x="4294440" y="3370320"/>
            <a:ext cx="2022840" cy="1152720"/>
          </a:xfrm>
          <a:prstGeom prst="bentConnector3">
            <a:avLst>
              <a:gd name="adj1" fmla="val 1765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43" idx="2"/>
            <a:endCxn id="44" idx="0"/>
          </p:cNvCxnSpPr>
          <p:nvPr/>
        </p:nvCxnSpPr>
        <p:spPr>
          <a:xfrm flipH="1" rot="16200000">
            <a:off x="5775840" y="526680"/>
            <a:ext cx="570600" cy="2809080"/>
          </a:xfrm>
          <a:prstGeom prst="bentConnector3">
            <a:avLst>
              <a:gd name="adj1" fmla="val 4981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3" idx="2"/>
            <a:endCxn id="45" idx="0"/>
          </p:cNvCxnSpPr>
          <p:nvPr/>
        </p:nvCxnSpPr>
        <p:spPr>
          <a:xfrm>
            <a:off x="4657320" y="1645920"/>
            <a:ext cx="1080" cy="570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"/>
          <p:cNvCxnSpPr>
            <a:stCxn id="43" idx="2"/>
            <a:endCxn id="46" idx="0"/>
          </p:cNvCxnSpPr>
          <p:nvPr/>
        </p:nvCxnSpPr>
        <p:spPr>
          <a:xfrm rot="5400000">
            <a:off x="2860200" y="419040"/>
            <a:ext cx="570600" cy="3024720"/>
          </a:xfrm>
          <a:prstGeom prst="bentConnector3">
            <a:avLst>
              <a:gd name="adj1" fmla="val 4981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2" name=""/>
          <p:cNvSpPr/>
          <p:nvPr/>
        </p:nvSpPr>
        <p:spPr>
          <a:xfrm>
            <a:off x="6529320" y="2719440"/>
            <a:ext cx="2089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PIR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LORALHYD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PROBAM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ALEPL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OLPIDE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61880" y="90684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00"/>
                </a:solidFill>
                <a:latin typeface="Arial"/>
              </a:rPr>
              <a:t>التصني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169920" y="279360"/>
            <a:ext cx="4906800" cy="62452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5364000" y="1357560"/>
            <a:ext cx="34560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te of orally administered levodopa and the effect of carbidopa, estimated from animal data.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dth of each pathway indicates the absolute amount of the drug present at each site, while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ages shown denote the relative proportion of the administered dose. The benefits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administration of carbidopa include reduction of the amount of levodopa diverted to periph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ssues and an increase in the fraction of the dose that reaches the brain. (GI, gastrointestinal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from Nutt JG, Fellman JH: Pharmacokinetics of levodopa. Clin Neuropharmac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8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:3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-640440" y="548640"/>
            <a:ext cx="1099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حرائك الدوائي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armacokinet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متص الدواء بسرعة من الأمعاء الدقيقة عند إعطائه على معدة فارغة قبل تناول الطعام بـ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دقيق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30040" y="2997000"/>
            <a:ext cx="995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داخلاته الدوائية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actions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يزيد فيتامين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من الاستقلاب المحيطي لليفودوبا و ينقص من فعاليته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تحدث نوبة ارتفاع ضغط بمشاركته مع مثبطا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O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الأدوية المضادة للذهان هي مضاد استطباب في داء باركنسون لأنها تحصر مستقبلا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2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-59040" y="1341360"/>
            <a:ext cx="1022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تأثيرات الجانبية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erse ef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بسبب تنبيه مركز القيء يحدث غثيان و إقياء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تأثيرات سلوكية : قد يحدث إهلاسات سمعية و بصرية بتأثيره على الجملة العصبية المركزي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ينجم تسرع القلب و خوارج الانقباض البطينية عن التأثير الدوبامينرجي على القلب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عسر الحركة : تحدث حركات رقصية في الوجه و الأطراف البعيدة غالباً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4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2000"/>
                            </p:stCondLst>
                            <p:childTnLst>
                              <p:par>
                                <p:cTn id="5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4000"/>
                            </p:stCondLst>
                            <p:childTnLst>
                              <p:par>
                                <p:cTn id="5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3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3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4721040" y="691560"/>
            <a:ext cx="47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مقلدات الدوبامين على مستقبله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وهي مقويات لمستقبل الدوبامين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454760" y="1404360"/>
            <a:ext cx="782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شمل دوائين قديمين من مشتقات الارغو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mocriptine - pergol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84000" y="1836000"/>
            <a:ext cx="763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و دوائين حديثين ليسا من مشتقات الارغو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pinirole - pramipexo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480720" y="2691720"/>
            <a:ext cx="21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ANTAD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333240" y="3213000"/>
            <a:ext cx="61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ملك عدة تأثيرات على عدد من النواقل العصبية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زيادة إفراز الدوبامين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حصر المستقبلات الكولينرجي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ثبيط مستقبلات الغلوتاما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D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971240" y="5077800"/>
            <a:ext cx="37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GI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أو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RANY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-1018080" y="5509440"/>
            <a:ext cx="1112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هو مثبط انتقائي للـ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O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( التي تستقلب الدوبامين ) فيزيد من مستويات الدوبامين الدماغ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4000"/>
                            </p:stCondLst>
                            <p:childTnLst>
                              <p:par>
                                <p:cTn id="5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3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3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897920" y="476280"/>
            <a:ext cx="715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buClr>
                <a:srgbClr val="000000"/>
              </a:buClr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  مثبطا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CHOL-O – METHYLTRANSFERASE ( COM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447080" y="981000"/>
            <a:ext cx="41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LCAPONE – ENTACAPO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-1370520" y="1484280"/>
            <a:ext cx="113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هما من مثبطات أنزيم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T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الأنزيم المسؤول عن تحول الليفودوبا إلى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-methyldopa ( 3omd)</a:t>
            </a:r>
            <a:r>
              <a:rPr b="0" lang="ar-SY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24000" y="1916280"/>
            <a:ext cx="808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زدياد مستزيا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om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يترافق مع استجابة ضعيفة على الليفودوبا لأن المركب يتنافس مع الليفودوبا على النقل الفاعل  إلى الجملة العصبية المركزية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813640" y="3141720"/>
            <a:ext cx="34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buClr>
                <a:srgbClr val="000000"/>
              </a:buClr>
              <a:buFont typeface="Arial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  الأدوية المضادة للكولين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-487440" y="2565360"/>
            <a:ext cx="101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ستعمل الدواء بالمشاركة مع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odopa – cabidopa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لأنه يحسن و يطيل الاستجابة مع الزمن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710720" y="3644640"/>
            <a:ext cx="795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نقص من التأثيرات المنبهة للأعصاب الكولينرجية في الجسمم المخط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لعب دوراً مساعداً فقط في معالجة داء باركنسو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hoxypyhenidyl  - benzatrop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3500"/>
                            </p:stCondLst>
                            <p:childTnLst>
                              <p:par>
                                <p:cTn id="56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6500"/>
                            </p:stCondLst>
                            <p:childTnLst>
                              <p:par>
                                <p:cTn id="5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5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-855720" y="2534400"/>
            <a:ext cx="1083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000000"/>
                </a:solidFill>
                <a:latin typeface="comic"/>
                <a:cs typeface="Andalus"/>
              </a:rPr>
              <a:t>منبهات الجملة العصبية المركزي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"/>
                <a:ea typeface="Andalus"/>
              </a:rPr>
              <a:t>central nervous system stimul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462040" y="475560"/>
            <a:ext cx="64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منبهات النفسية الحركي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YCHOMOTOR  STIMU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027080" y="1340640"/>
            <a:ext cx="88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حدث إثارة و نشوة إضافة إلى تحسين الشعور بالتعب و تنشيط الفعالية الحركي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26920" y="4083840"/>
            <a:ext cx="777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تثبيط أنزيم الفوسفودي استيرا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sphodiester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 الذي يحول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M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إلى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M.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غير الفعال مما يؤدي إلى ارتفاع الادينوزين أحادي الفوسفات الحلقي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MP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والغوانوزين أحادي الفوسفات الحلقي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تحصر مستقبلات الادينوزين مما يسبب توسع الأوعي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465000" y="1915560"/>
            <a:ext cx="59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شمل المنبهات النفسية الحركية  المجموعات التالية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51360" y="3499560"/>
            <a:ext cx="39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آلية التأثي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hanism of 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153240" y="2491920"/>
            <a:ext cx="537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ميتيل كزانتينا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HYXANTHI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PHYLLINE – THEOBROMINE – CAFFE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5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3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3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4000"/>
                            </p:stCondLst>
                            <p:childTnLst>
                              <p:par>
                                <p:cTn id="61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3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3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7000"/>
                            </p:stCondLst>
                            <p:childTnLst>
                              <p:par>
                                <p:cTn id="61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5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6044760" y="61992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تأثيرا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-1319760" y="1628640"/>
            <a:ext cx="1179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تنبيه الجملة العصبية المركزية يسبب زيادة في الانتباه العقلي نتيجة لتنبيه القشر و مناطق الدماغ الأخر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الجهاز القلبي الوعائي : زيادة ضربات ونتاج القلب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له تأثير مدر خفي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تنبه إفراز حمض كلور الماء من المخاطية المعدي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-881640" y="3212640"/>
            <a:ext cx="112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حرائك الدوائي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armacokinet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متص بشكل جيد فموياً و تتوزع في كامل الجسم بما فيه الدماغ – تعبر المشيمة و تفرغ في حليب الأم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754640" y="4436640"/>
            <a:ext cx="77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تأثيرات الجانبية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erse ef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ناول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فناجين قهوة يومياً =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غ كافئين يحدث وسن و هياج وصداع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6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2000"/>
                            </p:stCondLst>
                            <p:childTnLst>
                              <p:par>
                                <p:cTn id="64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0"/>
                            </p:stCondLst>
                            <p:childTnLst>
                              <p:par>
                                <p:cTn id="6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5790240" y="69156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نيكوتين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cot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:</a:t>
            </a:r>
            <a:r>
              <a:rPr b="0" lang="ar-SY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491000" y="1483560"/>
            <a:ext cx="39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آلية التأثي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hanism of 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180800" y="2133000"/>
            <a:ext cx="82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بالجرعات الصغيرة ينبه العقد بوساطة زوال الاستقطاب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olariz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بالجرعات العالية يحصر العقد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nglionic block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74320" y="2923920"/>
            <a:ext cx="933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حرائك الدوائي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armacokinet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متص بسهولة عبر مخاطية الفم و الرئتين في و المخاطية المعدية و المعوية و الجلد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و يعبر المشيمة و يفرز في حليب الأم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825480" y="4076280"/>
            <a:ext cx="855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نيكوتين مادة مدمنة حيث يتطور الاعتماد الفيزيائي بسرعة و يكون شديدا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تميز السحب بالقلق و الهياج و عدم الراحة و صعوبة التركيز و الصداع و الأر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7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000"/>
                            </p:stCondLst>
                            <p:childTnLst>
                              <p:par>
                                <p:cTn id="6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6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6000"/>
                            </p:stCondLst>
                            <p:childTnLst>
                              <p:par>
                                <p:cTn id="6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7000"/>
                            </p:stCondLst>
                            <p:childTnLst>
                              <p:par>
                                <p:cTn id="6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8" dur="1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594840" y="286560"/>
            <a:ext cx="21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كوكائين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ca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957240" y="538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حصر إعادة التقاط النورإبي نيفرين و السيرتونين و الدوبامين إلى داخل النهايات قبل المشبكية مركزياً و محيطياً , هذا يطيل التأثيرات المركزية و المحيطية لأحاديات الأمين هذه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إطالة تأثير الدوبامين في الجهاز اللمبي يحدث النشو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964040" y="1503360"/>
            <a:ext cx="391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نبه الكوكائين القشر و جذع الدماغ و هذا يؤ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إلى تنشيط الادراك الفكري و الشعور بالنشو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كما يسبب الاهلاس و الأوهام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808880" y="2910960"/>
            <a:ext cx="461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زيادة تأثير النورإبي نيفرين محيطياً ينت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سرع قلب –ارتفاع ضغط – توسع حدق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و تقبض وعائي محيط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475160" y="3971520"/>
            <a:ext cx="51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سبب ارتفاع حرارة حيث يثبط كل من التعر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و توسع الأوعية الجلدي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088160" y="4872960"/>
            <a:ext cx="56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له تأثير مخدر موضعي بسبب حصر أقنية الصوديو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519200" y="5694120"/>
            <a:ext cx="730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ؤخذ ذاتياً عن طريق المضغ و الاستنشاق إلى داخل الانف و التدخين و الحقن الوريدي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ذروة تأثيره بعد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دقيقة من استنشاقه بالأنف و تختفي بعد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ساع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7720" y="539208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حرائك الدوائي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armacokinet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184320" y="1473120"/>
            <a:ext cx="4348080" cy="4206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5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000"/>
                            </p:stCondLst>
                            <p:childTnLst>
                              <p:par>
                                <p:cTn id="6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000"/>
                            </p:stCondLst>
                            <p:childTnLst>
                              <p:par>
                                <p:cTn id="6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7000"/>
                            </p:stCondLst>
                            <p:childTnLst>
                              <p:par>
                                <p:cTn id="70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2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5703120" y="54864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أمفيتامين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phetam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935800" y="1124640"/>
            <a:ext cx="65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سبب تأثيرات عصبية و سريرية تماثل تماما تأثير الكوكائي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51360" y="1699560"/>
            <a:ext cx="39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آلية التأثي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hanism of 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95280" y="2133720"/>
            <a:ext cx="835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يثبط إعادة التقاط النورإبي نيفرين و الدوبامين مركزياً و محيطيا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زيادة تحرر الكاتيكولامينات في المشابك الودي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يثبط الأوكسيداز أحادي الأمين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نتيجة هذه الآليات تزداد كمية الكاتيكولامينات في المسافات المشبكية فيزداد تفعيل المستقبلات الأدرنرجية و الدوبامينيرجية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603200" y="39348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تأثير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55640" y="4154400"/>
            <a:ext cx="806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نبه المحور الدماغي الشوكي كاملاً و القشر و جذع الدماغ و البصلة . هذا يؤدي إلى نقص الاحساس بالتعب – تثبيط الشهية و الأرق . و يمكن أن تحدث اختلاجات بالجرعات العالي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قادت هذه التأثيرات المنشطة على الجملة العصبية المركزية إلى استخدامه في معالجة الاكتئاب – فرط نشاط عند الأطفال – نعاس شديد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rcolep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- السيطرة على الشهي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5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000"/>
                            </p:stCondLst>
                            <p:childTnLst>
                              <p:par>
                                <p:cTn id="72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4000"/>
                            </p:stCondLst>
                            <p:childTnLst>
                              <p:par>
                                <p:cTn id="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9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172280" y="-946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729640" y="-946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72280" y="-946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72280" y="-731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729640" y="-946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729640" y="-731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72280" y="-731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729640" y="-731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72280" y="-303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729640" y="-303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172280" y="-303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729640" y="-303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72280" y="125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729640" y="125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172280" y="125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72280" y="339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729640" y="125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729640" y="339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172280" y="339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72280" y="554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729640" y="339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729640" y="554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72280" y="554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729640" y="554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172280" y="982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29640" y="982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172280" y="982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72280" y="1197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729640" y="982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29640" y="1197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172280" y="1197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172280" y="1411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29640" y="1197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729640" y="1411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72280" y="1411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729640" y="1411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172280" y="164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29640" y="164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172280" y="164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729640" y="164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72280" y="2354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72280" y="2354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29640" y="3532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729640" y="3532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3689280" cy="3575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79280" y="4560120"/>
            <a:ext cx="532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 model of the GABAA receptor-chloride ion channel macromolecular complex (many oth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uld be proposed). A heteroligomeric glycoprotein, the complex consists of five or mo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mbrane-spanning subunits. Multiple forms of , , and subunits are arranged in differ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ntameric combinations so that GABAA receptors exhibit molecular heterogeneity. GAB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ears to interact with or subunits triggering chloride channel opening with resulta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mbrane hyperpolarization. Binding of benzodiazepines to subunits or to an area of the un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fluenced by the unit facilitates the process of channel opening but does not directly initi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hloride current. (Modified and reproduced, with permission, from Zorumsky CF, Isenberg KE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sights into the structure and function of GABA-benzodiazepine receptors: Ion channels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ychiatry. Am J Psychiatry 1991;148:162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08600" y="332640"/>
            <a:ext cx="39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آلية التأثي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hanism of 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650800" y="2005920"/>
            <a:ext cx="27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200" spc="-1" strike="noStrike">
                <a:solidFill>
                  <a:srgbClr val="000000"/>
                </a:solidFill>
                <a:latin typeface="Arial"/>
                <a:ea typeface="Simplified Arabic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1490760"/>
            <a:ext cx="34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تتواجد مستقبلات البنزوديازيبينات في العديد من المناطق الدماغية ( المهاد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khbar MT"/>
              </a:rPr>
              <a:t>THALAMU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Akhbar MT"/>
              </a:rPr>
              <a:t>– الجهاز اللمبي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khbar MT"/>
              </a:rPr>
              <a:t>LIMBIC SYSTEM</a:t>
            </a: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– قشرة الدماغ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84640" y="1027080"/>
            <a:ext cx="480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البنزوديازيبينات</a:t>
            </a:r>
            <a:r>
              <a:rPr b="1" lang="ar-SY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zodiazep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8720" y="2612880"/>
            <a:ext cx="330516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تشكل مستقبلات البنزوديازيبينات جزء من مستقبل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khbar MT"/>
              </a:rPr>
              <a:t>GAB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Akhbar MT"/>
              </a:rPr>
              <a:t>A</a:t>
            </a: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المرتبط بقناة الكلور الشاردية التي تنفتح عند ارتباط الناقل العصبي المثبط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khbar MT"/>
              </a:rPr>
              <a:t>GAB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ع مستقبله فتسبب فرط استقطاب صغير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24360" y="4306680"/>
            <a:ext cx="31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رتباط البنزوديازيبينات مع المستقبل يعزز ألفة المستقبل للناقل المثبط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khbar MT"/>
              </a:rPr>
              <a:t>GAB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مما يسبب انفتاحاً أكبر تواتراً لقنوات الكلور المجاورة فيعزز فرط الاستقطاب محدثاُ تثبيطاُ إضافياُ للتنبيه العصبي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353960" y="2462040"/>
            <a:ext cx="639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000000"/>
                </a:solidFill>
                <a:latin typeface="Arial"/>
                <a:cs typeface="Andalus"/>
              </a:rPr>
              <a:t>المهلسا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HALLUCINOGE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9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-585000" y="548640"/>
            <a:ext cx="106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نتج تغيرات عميقة في نماذج التفكير و المزاج مع تأثير خفيف على جذع الدماغ و الحبل الشوكي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717000" y="1124640"/>
            <a:ext cx="455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YSERGIC ACID DIETHYLAMIDE ( LS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-582120" y="1628280"/>
            <a:ext cx="1066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له فعالية مقلدة للسيرتونين في المستقبلات ما قبل المشبكية في الدماغ المتوسط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فعل الجملة العصبية الودية فيؤدي إلى توسع حدقة – زيادة الضغط الدموي – زيادة حرارة الجسم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ناول جرعات قليلة منه تحدث إهلاسات مع ألوان متالقة و تغيراً في المزاج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130560" y="2780640"/>
            <a:ext cx="554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تراهيدروكامابينول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TRAHYDROCANNABI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321984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قلويد الرئيسي الموجود في الماريجوانا ( الحشيش ) هو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ONABI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ويدعى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دلتا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تتراهيدروكامابينو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778280" y="4291920"/>
            <a:ext cx="39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آلية التأثي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hanism of 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84360" y="494136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وجد مستقبلا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المسماة بمستقبلا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B1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في النهايات العصبية المثبطة الموجودة قبل المشبك و يقترن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B1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مع البروتين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4000"/>
                            </p:stCondLst>
                            <p:childTnLst>
                              <p:par>
                                <p:cTn id="7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6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3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1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7345440" y="54864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تأثيرات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94680" y="1197000"/>
            <a:ext cx="5532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حدث الدرونابينول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نشوة يتبعها وسن و ارتخاء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يضعف الذاكرة القريبة و الفعالية العقلي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ينقص القوة العقلي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يضعف الفعالية الحركية عالية الدقة و المهارة 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يزيد الشهية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يحدث إهلاسات بصرية و توهمات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462360" y="3493440"/>
            <a:ext cx="23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استخدام العلاجي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39640" y="381960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ستخدم لمرض متلازمة عوز المناعة المكتسب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ذين ليهم خسارة في الوزن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عطى في الاقياءات الشديدة الناجمة عن بعض ادوية المعالجة الكيمياوية للسرطان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ظهر تأثيراته مباشرة بعد تدخين العقار و يستغرق الوصول إلى التأثيرات الأعظمية حوالي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دقيقة , و تزول بعد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ساعات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182400" y="5444640"/>
            <a:ext cx="630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تأثيرات الجانبية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erse ef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زيادة سرعة القلب – انخفاض الضغط – احمرار الملتحم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000"/>
                            </p:stCondLst>
                            <p:childTnLst>
                              <p:par>
                                <p:cTn id="7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000"/>
                            </p:stCondLst>
                            <p:childTnLst>
                              <p:par>
                                <p:cTn id="8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84040" y="488520"/>
            <a:ext cx="987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تأثيرات الجانبية لمنبهات الجملة العصبية المركزية 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تأثيرها على الجملة العصبية المركزية  : يتبع تنبيه الجملة العصبية المركزية  همود عقل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تأثيرات قلبية تسرع قلب – ارتفاع ضغط – ألم خناق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تأثيرات معدية معوية : غثيان – مغص بطني – إسهال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55640" y="98820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تثبط الفعالية العصبية في الدماغ المتوسط للتشكل المشبكي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تسهل وتطيل التأثير المثبط للغابا والغليسين حيث تزيد مدة فتح قناة الكلور الشاردية بتوسط الغابا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مواقع ارتباطها مميزة عن مواقع البنزوديازيبينات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تحصر مستقبلات الغلوتامات الاستثاري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البنتوباربيتال بالتراكيز العالية يحصر قنوات الصوديوم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84080" y="450720"/>
            <a:ext cx="438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الباربيتوريات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RBITURA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07440" y="263592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أدوية أخرى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26920" y="2840760"/>
            <a:ext cx="763272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PIRO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دواء حال للقلق مع تأثيرات قليلة مثبطة للجملة العصبية المركزي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تواسط تأثيره مستقبلات السيرتونين الدماغية</a:t>
            </a:r>
            <a:r>
              <a:rPr b="1" i="1" lang="ar-SY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ar-SY" sz="1800" spc="-1" strike="noStrike">
                <a:solidFill>
                  <a:srgbClr val="000000"/>
                </a:solidFill>
                <a:latin typeface="Arial"/>
              </a:rPr>
              <a:t>-5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خفض الحرارة و يزيد من مستوى هرمون البرولاكتين و هرمون النمو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ستقلب بواسط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P3A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و بالتالي يكون نصف عمره قصير إذا أخذ مع الريفامبسين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ويصبح نصف عمره طويل إذا أخذ مع الاريترومايسين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48758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منومات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ALEPLON   ,  ZOLPIDE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ليست من البنزوديازيبينات و لكنها تؤثر على المستقبلات البنزوديازيبينية النوعية التي صنفت على شكل مجموعات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Z1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أو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MEG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-156960" y="6092280"/>
            <a:ext cx="10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مكن معاكسة تأثيرات هذه المجموعة على الجملة العصبية المركزية بالـ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MAZEN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030640" y="318240"/>
            <a:ext cx="413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التأثيرات و الاستعمال السريري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04320" y="764280"/>
            <a:ext cx="784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عتمد أغلب التأثيرات العصبية المركزية للمنومات المركنة على </a:t>
            </a:r>
            <a:r>
              <a:rPr b="1" lang="ar-SY" sz="1800" spc="-1" strike="noStrike" u="sng">
                <a:solidFill>
                  <a:srgbClr val="000000"/>
                </a:solidFill>
                <a:uFillTx/>
                <a:latin typeface="Arial"/>
              </a:rPr>
              <a:t>الجرعة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92360" y="1908000"/>
            <a:ext cx="5089320" cy="3826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117440" y="5798520"/>
            <a:ext cx="706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se-response curves for two hypothetical sedative-hypno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1443600" y="1268280"/>
            <a:ext cx="116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تراوح هذه التأثيرات من التركين و زوال القلق عبوراً بالتأثير المنوم ( تسهل النوم ) إلى التخدير و السبات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4360" y="560880"/>
            <a:ext cx="79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  التأثير الحال للقلق و المركن : تعتبر مركبات البنزوديازيبينات المتوسطة و المديدة التأثير من الأدوية المفضلة لمعالجة غالبية حالات القلق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1281600"/>
            <a:ext cx="79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  اضطربات النوم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EEP DISORD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: تحرض على بدء النوم و تزيد من مدت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ZOLAM , FLURAZEPAM , TRIAZOLAM , ZALEPL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200088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  التخدير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ESTHESIA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: بالجرعات العالية يحدث فقدان الوعي مع فقدان ذاكرة  وتثبيط المنعكسات . يمكن أن يحدث التخدير بأغلب الباربيتوريات  مثال ال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OPENT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الذي يؤثر خلال ثوان و يكون أمد تأثيره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دقيقة . و بعض البنزوديازيبينات مثل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AZOLAM , DIAZEP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2734920"/>
            <a:ext cx="799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  تأثيرات مضادة للاختلاج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ICONVULSA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بالجرعات العالية أغلب الباربيتوريات تثبط الاختلاجات , وبعض البنزوديازيبينات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AZEPA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هو الدواء المختار لإنهاء النوب الصرعية في الداء الكبير و الحالة الصرعية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فيد كل من الأدوية التالية في المعالجة الحادة لسحب الكحول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RAZEPTA , DIAZEPAM , OXAZEPAM , CHLORDIAZEP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ستخدم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ENOBARBIT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: للمعالجة الطويلة الأمد للصرع المقوي الاختلاجي و الحالة الصرعي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494604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  تأثير مرخي عضلي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CULAR RELAX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: يفيد الديازيبام بجرعته المركنة في علاج التشنجات العضلية الهيكلية .</a:t>
            </a:r>
            <a:r>
              <a:rPr b="0" lang="ar-SY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573336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  التثبيط البصلي : تسبب الجرعات العالية للباربيتوريات توقف التنفس , هبوط ضغط , وهط قلبي وعائي و حدوث الوفا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4000"/>
                            </p:stCondLst>
                            <p:childTnLst>
                              <p:par>
                                <p:cTn id="7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6000"/>
                            </p:stCondLst>
                            <p:childTnLst>
                              <p:par>
                                <p:cTn id="8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465120" y="404640"/>
          <a:ext cx="8212320" cy="5857920"/>
        </p:xfrm>
        <a:graphic>
          <a:graphicData uri="http://schemas.openxmlformats.org/drawingml/2006/table">
            <a:tbl>
              <a:tblPr/>
              <a:tblGrid>
                <a:gridCol w="2522520"/>
                <a:gridCol w="2016000"/>
                <a:gridCol w="3673800"/>
              </a:tblGrid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دوي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دة التأثير بالساع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تأثيرات الدوائي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IAZOL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ltra-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pno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DAZOL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&lt;6 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ed as intravenous anaesthe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OLPID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ltra-short (~4 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pno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RAZEP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XAZEP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ZEP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rt (12-8 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xiolytic, hypno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PRAZOL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um (24 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xiolytic, antidepress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TRAZEP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pnotic, Anxioly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AZEP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LORDIAZEPOX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g (24-48 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xiolytic, muscle relax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azepam used i.v. as anticonvulsa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URAZEP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xioly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ONAZEP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iconvulsant, anxioly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especially mani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012000" y="549360"/>
            <a:ext cx="280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Arial"/>
              </a:rPr>
              <a:t>الفوائد العلاجية للأدوية المزيلة للقلق والأدوية المنوم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549360"/>
            <a:ext cx="244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Arial"/>
              </a:rPr>
              <a:t>مساوئ للأدوية المزيلة للقلق والأدوية المنوم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981000"/>
            <a:ext cx="302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 u="sng">
                <a:solidFill>
                  <a:srgbClr val="000000"/>
                </a:solidFill>
                <a:uFillTx/>
                <a:latin typeface="Arial"/>
              </a:rPr>
              <a:t>البنزوديازيبينات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enzodiazepin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16360" y="1816200"/>
            <a:ext cx="30258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NAZEP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RAZEP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LORDIAZEPOX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ZEP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RAZEP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ZEP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PRAZOL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RAZEP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MAZEP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IAZOL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96000" y="3429000"/>
            <a:ext cx="3024000" cy="792000"/>
          </a:xfrm>
          <a:prstGeom prst="leftArrowCallout">
            <a:avLst>
              <a:gd name="adj1" fmla="val 16233"/>
              <a:gd name="adj2" fmla="val 15380"/>
              <a:gd name="adj3" fmla="val 58528"/>
              <a:gd name="adj4" fmla="val 7859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400" spc="-1" strike="noStrike">
                <a:solidFill>
                  <a:srgbClr val="000000"/>
                </a:solidFill>
                <a:latin typeface="Arial"/>
              </a:rPr>
              <a:t>تملك قوة أقل و يتم إطراحها ببطء أكثر و لا تحدث عودة للأرق عند إيقاف العلا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71640" y="1844640"/>
            <a:ext cx="432000" cy="4321080"/>
          </a:xfrm>
          <a:custGeom>
            <a:avLst/>
            <a:gdLst>
              <a:gd name="textAreaLeft" fmla="*/ 276120 w 432000"/>
              <a:gd name="textAreaRight" fmla="*/ 432360 w 432000"/>
              <a:gd name="textAreaTop" fmla="*/ 112680 h 4321080"/>
              <a:gd name="textAreaBottom" fmla="*/ 4208400 h 43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3500280"/>
            <a:ext cx="216000" cy="720720"/>
          </a:xfrm>
          <a:custGeom>
            <a:avLst/>
            <a:gdLst>
              <a:gd name="textAreaLeft" fmla="*/ 0 w 216000"/>
              <a:gd name="textAreaRight" fmla="*/ 7812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30"/>
                </a:lnTo>
                <a:cubicBezTo>
                  <a:pt x="10800" y="9930"/>
                  <a:pt x="16200" y="10830"/>
                  <a:pt x="21600" y="10830"/>
                </a:cubicBezTo>
                <a:cubicBezTo>
                  <a:pt x="16200" y="10830"/>
                  <a:pt x="10800" y="11730"/>
                  <a:pt x="10800" y="1263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900000" y="2711520"/>
            <a:ext cx="1727280" cy="2662200"/>
          </a:xfrm>
          <a:prstGeom prst="leftArrowCallout">
            <a:avLst>
              <a:gd name="adj1" fmla="val 26375"/>
              <a:gd name="adj2" fmla="val 23704"/>
              <a:gd name="adj3" fmla="val 15356"/>
              <a:gd name="adj4" fmla="val 77586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400" spc="-1" strike="noStrike">
                <a:solidFill>
                  <a:srgbClr val="000000"/>
                </a:solidFill>
                <a:latin typeface="Arial"/>
              </a:rPr>
              <a:t> قد تسبب البنزوديازيبينات اضطراباً في الوظائف الفكرية و المهارات الحركي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400" spc="-1" strike="noStrike">
                <a:solidFill>
                  <a:srgbClr val="000000"/>
                </a:solidFill>
                <a:latin typeface="Arial"/>
              </a:rPr>
              <a:t> يمكن للبنزوديازيبينات أن تسبب الإدمان و يمكن أن تسبب نوبات سحب الدوا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19640" y="4508640"/>
            <a:ext cx="3600360" cy="504720"/>
          </a:xfrm>
          <a:prstGeom prst="leftArrow">
            <a:avLst>
              <a:gd name="adj1" fmla="val 60380"/>
              <a:gd name="adj2" fmla="val 21135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200" spc="-1" strike="noStrike">
                <a:solidFill>
                  <a:srgbClr val="000000"/>
                </a:solidFill>
                <a:latin typeface="Arial"/>
              </a:rPr>
              <a:t>الدواء المختار في علاج الاضطرابات الهلعية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6222960"/>
            <a:ext cx="2664000" cy="374760"/>
          </a:xfrm>
          <a:prstGeom prst="borderCallout2">
            <a:avLst>
              <a:gd name="adj1" fmla="val 18750"/>
              <a:gd name="adj2" fmla="val -8333"/>
              <a:gd name="adj3" fmla="val 30509"/>
              <a:gd name="adj4" fmla="val 119009"/>
              <a:gd name="adj5" fmla="val -37287"/>
              <a:gd name="adj6" fmla="val 135578"/>
            </a:avLst>
          </a:prstGeom>
          <a:solidFill>
            <a:srgbClr val="cc99ff">
              <a:alpha val="70000"/>
            </a:srgbClr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400" spc="-1" strike="noStrike">
                <a:solidFill>
                  <a:srgbClr val="000000"/>
                </a:solidFill>
                <a:latin typeface="Arial"/>
              </a:rPr>
              <a:t>غالباً ما يسبب سحب الدواء عودة الأر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19640" y="1700280"/>
            <a:ext cx="3600360" cy="504720"/>
          </a:xfrm>
          <a:prstGeom prst="leftArrow">
            <a:avLst>
              <a:gd name="adj1" fmla="val 60380"/>
              <a:gd name="adj2" fmla="val 21135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400" spc="-1" strike="noStrike">
                <a:solidFill>
                  <a:srgbClr val="000000"/>
                </a:solidFill>
                <a:latin typeface="Arial"/>
              </a:rPr>
              <a:t>يفيد في علاج نوبات الصر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000"/>
                            </p:stCondLst>
                            <p:childTnLst>
                              <p:par>
                                <p:cTn id="9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9000"/>
                            </p:stCondLst>
                            <p:childTnLst>
                              <p:par>
                                <p:cTn id="103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8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3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8" nodeType="afterEffect" fill="hold" presetClass="entr" presetID="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5:23:15Z</dcterms:created>
  <dc:creator>DigitalNet</dc:creator>
  <dc:description/>
  <dc:language>en-US</dc:language>
  <cp:lastModifiedBy>Antoun Laham</cp:lastModifiedBy>
  <dcterms:modified xsi:type="dcterms:W3CDTF">2009-03-20T10:20:40Z</dcterms:modified>
  <cp:revision>87</cp:revision>
  <dc:subject/>
  <dc:title>الشريحة 1</dc:title>
</cp:coreProperties>
</file>