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358-51CF-499A-8162-8A038B92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4C00-4C6D-4420-87C1-072A3A3E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1BC-E2EA-46C0-9D28-DE18166A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D00-45D3-47DC-B67B-60E6B9A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141-15C0-4B5C-8A9A-30CA8DAC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AC0-A9F4-4F8C-B941-35099BCF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FE4-71D4-416A-95CD-CCF1F9B4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895-EDA6-40A3-BB42-D09F4D1B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9BE-3DC0-4968-B033-24A208AA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C7FE-002C-48AD-B55F-4EA59800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B5E-04B3-4CA4-A3D5-CA512CC8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CB2F-B4F3-4866-AD73-4C1B907D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78B-94CA-4A92-87C2-945C47118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197000"/>
            <a:ext cx="8137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ؤثرة في </a:t>
            </a:r>
            <a:br>
              <a:rPr sz="5400"/>
            </a:b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جملة العصبية المركزية</a:t>
            </a:r>
            <a:br>
              <a:rPr sz="5400"/>
            </a:b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Tahom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omic"/>
                <a:ea typeface="Tahoma"/>
              </a:rPr>
              <a:t>DRUG ACTION IN THE CENTRAL NERVOUS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867280" y="54936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4936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87640" y="981000"/>
            <a:ext cx="302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أدوية أخر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205000"/>
            <a:ext cx="2160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PI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ZOPIC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XYZ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LEP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LPID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91280" y="1700280"/>
            <a:ext cx="3744720" cy="1224000"/>
          </a:xfrm>
          <a:prstGeom prst="leftArrowCallout">
            <a:avLst>
              <a:gd name="adj1" fmla="val 16214"/>
              <a:gd name="adj2" fmla="val 15380"/>
              <a:gd name="adj3" fmla="val 16728"/>
              <a:gd name="adj4" fmla="val 9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فيد في العلاج الطويل الأمد للقلق المزمن مع أعراض الهيوجية و العدائية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قوي ضعف الجملة العصبية المركزية الناجم عن الكحو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احتمال أقل للإدما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23280" y="1773360"/>
            <a:ext cx="2663640" cy="1224000"/>
          </a:xfrm>
          <a:prstGeom prst="leftArrowCallout">
            <a:avLst>
              <a:gd name="adj1" fmla="val 17113"/>
              <a:gd name="adj2" fmla="val 15380"/>
              <a:gd name="adj3" fmla="val 33418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بداية تأثير أبطأ من البنزوديازيبينات</a:t>
            </a:r>
            <a:r>
              <a:rPr b="1" lang="ar-SY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لا يملك فعالية مرخية للعضلات أو مضادة للاخت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5640" y="3139920"/>
            <a:ext cx="3600360" cy="505080"/>
          </a:xfrm>
          <a:prstGeom prst="leftArrow">
            <a:avLst>
              <a:gd name="adj1" fmla="val 60380"/>
              <a:gd name="adj2" fmla="val 21120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فعال لفترة تصل إلى </a:t>
            </a: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شهو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59280" y="5013360"/>
            <a:ext cx="287280" cy="1079640"/>
          </a:xfrm>
          <a:custGeom>
            <a:avLst/>
            <a:gdLst>
              <a:gd name="textAreaLeft" fmla="*/ 0 w 287280"/>
              <a:gd name="textAreaRight" fmla="*/ 10368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9640" y="4941720"/>
            <a:ext cx="3745080" cy="1224000"/>
          </a:xfrm>
          <a:prstGeom prst="leftArrowCallout">
            <a:avLst>
              <a:gd name="adj1" fmla="val 16214"/>
              <a:gd name="adj2" fmla="val 15380"/>
              <a:gd name="adj3" fmla="val 16729"/>
              <a:gd name="adj4" fmla="val 9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لا تبدي تبديلات سحب الدوا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يؤدي إلى عودة الأرق بشكل قلي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لا يحدث تحمل للدواء بالاستعمال طويل الأمد أو يحدث تحمل قلي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3640" y="5013360"/>
            <a:ext cx="288720" cy="1079640"/>
          </a:xfrm>
          <a:custGeom>
            <a:avLst/>
            <a:gdLst>
              <a:gd name="textAreaLeft" fmla="*/ 360 w 288720"/>
              <a:gd name="textAreaRight" fmla="*/ 104400 w 2887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95280" y="5157720"/>
            <a:ext cx="2664000" cy="863640"/>
          </a:xfrm>
          <a:prstGeom prst="leftArrowCallout">
            <a:avLst>
              <a:gd name="adj1" fmla="val 17113"/>
              <a:gd name="adj2" fmla="val 15380"/>
              <a:gd name="adj3" fmla="val 47369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ليس لها تأثير مرخي عضلي أو مضاد  للاخت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1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6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867280" y="54936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549360"/>
            <a:ext cx="252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98100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الباربيتوريات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ARBITURAT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16360" y="2013120"/>
            <a:ext cx="302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BARBI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OBARB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P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1844640"/>
            <a:ext cx="432000" cy="4105440"/>
          </a:xfrm>
          <a:custGeom>
            <a:avLst/>
            <a:gdLst>
              <a:gd name="textAreaLeft" fmla="*/ 276120 w 432000"/>
              <a:gd name="textAreaRight" fmla="*/ 432360 w 432000"/>
              <a:gd name="textAreaTop" fmla="*/ 106920 h 4105440"/>
              <a:gd name="textAreaBottom" fmla="*/ 3998520 h 410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0200" y="2563920"/>
            <a:ext cx="2376360" cy="2736720"/>
          </a:xfrm>
          <a:prstGeom prst="leftArrowCallout">
            <a:avLst>
              <a:gd name="adj1" fmla="val 19708"/>
              <a:gd name="adj2" fmla="val 17712"/>
              <a:gd name="adj3" fmla="val 15356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تحرض الباربيتوريات التحمل و الأنزيمات المستقلبة للدواء و الاعتماد الفيزيائي و تظهر أعراضاً شديدة لسحب الدو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522936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بداية تأثير سريعة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4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0558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ضادة للذهان 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NEUROLEP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ضادة للنفاس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ANTIPSYCHOTIC DRUGS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comic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ضادة للفصام 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SCHIZOPHRENIA</a:t>
            </a: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comic"/>
                <a:ea typeface="Andalu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comic"/>
                <a:cs typeface="Andalus"/>
              </a:rPr>
              <a:t>أو المهدئات الكبرى أو المنعشات العص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6333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THIAZINES : THIORIDAZINE , CHLORPROMAZENE ,FLUPHENAZ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XANTHENES : THIOTIX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YRPHENEONOS : HALOPERID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73960" y="12492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لمجموعات الكيميائية الرئيس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76560" y="33012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فصام هو اضطراب عقلي ناجم عن اضطراب وراثي في وظيفة الدما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2440" y="31035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TINDOLE , QUETIAPINE , RISPERIDONE , PIMOZIDE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INDONE , OLANZAPINE , LOXAPINE , CLOZA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0360" y="2616120"/>
            <a:ext cx="446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حديثة أقل سمية وأكثر فعال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96280" y="816120"/>
            <a:ext cx="96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صني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49560" y="429336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14240" y="4627440"/>
            <a:ext cx="79106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حصر فعالية مستقبل الدوبامين في الدماغ 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في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جملة اللمبية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حصر فعالية مستقبل السيروتونين في الدما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بعض الأدوية تحصر مستقبلات أخرى كولينرجية – أدرينرجية – هيستامينية , وتملك ألفة لمستقبلات أخرى مثال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ZAPINE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يملك ألفة عالية لمستقبلات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-5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المستقبلات الموسكارينية والأدرينرجية ألف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76240" y="9018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-947880" y="148284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53452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09188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53452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53452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091880" y="160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9188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53452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091880" y="18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3452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09188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53452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091880" y="2368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53452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09188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53452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53452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1880" y="310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09188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452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091880" y="3375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-947880" y="-128952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-863640" y="5070600"/>
            <a:ext cx="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-863640" y="771948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76240" y="-1870200"/>
            <a:ext cx="1962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3452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9188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53452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53452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091880" y="-1166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09188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091880" y="-89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53452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09188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3452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091880" y="-403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53452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9188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3452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3452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091880" y="328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09188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53452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091880" y="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53452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09188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452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091880" y="137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09188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09188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09188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091880" y="1920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3452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09188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53452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0091880" y="2349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149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34520" y="3149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091880" y="3854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091880" y="3854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0" y="615960"/>
          <a:ext cx="9144000" cy="5506920"/>
        </p:xfrm>
        <a:graphic>
          <a:graphicData uri="http://schemas.openxmlformats.org/drawingml/2006/table">
            <a:tbl>
              <a:tblPr/>
              <a:tblGrid>
                <a:gridCol w="1279440"/>
                <a:gridCol w="1279440"/>
                <a:gridCol w="1729080"/>
                <a:gridCol w="1197000"/>
                <a:gridCol w="1188720"/>
                <a:gridCol w="1190880"/>
                <a:gridCol w="1279440"/>
              </a:tblGrid>
              <a:tr h="87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م الدو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غالبية الفينوكيازينات 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OXANTHENES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oridaz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OPERIDOL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IN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ANZAPI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TIAPI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PERIDO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INDOL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تاح  : + حصر , - لا يؤثر , يشير عدد (+) إلى شدة حصر المستقب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7288560" y="2595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3933360"/>
            <a:ext cx="77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أخرى :  هبوط ضغط نتيجة حصر مستقبلات ألفا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إطلاق البرولاكتين  نتيجة حص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خام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قوية للمستقبل الهيستامين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868280"/>
            <a:ext cx="773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تستقلب بواسطة جملة السيتوكر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4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كبد و تكون بعض المستقلبات فعال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4360" y="573336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 تأثيرات خارج هرمية – عسر حركة آج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ve dyskines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- تخليط ذهني – جفاف فم – احتباس بول – هبوط ضغط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48276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ة للنفاس حيث تنقص الهياج و الاهلاسات المرافقة للفصام 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8360" y="91512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 خارج هرم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apyramidal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نتيجة حصر المستقبلات الدوبامينيرجية يختل التوازن بين التأثيرات المثبطة للدوبامين و التأثيرات المحرضة الكولينرجية فتظهر الأعراض الباركنسونية غير المرغوبة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05992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 مضاد للقي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emetic  effa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 لأنها تحص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منطقة إطلاق المستقبل الكيميائي في البصل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570760"/>
            <a:ext cx="78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 rtl="1"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 مضادة للموسكار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muscarinic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بعض مضادات الذهان تسبب تأثيرات مضادة للكولين , هذا يخفف من التأثيرات خارج هرمية و خاص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zapine - chlorpromazine – thioridazine – olanzap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بينما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operid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phenaz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تملك فعالية منخفضة مضادة للكول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6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000" y="2013120"/>
            <a:ext cx="899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ضادة للاكتئا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Andalus"/>
              </a:rPr>
              <a:t>ANTIDEPRESSANT DRU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929280" y="9802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صنيف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513440"/>
            <a:ext cx="78930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عود التقاط السيرتونين الانتقائي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elective Serotonin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SRI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عود التقاط السيرتونين و النور ابي نيفر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erotonin / NorEpinephrine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SNR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ضادات الاكتئاب اللانموذجية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Antidepressants Atypic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ضادات الاكتئاب ثلاثية الحلقة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Tricyclic Antidepressant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TA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Simplified Arabic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ثبطات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Mono Amine Oxidase Inhibitors 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O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0" y="38671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040" y="408564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684520" y="6202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عود التقاط السيرتونين الانتقائية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ive Serotonin Re-Uptake Inhibitors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SR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63640" y="4652640"/>
            <a:ext cx="68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OXETINE – CITALOPRAM – ESCITALOP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VOXAMINE – PAROXETINE – SERTRA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1989000"/>
            <a:ext cx="75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ط بشكل نوعي إعادة التقاط السيرتونين الانتقائية وبالتالي زيادة تراكيز الناقل العصبي ف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سافات الشبكية و بالنهاية زيادة فعالية  العصبون بعد المشبك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5200" y="2781360"/>
            <a:ext cx="1015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لك قدرة ضئيلة على حصر المستقبلات الموسكارينية و الأدرينرجية ألفا و الهيستامينية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91400" y="3278160"/>
            <a:ext cx="63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أثيراتها الجانبية قليلة وآمنة نسبياً حتى بالجرعات العالية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0" y="3860640"/>
            <a:ext cx="63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ي أدوية الخيار الأول لعلاج الاكتئاب , حلت مكان مضادات الاكتئاب ثلاثية الحل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مثبطات الأوكسيداز أحادي الأم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9000"/>
                            </p:stCondLst>
                            <p:childTnLst>
                              <p:par>
                                <p:cTn id="346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1440" y="1133640"/>
            <a:ext cx="3886200" cy="34732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22120" y="4566240"/>
            <a:ext cx="4516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atic diagram showing some of the potential sites of action of antidepressant drugs. Chro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rapy with these drugs has been proved to reduce reuptake of norepinephrine or serotonin (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h), reduce the number of postsynaptic receptors, and reduce the generation of cAMP.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O inhibitors act on MAO in the nerve terminals and cause the same effects on receptors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P gen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60840" y="404280"/>
            <a:ext cx="71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إعادة التقاط النور ابي نفرين و السيرتوني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otonin / Nor Epinephrine Re-Uptake Inhibitors  (SN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52000" y="141228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ذه المجموعة تقوم بالتثبيط الانتقائي لاعادة التقا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كل من السيرتونين والنور ابي نيفرين معا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0920" y="22118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ا تملك أي فعالية على المستقبلات الأدرنرجية أو الموسكارينية أو الهيستامينية و بالتالي تأثيراتها الجانبية أق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371592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LAFAXINE – DULOXE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19640" y="2483640"/>
            <a:ext cx="736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comic"/>
                <a:cs typeface="Andalus"/>
              </a:rPr>
              <a:t>الأدوية المنومة المركن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"/>
                <a:ea typeface="Andalus"/>
              </a:rPr>
              <a:t>ANXIOLYTIC AND HYPNOT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comic"/>
                <a:cs typeface="Andalus"/>
              </a:rPr>
              <a:t>أو المهدئات الصغر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340640" y="475560"/>
            <a:ext cx="78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الاكتئاب الثلاثية الحلقة :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cyclic Antidepressants  (TA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640" y="1051920"/>
            <a:ext cx="88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ضم الأمينات الثلاث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PRAMINE – AMITRIPTYLINE – CLOMIPRAMINE – DOXEPIN – TRIMIPRA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-360" y="2139480"/>
            <a:ext cx="90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مينات الثانو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RIPTYLINE – DESIPRAMINE – AMOXAPINE MAPROTILINE PROTRIPTY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01480" y="3572640"/>
            <a:ext cx="88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تمد اختيار الدواء على مدى تحمل المريض للتأثيرات الجانبية و على  مدة التأثي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2320" y="4084200"/>
            <a:ext cx="88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صر التقاط النورابي نيفرين و السيرتونين إلى داخل العصبو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صر المستقبلات السيروتونينية - الأدرنرجية ألفا -  الموسكارينية – الهيستام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1090800" y="4941720"/>
            <a:ext cx="11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استخدام العلاج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ستخدم لعلاج الاكتئاب الشدي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الايمبيرامين للسيطرة على بوال الفراش عند الأطفال عن طريق تقليص المصرة الداخلية للمثا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الأميتربتلين لعلاج ألم الاعتلال العصبي المزم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158760"/>
          <a:ext cx="9144000" cy="6556320"/>
        </p:xfrm>
        <a:graphic>
          <a:graphicData uri="http://schemas.openxmlformats.org/drawingml/2006/table">
            <a:tbl>
              <a:tblPr/>
              <a:tblGrid>
                <a:gridCol w="1671480"/>
                <a:gridCol w="1347840"/>
                <a:gridCol w="2264040"/>
                <a:gridCol w="928440"/>
                <a:gridCol w="2932200"/>
              </a:tblGrid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عود التقا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عود التقا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حصر المستقبلات الموسكاري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رك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سم الدوا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ثلاثية الحلقة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XEP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PRAMINE , PRO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PRAMINE , NOR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ختلفة الحلقة الجيل الثان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PROPIO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ROTI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مختلفة الحلقة الجيل الثالث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TA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LAFAXI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عود التقاط السيرتونين الانتقائية</a:t>
                      </a:r>
                      <a:r>
                        <a:rPr b="0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XETINE – CITALOPRAM –PAROXETINE – SERTRALINE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Y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فتاح  : - لا يؤثر , ++ تأثير متوسط , + تأثير خفيف , +++ تأثير شدي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080" y="1556640"/>
            <a:ext cx="84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ثبطات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I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 Amine Oxidase Inhibi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1571400" y="2204280"/>
            <a:ext cx="122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وكسيداز أحادي الأمين هو أنزيم ميتوكندري موجود في النسيج  العصبي و الأنسجة الأخرى مثل المعي و الكبد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889920" y="2851920"/>
            <a:ext cx="111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ؤكسد 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كاتيكولامينات ( نور ابي نيفرين – دوبامين – سيروتونين ) خارج الحويصلات المشبك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4360" y="3370680"/>
            <a:ext cx="80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يط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عدم تدرك جزيئات الناقل العصبي تسمح بتراكم  الكاتيكولامينات قبل المشبك و تسريبها إلى المسافة المشبكية مما يسسب تفعيل مستقبلات السيروتونينية و النورابي نيفرين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81400" y="4658760"/>
            <a:ext cx="63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وافر حالياً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أدوية من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لمعالجة الاكتئاب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ELZINE – ISOCARBOXAZID – TRANYLCYPROM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500"/>
                            </p:stCondLst>
                            <p:childTnLst>
                              <p:par>
                                <p:cTn id="4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2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735280" y="256320"/>
            <a:ext cx="66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ضادات الاكتئاب اللانموذج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depressants Atyp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79720" y="879120"/>
            <a:ext cx="77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ي مجموعة مختلطة من الأدوية التي تؤثر بعدة طرق مختلفة و تضم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ZODONE – NEFAZODONE – MIRTAZAPINE – BUPROP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364920" y="1705680"/>
            <a:ext cx="611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صر الميرتازابين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مستقبلات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ِ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-460800" y="2309040"/>
            <a:ext cx="107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صر النيفازودون و الترازودون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قبل المشبك فتؤدي لزيادة تحرر السيروتونين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498680" y="2863800"/>
            <a:ext cx="6253200" cy="356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3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1618560" y="548640"/>
            <a:ext cx="122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إن مضادات الاكتئاب تستغرق نموذجياً اسبوعين لتعطي التحسن بالمزاج و الفائدة العظمى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سبوع أو أكثر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9640" y="1354680"/>
            <a:ext cx="813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نتيجة حصر الأستيل كولين : تشوش بالرؤية - جفاف فم –احتباس بول – إمساك – صرع – تفاقم الزر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يه الكاتيكولامين يسبب تنبيه القل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حصر مستقبلات ألفا  يسبب هبوط ضغط – تسرع قلب انعكاس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132000" y="14400"/>
          <a:ext cx="2808360" cy="683892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عود التقاط السيرتونين الانتقائية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ALOPR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ITALOPRAM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VOX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TRA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إعادة التقاط النور ابي نفرين و السيرتوني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LAFAX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LOXET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ضادات الاكتئاب اللانموذجي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RTAZ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FAZOD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ZODO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ضادات الاكتئاب الثلاثية الحلقة 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XAP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XEPIN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ROTI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RIPTYL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MIPRAM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ثبطات المونوأمين أوكسيدا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ELZIN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YLCYPROMIDE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6" name=""/>
          <p:cNvGrpSpPr/>
          <p:nvPr/>
        </p:nvGrpSpPr>
        <p:grpSpPr>
          <a:xfrm>
            <a:off x="5565600" y="189000"/>
            <a:ext cx="3240360" cy="4119480"/>
            <a:chOff x="5565600" y="189000"/>
            <a:chExt cx="3240360" cy="4119480"/>
          </a:xfrm>
        </p:grpSpPr>
        <p:sp>
          <p:nvSpPr>
            <p:cNvPr id="287" name=""/>
            <p:cNvSpPr/>
            <p:nvPr/>
          </p:nvSpPr>
          <p:spPr>
            <a:xfrm>
              <a:off x="6861240" y="189000"/>
              <a:ext cx="1944720" cy="6426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اضطراب معدي معوي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579640" y="4078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579640" y="6382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579640" y="89856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9640" y="112860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5565600" y="140328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579640" y="163512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5565600" y="208440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5565600" y="234648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579640" y="429084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5579640" y="3071880"/>
              <a:ext cx="6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0600" y="406440"/>
              <a:ext cx="5950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6226200" y="406440"/>
              <a:ext cx="14400" cy="39020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5397120" y="2816280"/>
            <a:ext cx="3480120" cy="3832200"/>
            <a:chOff x="5397120" y="2816280"/>
            <a:chExt cx="3480120" cy="3832200"/>
          </a:xfrm>
        </p:grpSpPr>
        <p:sp>
          <p:nvSpPr>
            <p:cNvPr id="301" name=""/>
            <p:cNvSpPr/>
            <p:nvPr/>
          </p:nvSpPr>
          <p:spPr>
            <a:xfrm>
              <a:off x="7213680" y="6280200"/>
              <a:ext cx="1663560" cy="368280"/>
            </a:xfrm>
            <a:prstGeom prst="rect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كسب الوزن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676560" y="6473880"/>
              <a:ext cx="5079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76920" y="2816280"/>
              <a:ext cx="0" cy="365760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5427720" y="281628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5397120" y="3789360"/>
              <a:ext cx="12495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411880" y="431172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411880" y="477684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425560" y="5022720"/>
              <a:ext cx="124956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5411880" y="5981760"/>
              <a:ext cx="1249200" cy="0"/>
            </a:xfrm>
            <a:prstGeom prst="line">
              <a:avLst/>
            </a:prstGeom>
            <a:ln w="381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1520" y="3773520"/>
            <a:ext cx="3024000" cy="3191760"/>
            <a:chOff x="371520" y="3773520"/>
            <a:chExt cx="3024000" cy="3191760"/>
          </a:xfrm>
        </p:grpSpPr>
        <p:sp>
          <p:nvSpPr>
            <p:cNvPr id="311" name=""/>
            <p:cNvSpPr/>
            <p:nvPr/>
          </p:nvSpPr>
          <p:spPr>
            <a:xfrm>
              <a:off x="371520" y="6048360"/>
              <a:ext cx="2201760" cy="91692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احتمال كبير لهبوط الضغط الانتصابي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83000" y="6486480"/>
              <a:ext cx="7840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83000" y="6718320"/>
              <a:ext cx="7840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68600" y="3773520"/>
              <a:ext cx="0" cy="22636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97040" y="4773600"/>
              <a:ext cx="78444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1600" y="3800520"/>
              <a:ext cx="8539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0920" y="260280"/>
            <a:ext cx="3144600" cy="5705640"/>
            <a:chOff x="250920" y="260280"/>
            <a:chExt cx="3144600" cy="5705640"/>
          </a:xfrm>
        </p:grpSpPr>
        <p:sp>
          <p:nvSpPr>
            <p:cNvPr id="318" name=""/>
            <p:cNvSpPr/>
            <p:nvPr/>
          </p:nvSpPr>
          <p:spPr>
            <a:xfrm>
              <a:off x="250920" y="260280"/>
              <a:ext cx="1996920" cy="642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Y" sz="1800" spc="-1" strike="noStrike">
                  <a:solidFill>
                    <a:srgbClr val="000000"/>
                  </a:solidFill>
                  <a:latin typeface="Arial"/>
                </a:rPr>
                <a:t>تركين قد يفيد من أجل الهيا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49640" y="87156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49640" y="942840"/>
              <a:ext cx="0" cy="502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63680" y="11476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3680" y="284652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63680" y="30780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63680" y="33256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49640" y="38466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49640" y="40356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49640" y="42958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5240" y="480384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35240" y="502128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49640" y="525456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9640" y="550080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35240" y="5965920"/>
              <a:ext cx="11318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43160" y="2433960"/>
            <a:ext cx="822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داء باركونسو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ea typeface="Andalu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"/>
                <a:ea typeface="Andalus"/>
              </a:rPr>
              <a:t>PARKINSON 'S DISEA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3291120" cy="4124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95280" y="4939920"/>
            <a:ext cx="8466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matic representation of the sequence of neurons involved in parkinsonism and Huntington'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rea. Top: Dopaminergic neurons (color) originating in the substantia nigra normally inhibit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BAergic output from the striatum, whereas cholinergic neurons (gray) exert an excit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. Middle: In parkinsonism, there is a selective loss of dopaminergic neurons (dashed, color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tom: In Huntington's chorea, some cholinergic neurons may be lost (gray), but even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BAergic neurons (black, dashed) degener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808200"/>
            <a:ext cx="4319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رتبط هذا الداء بتخرب خلايا المادة السوداء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TANTIA NIGR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تي تسبب تنكساً في العصبونات الدوبامنرجية المسؤولة عن إفراز الدوبامين في الجسم المخطط الجد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OSTRIA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ما ينقص التأثير المثبط المعدل الطبيعي للدوبامين مسبباً زيادة انتاج الاستيل كولين الذي يحرض سلسلة من الاشارات الشاذة ينجم عنها فقدان السيطرة على الحركات العض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36880" y="393840"/>
            <a:ext cx="3722760" cy="4906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53800" y="5653080"/>
            <a:ext cx="8619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circuitry between the cortex, basal ganglia, and thalamus. The invol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urotransmitters are indicated. In Parkinson's disease, there is degeneration of the pars comp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the substantia nigra, leading to overactivity in the indirect pathway (color) and incre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utamatergic atergic activity by the subthalamic nucle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460560" y="2189880"/>
            <a:ext cx="17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odo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285948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عمل(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odopa ( l-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ذي هو طليعة للدوبامين بدلا من الدوبامين لأن الدوبامين ذو جاهزية حيوية قليلة و لا يعبر بثبات الحاجز الدموي الدماغي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55640" y="42994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طى الليفودوبا عادة م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i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هو دواء لا يستطيع عبور الحاجز الدموي الدماغي و لكنه يث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يكاربوكسيلاز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سج المحيطية , هذه المشاركة تخفض من جرعة الليفودوبا و بالتالي تنقص من شدة التأثيرات الجانبية عن الدوبامين المتشكل في المحيط .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393300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حول الحمض الأميني إلى دوبامين بواسطة أنزيم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يكاربوكسيلاز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84360" y="1059120"/>
            <a:ext cx="79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ستراتيجيات  المعالجة الدوائية لداء باركنسون العمل على زيادة فعالية الدوبامين الدماغي أو انقاص الفعالية الكولنرجية المسكارينية في الدماغ أو كلاهم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85080"/>
            <a:ext cx="79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مستعملة في داء باركنسو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3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89320" y="1279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دوية المنومة المركن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7680" y="22161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أدوية أخ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89320" y="22161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باربيتوريات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RBITURA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4960" y="22161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بنزوديازيبينات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enzodiazep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4960" y="3583080"/>
            <a:ext cx="10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28600" y="4383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متوسط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1320" y="48798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طو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>
            <a:stCxn id="46" idx="2"/>
            <a:endCxn id="47" idx="0"/>
          </p:cNvCxnSpPr>
          <p:nvPr/>
        </p:nvCxnSpPr>
        <p:spPr>
          <a:xfrm rot="5400000">
            <a:off x="838440" y="2788200"/>
            <a:ext cx="726120" cy="8643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/>
          <p:nvPr/>
        </p:nvCxnSpPr>
        <p:spPr>
          <a:xfrm flipV="1" rot="10800000">
            <a:off x="1632960" y="2856960"/>
            <a:ext cx="1080" cy="130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/>
          <p:nvPr/>
        </p:nvCxnSpPr>
        <p:spPr>
          <a:xfrm flipH="1" rot="16200000">
            <a:off x="1197360" y="3298680"/>
            <a:ext cx="2022840" cy="1152720"/>
          </a:xfrm>
          <a:prstGeom prst="bentConnector3">
            <a:avLst>
              <a:gd name="adj1" fmla="val 176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3362400" y="365436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 جدا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26040" y="4454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قصي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78400" y="49514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دة التأثير طوي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endCxn id="53" idx="0"/>
          </p:cNvCxnSpPr>
          <p:nvPr/>
        </p:nvCxnSpPr>
        <p:spPr>
          <a:xfrm rot="5400000">
            <a:off x="3935520" y="2859480"/>
            <a:ext cx="726120" cy="86436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/>
          <p:nvPr/>
        </p:nvCxnSpPr>
        <p:spPr>
          <a:xfrm flipV="1" rot="10800000">
            <a:off x="4730040" y="2928600"/>
            <a:ext cx="1080" cy="130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/>
          <p:nvPr/>
        </p:nvCxnSpPr>
        <p:spPr>
          <a:xfrm flipH="1" rot="16200000">
            <a:off x="4294440" y="3370320"/>
            <a:ext cx="2022840" cy="1152720"/>
          </a:xfrm>
          <a:prstGeom prst="bentConnector3">
            <a:avLst>
              <a:gd name="adj1" fmla="val 1765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3" idx="2"/>
            <a:endCxn id="44" idx="0"/>
          </p:cNvCxnSpPr>
          <p:nvPr/>
        </p:nvCxnSpPr>
        <p:spPr>
          <a:xfrm flipH="1" rot="16200000">
            <a:off x="5775840" y="526680"/>
            <a:ext cx="570600" cy="280908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45" idx="0"/>
          </p:cNvCxnSpPr>
          <p:nvPr/>
        </p:nvCxnSpPr>
        <p:spPr>
          <a:xfrm>
            <a:off x="4657320" y="1645920"/>
            <a:ext cx="1080" cy="57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3" idx="2"/>
            <a:endCxn id="46" idx="0"/>
          </p:cNvCxnSpPr>
          <p:nvPr/>
        </p:nvCxnSpPr>
        <p:spPr>
          <a:xfrm rot="5400000">
            <a:off x="2860200" y="419040"/>
            <a:ext cx="570600" cy="302472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6529320" y="2719440"/>
            <a:ext cx="208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SPIR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LORALHYD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PROBA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LEP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OLPID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1880" y="90684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400" spc="-1" strike="noStrike">
                <a:solidFill>
                  <a:srgbClr val="000000"/>
                </a:solidFill>
                <a:latin typeface="Arial"/>
              </a:rPr>
              <a:t>التصني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69920" y="279360"/>
            <a:ext cx="4906800" cy="6245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5364000" y="1357560"/>
            <a:ext cx="3456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te of orally administered levodopa and the effect of carbidopa, estimated from animal data.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dth of each pathway indicates the absolute amount of the drug present at each site, while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ages shown denote the relative proportion of the administered dose. The benefi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dministration of carbidopa include reduction of the amount of levodopa diverted to periph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ssues and an increase in the fraction of the dose that reaches the brain. (GI, gastrointestinal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Nutt JG, Fellman JH: Pharmacokinetics of levodopa. Clin Neuropharma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:3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-640440" y="548640"/>
            <a:ext cx="109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تص الدواء بسرعة من الأمعاء الدقيقة عند إعطائه على معدة فارغة قبل تناول الطعام بـ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0040" y="2997000"/>
            <a:ext cx="995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داخلاته الدوائية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زيد فيتا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ن الاستقلاب المحيطي لليفودوبا و ينقص من فعاليته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دث نوبة ارتفاع ضغط بمشاركته مع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الأدوية المضادة للذهان هي مضاد استطباب في داء باركنسون لأنها تحصر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-59040" y="1341360"/>
            <a:ext cx="1022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سبب تنبيه مركز القيء يحدث غثيان و إق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سلوكية : قد يحدث إهلاسات سمعية و بصرية بتأثيره على الجملة العصبية المركز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نجم تسرع القلب و خوارج الانقباض البطينية عن التأثير الدوبامينرجي على القلب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عسر الحركة : تحدث حركات رقصية في الوجه و الأطراف البعيدة غالباً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1040" y="691560"/>
            <a:ext cx="47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قلدات الدوبامين على مستقبله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هي مقويات لمستقبل الدوبامين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54760" y="1404360"/>
            <a:ext cx="782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دوائين قديمين من مشتقات الارغو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mocriptine - pergo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84000" y="1836000"/>
            <a:ext cx="76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دوائين حديثين ليسا من مشتقات الارغو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pinirole - pramipexo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80720" y="269172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ANTAD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33240" y="3213000"/>
            <a:ext cx="61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لك عدة تأثيرات على عدد من النواقل العصب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إفراز الدوبام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حصر المستقبلات الكولينرج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ثبيط مستقبلات الغلوتام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71240" y="5077800"/>
            <a:ext cx="37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GI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أو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RANY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-1018080" y="5509440"/>
            <a:ext cx="111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و مثبط انتقائي ل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( التي تستقلب الدوبامين ) فيزيد من مستويات الدوبامين الدماغ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897920" y="476280"/>
            <a:ext cx="715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مثبط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CHOL-O – METHYLTRANSFERASE ( COM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47080" y="981000"/>
            <a:ext cx="41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LCAPONE – ENTACAPO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1370520" y="1484280"/>
            <a:ext cx="11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هما من مثبطات أنزي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T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أنزيم المسؤول عن تحول الليفودوبا إ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-methyldopa ( 3omd)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1916280"/>
            <a:ext cx="808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زدياد مستزي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om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يترافق مع استجابة ضعيفة على الليفودوبا لأن المركب يتنافس مع الليفودوبا على النقل الفاعل  إلى الجملة العصبية المركز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13640" y="3141720"/>
            <a:ext cx="349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أدوية المضادة للكولين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-487440" y="2565360"/>
            <a:ext cx="101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عمل الدواء بالمشاركة م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odopa – cabidopa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لأنه يحسن و يطيل الاستجابة مع الزم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10720" y="3644640"/>
            <a:ext cx="795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قص من التأثيرات المنبهة للأعصاب الكولينرجية في الجسمم المخط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لعب دوراً مساعداً فقط في معالجة داء باركنسو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hoxypyhenidyl  - benzatrop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500"/>
                            </p:stCondLst>
                            <p:childTnLst>
                              <p:par>
                                <p:cTn id="5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-855720" y="2534400"/>
            <a:ext cx="1083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5400" spc="-1" strike="noStrike">
                <a:solidFill>
                  <a:srgbClr val="000000"/>
                </a:solidFill>
                <a:latin typeface="comic"/>
                <a:cs typeface="Andalus"/>
              </a:rPr>
              <a:t>منبهات الجملة العصبية المركز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"/>
                <a:ea typeface="Andalus"/>
              </a:rPr>
              <a:t>central nervous system stimu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462040" y="475560"/>
            <a:ext cx="64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نبهات النفسية الحرك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YCHOMOTOR  STIMU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27080" y="1340640"/>
            <a:ext cx="88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حدث إثارة و نشوة إضافة إلى تحسين الشعور بالتعب و تنشيط الفعالية الحرك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083840"/>
            <a:ext cx="777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ثبيط أنزيم الفوسفودي استيرا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sphodiest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الذي يحو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M.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غير الفعال مما يؤدي إلى ارتفاع الادينوزين أحادي الفوسفات الحلق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الغوانوزين أحادي الفوسفات الحلق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صر مستقبلات الادينوزين مما يسبب توسع الأوع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65000" y="1915560"/>
            <a:ext cx="59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شمل المنبهات النفسية الحركية  المجموعات التالي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51360" y="3499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53240" y="2491920"/>
            <a:ext cx="537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ميتيل كزانتين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HYXANTH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PHYLLINE – THEOBROMINE – CAFFE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5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3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5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044760" y="619920"/>
            <a:ext cx="22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-1319760" y="1628640"/>
            <a:ext cx="1179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يه الجملة العصبية المركزية يسبب زيادة في الانتباه العقلي نتيجة لتنبيه القشر و مناطق الدماغ الأخر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الجهاز القلبي الوعائي : زيادة ضربات ونتاج القلب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له تأثير مدر خفي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نبه إفراز حمض كلور الماء من المخاطية المع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-881640" y="3212640"/>
            <a:ext cx="112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تص بشكل جيد فموياً و تتوزع في كامل الجسم بما فيه الدماغ – تعبر المشيمة و تفرغ في حليب الأ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4640" y="4436640"/>
            <a:ext cx="77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اول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ناجين قهوة يومياً =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غ كافئين يحدث وسن و هياج وصداع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790240" y="691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نيكوت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ot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91000" y="1483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80800" y="2133000"/>
            <a:ext cx="82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الجرعات الصغيرة ينبه العقد بوساطة زوال الاستقطا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olar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بالجرعات العالية يحصر العق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nglionic block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74320" y="2923920"/>
            <a:ext cx="933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متص بسهولة عبر مخاطية الفم و الرئتين في و المخاطية المعدية و المعوية و الجلد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يعبر المشيمة و يفرز في حليب الأ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5480" y="4076280"/>
            <a:ext cx="85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نيكوتين مادة مدمنة حيث يتطور الاعتماد الفيزيائي بسرعة و يكون شديدا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ميز السحب بالقلق و الهياج و عدم الراحة و صعوبة التركيز و الصداع و الأر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00"/>
                            </p:stCondLst>
                            <p:childTnLst>
                              <p:par>
                                <p:cTn id="6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0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000"/>
                            </p:stCondLst>
                            <p:childTnLst>
                              <p:par>
                                <p:cTn id="6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594840" y="2865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كوكائ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ca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57240" y="538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حصر إعادة التقاط النورإبي نيفرين و السيرتونين و الدوبامين إلى داخل النهايات قبل المشبكية مركزياً و محيطياً , هذا يطيل التأثيرات المركزية و المحيطية لأحاديات الأمين هذه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إطالة تأثير الدوبامين في الجهاز اللمبي يحدث النشو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964040" y="1503360"/>
            <a:ext cx="391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نبه الكوكائين القشر و جذع الدماغ و هذا يؤ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إلى تنشيط الادراك الفكري و الشعور بالنش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كما يسبب الاهلاس و الأوها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808880" y="2910960"/>
            <a:ext cx="461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تأثير النورإبي نيفرين محيطياً ينت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سرع قلب –ارتفاع ضغط – توسع حدق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 تقبض وعائي محيط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475160" y="3971520"/>
            <a:ext cx="51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بب ارتفاع حرارة حيث يثبط كل من التعر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 توسع الأوعية الجل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88160" y="4872960"/>
            <a:ext cx="56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ه تأثير مخدر موضعي بسبب حصر أقنية الصوديو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19200" y="5694120"/>
            <a:ext cx="730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ؤخذ ذاتياً عن طريق المضغ و الاستنشاق إلى داخل الانف و التدخين و الحقن الوريد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ذروة تأثيره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من استنشاقه بالأنف و تختفي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ساع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7720" y="539208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حرائك الدوائي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okinetic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84320" y="1473120"/>
            <a:ext cx="4348080" cy="420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000"/>
                            </p:stCondLst>
                            <p:childTnLst>
                              <p:par>
                                <p:cTn id="7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703120" y="5486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أمفيتامين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hetam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35800" y="1124640"/>
            <a:ext cx="657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بب تأثيرات عصبية و سريرية تماثل تماما تأثير الكوكائ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51360" y="169956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5280" y="2133720"/>
            <a:ext cx="835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ثبط إعادة التقاط النورإبي نيفرين و الدوبامين مركزياً و محيطيا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زيادة تحرر الكاتيكولامينات في المشابك الود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ثبط الأوكسيداز أحادي الأم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نتيجة هذه الآليات تزداد كمية الكاتيكولامينات في المسافات المشبكية فيزداد تفعيل المستقبلات الأدرنرجية و الدوبامينيرج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603200" y="39348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4154400"/>
            <a:ext cx="80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نبه المحور الدماغي الشوكي كاملاً و القشر و جذع الدماغ و البصلة . هذا يؤدي إلى نقص الاحساس بالتعب – تثبيط الشهية و الأرق . و يمكن أن تحدث اختلاجات بالجرعات العا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قادت هذه التأثيرات المنشطة على الجملة العصبية المركزية إلى استخدامه في معالجة الاكتئاب – فرط نشاط عند الأطفال – نعاس شد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rcolep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- السيطرة على الشه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4000"/>
                            </p:stCondLst>
                            <p:childTnLst>
                              <p:par>
                                <p:cTn id="7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17228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2964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17228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7228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29640" y="-9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2964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7228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729640" y="-73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7228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2964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7228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729640" y="-303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7228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2964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7228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7228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29640" y="12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72964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7228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228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729640" y="33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2964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7228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72964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17228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2964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7228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7228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29640" y="982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2964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7228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7228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729640" y="1197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2964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7228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729640" y="1411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7228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2964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17228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29640" y="164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72280" y="23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72280" y="2354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29640" y="3532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9640" y="3532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689280" cy="3575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4560120"/>
            <a:ext cx="53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 model of the GABAA receptor-chloride ion channel macromolecular complex (many oth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uld be proposed). A heteroligomeric glycoprotein, the complex consists of five or mo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brane-spanning subunits. Multiple forms of , , and subunits are arranged in differ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ntameric combinations so that GABAA receptors exhibit molecular heterogeneity. GA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ears to interact with or subunits triggering chloride channel opening with result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mbrane hyperpolarization. Binding of benzodiazepines to subunits or to an area of the un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luenced by the unit facilitates the process of channel opening but does not directly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loride current. (Modified and reproduced, with permission, from Zorumsky CF, Isenberg KE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sights into the structure and function of GABA-benzodiazepine receptors: Ion channels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ychiatry. Am J Psychiatry 1991;148:162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08600" y="33264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50800" y="20059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1200" spc="-1" strike="noStrike">
                <a:solidFill>
                  <a:srgbClr val="000000"/>
                </a:solidFill>
                <a:latin typeface="Arial"/>
                <a:ea typeface="Simplified Arabic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490760"/>
            <a:ext cx="34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تواجد مستقبلات البنزوديازيبينات في العديد من المناطق الدماغية ( المهاد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THALAM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– الجهاز اللمبي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LIMBIC SYSTEM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– قشرة الدماغ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84640" y="1027080"/>
            <a:ext cx="48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بنزوديازيبينات</a:t>
            </a: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zodiazep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2612880"/>
            <a:ext cx="330516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تشكل مستقبلات البنزوديازيبينات جزء من مستقبل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Akhbar MT"/>
              </a:rPr>
              <a:t>A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المرتبط بقناة الكلور الشاردية التي تنفتح عند ارتباط الناقل العصبي المثبط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Akhbar MT"/>
              </a:rPr>
              <a:t>مع مستقبله فتسبب فرط استقطاب صغير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4306680"/>
            <a:ext cx="31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رتباط البنزوديازيبينات مع المستقبل يعزز ألفة المستقبل للناقل المثبط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GAB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Times New Roman"/>
                <a:ea typeface="Akhbar MT"/>
              </a:rPr>
              <a:t> مما يسبب انفتاحاً أكبر تواتراً لقنوات الكلور المجاورة فيعزز فرط الاستقطاب محدثاُ تثبيطاُ إضافياُ للتنبيه العصب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353960" y="2462040"/>
            <a:ext cx="639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000000"/>
                </a:solidFill>
                <a:latin typeface="Arial"/>
                <a:cs typeface="Andalus"/>
              </a:rPr>
              <a:t>المهلس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omic"/>
              </a:rPr>
              <a:t>HALLUCINOG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-585000" y="548640"/>
            <a:ext cx="106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تج تغيرات عميقة في نماذج التفكير و المزاج مع تأثير خفيف على جذع الدماغ و الحبل الشوك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17000" y="112464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SERGIC ACID DIETHYLAMIDE ( LSD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-582120" y="1628280"/>
            <a:ext cx="106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له فعالية مقلدة للسيرتونين في المستقبلات ما قبل المشبكية في الدماغ المتوسط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فعل الجملة العصبية الودية فيؤدي إلى توسع حدقة – زيادة الضغط الدموي – زيادة حرارة الجس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ناول جرعات قليلة منه تحدث إهلاسات مع ألوان متالقة و تغيراً في المزاج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30560" y="2780640"/>
            <a:ext cx="55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تراهيدروكامابينو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HYDROCANNABI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321984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قلويد الرئيسي الموجود في الماريجوانا ( الحشيش ) هو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ONABI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ويدعى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دلتا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تراهيدروكامابينو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778280" y="4291920"/>
            <a:ext cx="39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آلية ال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84360" y="4941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وجد 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مسماة بمستقبل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في النهايات العصبية المثبطة الموجودة قبل المشبك و يقتر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B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مع البروتين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4000"/>
                            </p:stCondLst>
                            <p:childTnLst>
                              <p:par>
                                <p:cTn id="7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7345440" y="5486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94680" y="1197000"/>
            <a:ext cx="5532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حدث الدرونابينو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نشوة يتبعها وسن و ارتخ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يضعف الذاكرة القريبة و الفعالية العق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نقص القوة العقل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ضعف الفعالية الحركية عالية الدقة و المهارة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زيد الشه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يحدث إهلاسات بصرية و توهمات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62360" y="349344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استخدام العلاج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38196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لمرض متلازمة عوز المناعة المكتس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ذين ليهم خسارة في الوز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عطى في الاقياءات الشديدة الناجمة عن بعض ادوية المعالجة الكيمياوية للسرط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ظهر تأثيراته مباشرة بعد تدخين العقار و يستغرق الوصول إلى التأثيرات الأعظمية حوالي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, و تزول بعد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ساع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82400" y="5444640"/>
            <a:ext cx="63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erse eff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زيادة سرعة القلب – انخفاض الضغط – احمرار الملتحم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8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84040" y="488520"/>
            <a:ext cx="987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تأثيرات الجانبية لمنبهات الجملة العصبية المركزية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ها على الجملة العصبية المركزية  : يتبع تنبيه الجملة العصبية المركزية  همود عقل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قلبية تسرع قلب – ارتفاع ضغط – ألم خناق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أثيرات معدية معوية : غثيان – مغص بطني – إسهال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55640" y="9882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ثبط الفعالية العصبية في الدماغ المتوسط للتشكل المشبكي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سهل وتطيل التأثير المثبط للغابا والغليسين حيث تزيد مدة فتح قناة الكلور الشاردية بتوسط الغابا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مواقع ارتباطها مميزة عن مواقع البنزوديازيبين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تحصر مستقبلات الغلوتامات الاستثاري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- البنتوباربيتال بالتراكيز العالية يحصر قنوات الصوديوم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84080" y="450720"/>
            <a:ext cx="43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باربيتوريات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BITURA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07440" y="26359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أدوية أخرى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2840760"/>
            <a:ext cx="763272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PI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دواء حال للقلق مع تأثيرات قليلة مثبطة للجملة العصبية المركز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تواسط تأثيره مستقبلات السيرتونين الدماغية</a:t>
            </a:r>
            <a:r>
              <a:rPr b="1" i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Y" sz="1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خفض الحرارة و يزيد من مستوى هرمون البرولاكتين و هرمون النمو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قلب بواسطة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P3A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و بالتالي يكون نصف عمره قصير إذا أخذ مع الريفامبسين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ويصبح نصف عمره طويل إذا أخذ مع الاريترومايسي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48758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المنومات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LEPLON   ,  ZOLPID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ليست من البنزوديازيبينات و لكنها تؤثر على المستقبلات البنزوديازيبينية النوعية التي صنفت على شكل مجموعات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Z1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MEG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156960" y="6092280"/>
            <a:ext cx="10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مكن معاكسة تأثيرات هذه المجموعة على الجملة العصبية المركزية بال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MAZEN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030640" y="318240"/>
            <a:ext cx="41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000" spc="-1" strike="noStrike">
                <a:solidFill>
                  <a:srgbClr val="000000"/>
                </a:solidFill>
                <a:latin typeface="Arial"/>
              </a:rPr>
              <a:t>التأثيرات و الاستعمال السريري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04320" y="764280"/>
            <a:ext cx="78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عتمد أغلب التأثيرات العصبية المركزية للمنومات المركنة على </a:t>
            </a:r>
            <a:r>
              <a:rPr b="1" lang="ar-SY" sz="1800" spc="-1" strike="noStrike" u="sng">
                <a:solidFill>
                  <a:srgbClr val="000000"/>
                </a:solidFill>
                <a:uFillTx/>
                <a:latin typeface="Arial"/>
              </a:rPr>
              <a:t>الجرعة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908000"/>
            <a:ext cx="5089320" cy="38260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17440" y="5798520"/>
            <a:ext cx="706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se-response curves for two hypothetical sedative-hypnot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1443600" y="1268280"/>
            <a:ext cx="116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تراوح هذه التأثيرات من التركين و زوال القلق عبوراً بالتأثير المنوم ( تسهل النوم ) إلى التخدير و السب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4360" y="56088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أثير الحال للقلق و المركن : تعتبر مركبات البنزوديازيبينات المتوسطة و المديدة التأثير من الأدوية المفضلة لمعالجة غالبية حالات القلق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28160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ضطربات النو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 DISOR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تحرض على بدء النوم و تزيد من مدت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ZOLAM , FLURAZEPAM , TRIAZOLAM , ZALEPL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200088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خدي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ESTHESIA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بالجرعات العالية يحدث فقدان الوعي مع فقدان ذاكرة  وتثبيط المنعكسات . يمكن أن يحدث التخدير بأغلب الباربيتوريات  مثال ال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OPEN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الذي يؤثر خلال ثوان و يكون أمد تأثيره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دقيقة . و بعض البنزوديازيبينات مثل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AZOLAM , DIAZEP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734920"/>
            <a:ext cx="799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تأثيرات مضادة للاختلاج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ICONVULS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بالجرعات العالية أغلب الباربيتوريات تثبط الاختلاجات , وبعض البنزوديازيبينات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ZEP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هو الدواء المختار لإنهاء النوب الصرعية في الداء الكبير و الحالة الصرعي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تفيد كل من الأدوية التالية في المعالجة الحادة لسحب الكحو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RAZEPTA , DIAZEPAM , OXAZEPAM , CHLORDIAZEP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يستخد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OBARBI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للمعالجة الطويلة الأمد للصرع المقوي الاختلاجي و الحالة الصرعي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9460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تأثير مرخي عضلي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ULAR RELAX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: يفيد الديازيبام بجرعته المركنة في علاج التشنجات العضلية الهيكلية .</a:t>
            </a:r>
            <a:r>
              <a:rPr b="0" lang="ar-SY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733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800" spc="-1" strike="noStrike">
                <a:solidFill>
                  <a:srgbClr val="000000"/>
                </a:solidFill>
                <a:latin typeface="Arial"/>
              </a:rPr>
              <a:t>    التثبيط البصلي : تسبب الجرعات العالية للباربيتوريات توقف التنفس , هبوط ضغط , وهط قلبي وعائي و حدوث الوفا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65120" y="404640"/>
          <a:ext cx="8212320" cy="5857920"/>
        </p:xfrm>
        <a:graphic>
          <a:graphicData uri="http://schemas.openxmlformats.org/drawingml/2006/table">
            <a:tbl>
              <a:tblPr/>
              <a:tblGrid>
                <a:gridCol w="2522520"/>
                <a:gridCol w="2016000"/>
                <a:gridCol w="3673800"/>
              </a:tblGrid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دو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دة التأثير بالساع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ثيرات الدوائ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-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&lt;6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as intravenous anaesthe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LPID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tra-short (~4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(12-8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hypno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PRAZOL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um (24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antidepress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T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notic, 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(24-48 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, muscle relax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azepam used i.v. as anticonvuls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onvulsant, anxioly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especially ma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12000" y="549360"/>
            <a:ext cx="28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الفوائد العلاجية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549360"/>
            <a:ext cx="24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>
                <a:solidFill>
                  <a:srgbClr val="000000"/>
                </a:solidFill>
                <a:latin typeface="Arial"/>
              </a:rPr>
              <a:t>مساوئ للأدوية المزيلة للقلق والأدوية المنومة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981000"/>
            <a:ext cx="30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600" spc="-1" strike="noStrike" u="sng">
                <a:solidFill>
                  <a:srgbClr val="000000"/>
                </a:solidFill>
                <a:uFillTx/>
                <a:latin typeface="Arial"/>
              </a:rPr>
              <a:t>البنزوديازيبينات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enzodiazepin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1816200"/>
            <a:ext cx="3025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N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RAZEP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LORDIAZEPOX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R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RAZO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R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AZEP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IAZO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3429000"/>
            <a:ext cx="3024000" cy="792000"/>
          </a:xfrm>
          <a:prstGeom prst="leftArrowCallout">
            <a:avLst>
              <a:gd name="adj1" fmla="val 16233"/>
              <a:gd name="adj2" fmla="val 15380"/>
              <a:gd name="adj3" fmla="val 58528"/>
              <a:gd name="adj4" fmla="val 7859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تملك قوة أقل و يتم إطراحها ببطء أكثر و لا تحدث عودة للأرق عند إيقاف العلاج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71640" y="1844640"/>
            <a:ext cx="432000" cy="432108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500280"/>
            <a:ext cx="216000" cy="720720"/>
          </a:xfrm>
          <a:custGeom>
            <a:avLst/>
            <a:gdLst>
              <a:gd name="textAreaLeft" fmla="*/ 0 w 216000"/>
              <a:gd name="textAreaRight" fmla="*/ 7812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30"/>
                </a:lnTo>
                <a:cubicBezTo>
                  <a:pt x="10800" y="9930"/>
                  <a:pt x="16200" y="10830"/>
                  <a:pt x="21600" y="10830"/>
                </a:cubicBezTo>
                <a:cubicBezTo>
                  <a:pt x="16200" y="10830"/>
                  <a:pt x="10800" y="11730"/>
                  <a:pt x="10800" y="1263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00000" y="2711520"/>
            <a:ext cx="1727280" cy="2662200"/>
          </a:xfrm>
          <a:prstGeom prst="leftArrowCallout">
            <a:avLst>
              <a:gd name="adj1" fmla="val 26375"/>
              <a:gd name="adj2" fmla="val 23704"/>
              <a:gd name="adj3" fmla="val 15356"/>
              <a:gd name="adj4" fmla="val 7758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قد تسبب البنزوديازيبينات اضطراباً في الوظائف الفكرية و المهارات الحركي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 يمكن للبنزوديازيبينات أن تسبب الإدمان و يمكن أن تسبب نوبات سحب الدوا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450864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200" spc="-1" strike="noStrike">
                <a:solidFill>
                  <a:srgbClr val="000000"/>
                </a:solidFill>
                <a:latin typeface="Arial"/>
              </a:rPr>
              <a:t>الدواء المختار في علاج الاضطرابات الهلعية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6222960"/>
            <a:ext cx="2664000" cy="374760"/>
          </a:xfrm>
          <a:prstGeom prst="borderCallout2">
            <a:avLst>
              <a:gd name="adj1" fmla="val 18750"/>
              <a:gd name="adj2" fmla="val -8333"/>
              <a:gd name="adj3" fmla="val 30509"/>
              <a:gd name="adj4" fmla="val 119009"/>
              <a:gd name="adj5" fmla="val -37287"/>
              <a:gd name="adj6" fmla="val 135578"/>
            </a:avLst>
          </a:prstGeom>
          <a:solidFill>
            <a:srgbClr val="cc99ff">
              <a:alpha val="70000"/>
            </a:srgbClr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غالباً ما يسبب سحب الدواء عودة الأر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19640" y="1700280"/>
            <a:ext cx="3600360" cy="504720"/>
          </a:xfrm>
          <a:prstGeom prst="leftArrow">
            <a:avLst>
              <a:gd name="adj1" fmla="val 60380"/>
              <a:gd name="adj2" fmla="val 21135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1400" spc="-1" strike="noStrike">
                <a:solidFill>
                  <a:srgbClr val="000000"/>
                </a:solidFill>
                <a:latin typeface="Arial"/>
              </a:rPr>
              <a:t>يفيد في علاج نوبات الصر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9000"/>
                            </p:stCondLst>
                            <p:childTnLst>
                              <p:par>
                                <p:cTn id="103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23:15Z</dcterms:created>
  <dc:creator>DigitalNet</dc:creator>
  <dc:description/>
  <dc:language>en-US</dc:language>
  <cp:lastModifiedBy>Antoun Laham</cp:lastModifiedBy>
  <dcterms:modified xsi:type="dcterms:W3CDTF">2009-03-20T10:20:40Z</dcterms:modified>
  <cp:revision>87</cp:revision>
  <dc:subject/>
  <dc:title>الشريحة 1</dc:title>
</cp:coreProperties>
</file>