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D9%85%D8%AF%D8%B1%D8%B3%D8%A93.wav" ContentType="audio/x-wav"/>
  <Override PartName="/ppt/media/%D8%A7%D8%B3%D9%85%D8%A7%D8%A13.wav" ContentType="audio/x-wav"/>
  <Override PartName="/ppt/media/image1.gif" ContentType="image/gif"/>
  <Override PartName="/ppt/media/%D8%AE%D8%A7%D9%84%D8%AF3.wav" ContentType="audio/x-wav"/>
  <Override PartName="/ppt/media/%D8%AB%D9%84%D8%A7%D8%AB3.wav" ContentType="audio/x-wav"/>
  <Override PartName="/ppt/media/%D9%83%D8%AA%D8%A7%D8%A83.wav" ContentType="audio/x-wav"/>
  <Override PartName="/ppt/media/%D8%B5%D9%82%D8%B13.wav" ContentType="audio/x-wav"/>
  <Override PartName="/ppt/media/%D9%87%D8%A7%D8%AA%D9%813.wav" ContentType="audio/x-wav"/>
  <Override PartName="/ppt/media/%D8%A7%D8%B3%D8%AF3.wav" ContentType="audio/x-wav"/>
  <Override PartName="/ppt/media/%D8%B4%D8%AC%D8%B1%D8%A93.wav" ContentType="audio/x-wav"/>
  <Override PartName="/ppt/media/%D8%A8%D9%84%D8%A7%D8%AF3.wav" ContentType="audio/x-wav"/>
  <Override PartName="/ppt/media/%D9%85%D8%B9%D9%84%D9%85%D8%A93.wav" ContentType="audio/x-wav"/>
  <Override PartName="/ppt/media/%D9%82%D9%84%D9%853.wav" ContentType="audio/x-wav"/>
  <Override PartName="/ppt/media/%D9%82%D8%B1%D8%AF3.wav" ContentType="audio/x-wav"/>
  <Override PartName="/ppt/media/%D8%B5%D9%84%D8%A7%D8%A9%203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7A1-23F7-46D6-8D55-48ABD562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C22-B507-45C3-9C7D-8818E8E3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F9C-6688-4A22-B6B1-758C81EF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6F1-51C1-41ED-8705-209A557B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2B2-4E92-44F2-A4F3-0EF42D15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EE1-FD89-4B06-8995-D4708DC7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E4E-4B2D-4EBB-9707-BE50EABD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D54-885B-46F0-8B88-BD8FAD91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DDC-E19C-4329-9D2C-BFC40C35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7F9-C773-490E-B380-986185B6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FBD-CEA4-417A-8CBF-94CB40B6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811-D945-4594-9F31-075F4994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7F82-84AC-4CB5-8A1E-00D9E0C9C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&#1589;&#1602;&#1585;3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&#1605;&#1583;&#1585;&#1587;&#1577;3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&#1605;&#1593;&#1604;&#1605;&#1577;3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&#1589;&#1604;&#1575;&#1577;%203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&#1588;&#1580;&#1585;&#1577;3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&#1575;&#1587;&#1605;&#1575;&#1569;3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588;&#1585;&#1610;&#1581;&#1577;%20&#1575;&#1604;&#1593;&#1585;&#1590;%20&#1575;&#1604;&#1585;&#1574;&#1610;&#1587;&#1610;&#1577;.ppt" TargetMode="External"/><Relationship Id="rId2" Type="http://schemas.openxmlformats.org/officeDocument/2006/relationships/audio" Target="../media/&#1603;&#1578;&#1575;&#1576;3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&#1582;&#1575;&#1604;&#1583;3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&#1575;&#1587;&#1583;3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&#1607;&#1575;&#1578;&#1601;3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&#1579;&#1604;&#1575;&#1579;3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&#1576;&#1604;&#1575;&#1583;3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&#1602;&#1604;&#1605;3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&#1602;&#1585;&#1583;3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 rot="10800000">
            <a:off x="152280" y="75600"/>
            <a:ext cx="6629400" cy="137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flipH="1" rot="10800000">
            <a:off x="2819520" y="6729480"/>
            <a:ext cx="6324480" cy="131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14400" y="2438280"/>
            <a:ext cx="670572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تنوين الفتح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914400"/>
            <a:ext cx="815328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صَقْر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736640"/>
            <a:ext cx="32767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B5%D9%82%D8%B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320" y="1355760"/>
            <a:ext cx="8305560" cy="9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َدْرَسَ</a:t>
            </a:r>
            <a:r>
              <a:rPr b="1" lang="hi-IN" sz="30500" spc="-1" strike="noStrike">
                <a:solidFill>
                  <a:srgbClr val="cc9900"/>
                </a:solidFill>
                <a:latin typeface="Times New Roman"/>
                <a:cs typeface="Akhbar MT"/>
              </a:rPr>
              <a:t>ة</a:t>
            </a:r>
            <a:r>
              <a:rPr b="1" lang="en-US" sz="305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hi-IN" sz="30500" spc="-1" strike="noStrike">
                <a:solidFill>
                  <a:srgbClr val="ff0000"/>
                </a:solidFill>
                <a:latin typeface="Times New Roman"/>
                <a:cs typeface="Akhbar MT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9%85%D8%AF%D8%B1%D8%B3%D8%A9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228600" y="1508040"/>
            <a:ext cx="9144000" cy="14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ُعَلِّمَ</a:t>
            </a:r>
            <a:r>
              <a:rPr b="1" lang="ar-SA" sz="30500" spc="-1" strike="noStrike">
                <a:solidFill>
                  <a:srgbClr val="cc9900"/>
                </a:solidFill>
                <a:latin typeface="Times New Roman"/>
                <a:cs typeface="Akhbar MT"/>
              </a:rPr>
              <a:t>ة</a:t>
            </a:r>
            <a:r>
              <a:rPr b="1" lang="ar-SA" sz="30500" spc="-1" strike="noStrike">
                <a:solidFill>
                  <a:srgbClr val="ff0000"/>
                </a:solidFill>
                <a:latin typeface="Times New Roman"/>
                <a:ea typeface="Akhbar MT"/>
              </a:rPr>
              <a:t> 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9%85%D8%B9%D9%84%D9%85%D8%A9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457200" y="1339920"/>
            <a:ext cx="914400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صَلاَ</a:t>
            </a:r>
            <a:r>
              <a:rPr b="1" lang="ar-SA" sz="33600" spc="-1" strike="noStrike">
                <a:solidFill>
                  <a:srgbClr val="cc9900"/>
                </a:solidFill>
                <a:latin typeface="Times New Roman"/>
                <a:cs typeface="Akhbar MT"/>
              </a:rPr>
              <a:t>ة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ea typeface="Akhbar MT"/>
              </a:rPr>
              <a:t>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898560"/>
            <a:ext cx="32767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17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B5%D9%84%D8%A7%D8%A9%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279440"/>
            <a:ext cx="7620120" cy="9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شَجَرَ</a:t>
            </a:r>
            <a:r>
              <a:rPr b="1" lang="hi-IN" sz="30500" spc="-1" strike="noStrike">
                <a:solidFill>
                  <a:srgbClr val="cc9900"/>
                </a:solidFill>
                <a:latin typeface="Times New Roman"/>
                <a:cs typeface="Akhbar MT"/>
              </a:rPr>
              <a:t>ة</a:t>
            </a:r>
            <a:r>
              <a:rPr b="1" lang="en-US" sz="305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hi-IN" sz="30500" spc="-1" strike="noStrike">
                <a:solidFill>
                  <a:srgbClr val="ff0000"/>
                </a:solidFill>
                <a:latin typeface="Times New Roman"/>
                <a:cs typeface="Akhbar MT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B4%D8%AC%D8%B1%D8%A9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380880" y="1371600"/>
            <a:ext cx="914400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َسْمَاء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52280" y="188928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A7%D8%B3%D9%85%D8%A7%D8%A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04920" y="746280"/>
            <a:ext cx="8915400" cy="170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7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ِتَاب</a:t>
            </a:r>
            <a:r>
              <a:rPr b="1" lang="ar-SA" sz="370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50804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9%83%D8%AA%D8%A7%D8%A8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457200" y="1187280"/>
            <a:ext cx="929628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َالِد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56852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4006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AE%D8%A7%D9%84%D8%AF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76320" y="1339920"/>
            <a:ext cx="815364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َسَد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170496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083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A7%D8%B3%D8%AF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914400"/>
            <a:ext cx="815328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َاتِف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60948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9%87%D8%A7%D8%AA%D9%8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04920" y="1432080"/>
            <a:ext cx="9144000" cy="14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ثـَلاَثـ</a:t>
            </a:r>
            <a:r>
              <a:rPr b="1" lang="ar-SA" sz="305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914400"/>
            <a:ext cx="32767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AB%D9%84%D8%A7%D8%A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380880" y="958680"/>
            <a:ext cx="914400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ـِلاَد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29528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3733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A8%D9%84%D8%A7%D8%AF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457200" y="1143000"/>
            <a:ext cx="815328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َلَم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181296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9%82%D9%84%D9%85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35000"/>
            <a:ext cx="815328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ِرْد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40004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778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9%82%D8%B1%D8%AF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3:26:28Z</dcterms:created>
  <dc:creator>حمزة أسامة حلبية</dc:creator>
  <dc:description/>
  <dc:language>en-US</dc:language>
  <cp:lastModifiedBy>***</cp:lastModifiedBy>
  <dcterms:modified xsi:type="dcterms:W3CDTF">2004-08-20T13:38:17Z</dcterms:modified>
  <cp:revision>17</cp:revision>
  <dc:subject/>
  <dc:title>عرض تقديمي من PowerPoint</dc:title>
</cp:coreProperties>
</file>