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9%85%D8%AF%D8%B1%D8%B3%D8%A93.wav" ContentType="audio/x-wav"/>
  <Override PartName="/ppt/media/%D8%A7%D8%B3%D9%85%D8%A7%D8%A13.wav" ContentType="audio/x-wav"/>
  <Override PartName="/ppt/media/image1.gif" ContentType="image/gif"/>
  <Override PartName="/ppt/media/%D8%AE%D8%A7%D9%84%D8%AF3.wav" ContentType="audio/x-wav"/>
  <Override PartName="/ppt/media/%D8%AB%D9%84%D8%A7%D8%AB3.wav" ContentType="audio/x-wav"/>
  <Override PartName="/ppt/media/%D9%83%D8%AA%D8%A7%D8%A83.wav" ContentType="audio/x-wav"/>
  <Override PartName="/ppt/media/%D8%B5%D9%82%D8%B13.wav" ContentType="audio/x-wav"/>
  <Override PartName="/ppt/media/%D9%87%D8%A7%D8%AA%D9%813.wav" ContentType="audio/x-wav"/>
  <Override PartName="/ppt/media/%D8%A7%D8%B3%D8%AF3.wav" ContentType="audio/x-wav"/>
  <Override PartName="/ppt/media/%D8%B4%D8%AC%D8%B1%D8%A93.wav" ContentType="audio/x-wav"/>
  <Override PartName="/ppt/media/%D8%A8%D9%84%D8%A7%D8%AF3.wav" ContentType="audio/x-wav"/>
  <Override PartName="/ppt/media/%D9%85%D8%B9%D9%84%D9%85%D8%A93.wav" ContentType="audio/x-wav"/>
  <Override PartName="/ppt/media/%D9%82%D9%84%D9%853.wav" ContentType="audio/x-wav"/>
  <Override PartName="/ppt/media/%D9%82%D8%B1%D8%AF3.wav" ContentType="audio/x-wav"/>
  <Override PartName="/ppt/media/%D8%B5%D9%84%D8%A7%D8%A9%203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895-13C3-4562-A831-CD7F159F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496-B326-4AAF-AA1C-C0DA9C6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221-1958-4B72-A14A-F39B433D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B20-4B3F-4D28-990B-D761ADEC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AFC-A076-409E-B2D9-AD771AD2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C5F-DE4F-4C40-8A08-200DFBF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B11-CD33-4EB7-B9E0-50DEAD1D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3BF-285B-474B-9633-D1EEB3B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27E-F682-4A1D-8B89-5A2446E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45A-4711-4A83-96B8-F0472033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4A7-7E5E-4B82-892E-D3FE565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D26-769C-4BFF-9BBE-616DEFE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0AA4-3D4E-4956-BF31-68C5FB94A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1589;&#1602;&#1585;3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1605;&#1583;&#1585;&#1587;&#1577;3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1605;&#1593;&#1604;&#1605;&#1577;3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1589;&#1604;&#1575;&#1577;%203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1588;&#1580;&#1585;&#1577;3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1575;&#1587;&#1605;&#1575;&#1569;3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588;&#1585;&#1610;&#1581;&#1577;%20&#1575;&#1604;&#1593;&#1585;&#1590;%20&#1575;&#1604;&#1585;&#1574;&#1610;&#1587;&#1610;&#1577;.ppt" TargetMode="External"/><Relationship Id="rId2" Type="http://schemas.openxmlformats.org/officeDocument/2006/relationships/audio" Target="../media/&#1603;&#1578;&#1575;&#1576;3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&#1582;&#1575;&#1604;&#1583;3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1575;&#1587;&#1583;3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1607;&#1575;&#1578;&#1601;3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&#1579;&#1604;&#1575;&#1579;3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&#1576;&#1604;&#1575;&#1583;3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&#1602;&#1604;&#1605;3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1602;&#1585;&#1583;3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 rot="10800000">
            <a:off x="152280" y="75600"/>
            <a:ext cx="6629400" cy="137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10800000">
            <a:off x="2819520" y="6729480"/>
            <a:ext cx="6324480" cy="131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2438280"/>
            <a:ext cx="6705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تنوين الفتح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9144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قْر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73664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5%D9%82%D8%B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1355760"/>
            <a:ext cx="8305560" cy="9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َدْرَسَ</a:t>
            </a:r>
            <a:r>
              <a:rPr b="1" lang="hi-IN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hi-IN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5%D8%AF%D8%B1%D8%B3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228600" y="1508040"/>
            <a:ext cx="9144000" cy="14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ُعَلِّمَ</a:t>
            </a:r>
            <a:r>
              <a:rPr b="1" lang="ar-SA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ar-SA" sz="30500" spc="-1" strike="noStrike">
                <a:solidFill>
                  <a:srgbClr val="ff0000"/>
                </a:solidFill>
                <a:latin typeface="Times New Roman"/>
                <a:ea typeface="Akhbar MT"/>
              </a:rPr>
              <a:t> 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5%D8%B9%D9%84%D9%85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57200" y="133992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لاَ</a:t>
            </a:r>
            <a:r>
              <a:rPr b="1" lang="ar-SA" sz="336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ea typeface="Akhbar MT"/>
              </a:rPr>
              <a:t>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89856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17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5%D9%84%D8%A7%D8%A9%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279440"/>
            <a:ext cx="7620120" cy="9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شَجَرَ</a:t>
            </a:r>
            <a:r>
              <a:rPr b="1" lang="hi-IN" sz="30500" spc="-1" strike="noStrike">
                <a:solidFill>
                  <a:srgbClr val="cc9900"/>
                </a:solidFill>
                <a:latin typeface="Times New Roman"/>
                <a:cs typeface="Akhbar MT"/>
              </a:rPr>
              <a:t>ة</a:t>
            </a: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hi-IN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B4%D8%AC%D8%B1%D8%A9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380880" y="137160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َسْمَاء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18892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7%D8%B3%D9%85%D8%A7%D8%A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04920" y="746280"/>
            <a:ext cx="8915400" cy="170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7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ِتَاب</a:t>
            </a:r>
            <a:r>
              <a:rPr b="1" lang="ar-SA" sz="370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50804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9%83%D8%AA%D8%A7%D8%A8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457200" y="1187280"/>
            <a:ext cx="9296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َالِ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56852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006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E%D8%A7%D9%84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6320" y="1339920"/>
            <a:ext cx="815364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َسَ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70496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083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7%D8%B3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9144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اتِف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6094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7%D8%A7%D8%AA%D9%8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04920" y="1432080"/>
            <a:ext cx="9144000" cy="14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ـَلاَثـ</a:t>
            </a:r>
            <a:r>
              <a:rPr b="1" lang="ar-SA" sz="305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914400"/>
            <a:ext cx="3276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B%D9%84%D8%A7%D8%A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80880" y="958680"/>
            <a:ext cx="914400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ـِلاَ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9528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8%A8%D9%84%D8%A7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57200" y="11430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َلَم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181296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2%D9%84%D9%85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0e1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35000"/>
            <a:ext cx="8153280" cy="15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3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ِرْد</a:t>
            </a:r>
            <a:r>
              <a:rPr b="1" lang="ar-SA" sz="336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 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400040"/>
            <a:ext cx="3276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500" spc="-1" strike="noStrike">
                <a:solidFill>
                  <a:srgbClr val="ff0000"/>
                </a:solidFill>
                <a:latin typeface="Times New Roman"/>
              </a:rPr>
              <a:t>ً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7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9%82%D8%B1%D8%AF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3:26:28Z</dcterms:created>
  <dc:creator>حمزة أسامة حلبية</dc:creator>
  <dc:description/>
  <dc:language>en-US</dc:language>
  <cp:lastModifiedBy>***</cp:lastModifiedBy>
  <dcterms:modified xsi:type="dcterms:W3CDTF">2004-08-20T13:38:17Z</dcterms:modified>
  <cp:revision>17</cp:revision>
  <dc:subject/>
  <dc:title>عرض تقديمي من PowerPoint</dc:title>
</cp:coreProperties>
</file>