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C6B-6BB1-43D9-A380-1B40803A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A67-3696-43E1-9F0A-EC90EC99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4E5-1C35-45F7-8BFE-01F433CC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3CC-B514-4502-805E-C80AE02F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ED8-4567-407F-BAA3-57F8E4EC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5A8-5CDC-4881-AA00-B50A3232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C82-D90C-4859-AB24-F97F0203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3DE-CAC3-491E-A485-076FBDD3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D19-1B70-43A5-B7A3-30FA5486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8BF-6CDB-4CDF-8208-3985FB0A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BEC-30EB-4F1A-8E14-320B34CB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A91-822E-428D-A90C-9F6C9C55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9CE03-A2A6-4CB3-B1DF-FE9489FA77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AC3B4-ADEE-4A38-BF23-905ED94D418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29:15Z</dcterms:created>
  <dc:creator>최봉수</dc:creator>
  <dc:description/>
  <dc:language>en-US</dc:language>
  <cp:lastModifiedBy>맛있다 군만두</cp:lastModifiedBy>
  <dcterms:modified xsi:type="dcterms:W3CDTF">2024-10-01T02:46:28Z</dcterms:modified>
  <cp:revision>3</cp:revision>
  <dc:subject/>
  <dc:title>슬라이드 1</dc:title>
</cp:coreProperties>
</file>