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993-F398-4571-AE71-88E0C373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EBB-310A-47E9-B275-9A99C7AD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198-EBEA-468F-BA11-008611AE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17A-C895-4C00-A887-DDC292DC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DCA-B627-4CCB-886E-D0F14D73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4D9-A679-4E96-9762-72A859A1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932-0919-4612-9FD3-FA262B80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E96-0028-4AD2-A605-763F2FF3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6BFC-24A8-410A-9B0D-07D3A9F3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4947-9970-4ED4-9C1F-B1FEF9D2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0EC-7F1B-4630-A1A7-94BEB717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F7E-3F8E-49B1-8AE4-BD84D1F8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84898-FB7C-47D3-B3E8-41BFA156706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7BA80-C9F0-4DB1-B2C1-8ECE1081952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8:29:15Z</dcterms:created>
  <dc:creator>최봉수</dc:creator>
  <dc:description/>
  <dc:language>en-US</dc:language>
  <cp:lastModifiedBy>맛있다 군만두</cp:lastModifiedBy>
  <dcterms:modified xsi:type="dcterms:W3CDTF">2024-10-01T02:46:28Z</dcterms:modified>
  <cp:revision>3</cp:revision>
  <dc:subject/>
  <dc:title>슬라이드 1</dc:title>
</cp:coreProperties>
</file>