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50009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280049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280049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280049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280049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12760" y="239760"/>
            <a:ext cx="1446120" cy="1666800"/>
            <a:chOff x="212760" y="239760"/>
            <a:chExt cx="1446120" cy="1666800"/>
          </a:xfrm>
        </p:grpSpPr>
        <p:grpSp>
          <p:nvGrpSpPr>
            <p:cNvPr id="3" name=""/>
            <p:cNvGrpSpPr/>
            <p:nvPr/>
          </p:nvGrpSpPr>
          <p:grpSpPr>
            <a:xfrm>
              <a:off x="212760" y="304920"/>
              <a:ext cx="1170000" cy="1601640"/>
              <a:chOff x="212760" y="304920"/>
              <a:chExt cx="1170000" cy="1601640"/>
            </a:xfrm>
          </p:grpSpPr>
          <p:sp>
            <p:nvSpPr>
              <p:cNvPr id="4" name=""/>
              <p:cNvSpPr/>
              <p:nvPr/>
            </p:nvSpPr>
            <p:spPr>
              <a:xfrm>
                <a:off x="322200" y="460440"/>
                <a:ext cx="9511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40043"/>
                  </a:gs>
                  <a:gs pos="100000">
                    <a:srgbClr val="7b00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7040" y="30492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0" y="101"/>
                    </a:moveTo>
                    <a:lnTo>
                      <a:pt x="0" y="0"/>
                    </a:lnTo>
                    <a:lnTo>
                      <a:pt x="368" y="504"/>
                    </a:lnTo>
                    <a:lnTo>
                      <a:pt x="294" y="504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2760" y="30492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368" y="0"/>
                    </a:moveTo>
                    <a:lnTo>
                      <a:pt x="368" y="101"/>
                    </a:lnTo>
                    <a:lnTo>
                      <a:pt x="74" y="504"/>
                    </a:lnTo>
                    <a:lnTo>
                      <a:pt x="0" y="504"/>
                    </a:lnTo>
                    <a:lnTo>
                      <a:pt x="368" y="0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10484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294" y="0"/>
                    </a:moveTo>
                    <a:lnTo>
                      <a:pt x="368" y="0"/>
                    </a:lnTo>
                    <a:lnTo>
                      <a:pt x="0" y="504"/>
                    </a:lnTo>
                    <a:lnTo>
                      <a:pt x="0" y="403"/>
                    </a:lnTo>
                    <a:lnTo>
                      <a:pt x="294" y="0"/>
                    </a:lnTo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12760" y="110484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74" y="0"/>
                    </a:moveTo>
                    <a:lnTo>
                      <a:pt x="368" y="403"/>
                    </a:lnTo>
                    <a:lnTo>
                      <a:pt x="368" y="504"/>
                    </a:lnTo>
                    <a:lnTo>
                      <a:pt x="0" y="0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</p:grp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488880" y="239760"/>
              <a:ext cx="1170000" cy="1063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104600">
            <a:off x="3047760" y="4267080"/>
            <a:ext cx="1066680" cy="914400"/>
          </a:xfrm>
          <a:prstGeom prst="lightningBolt">
            <a:avLst/>
          </a:prstGeom>
          <a:solidFill>
            <a:srgbClr val="66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950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Print Nos. From 1 to 10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                                          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  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6680160" y="1295280"/>
            <a:ext cx="2158920" cy="3200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b549"/>
              </a:gs>
              <a:gs pos="100000">
                <a:srgbClr val="ff00ff"/>
              </a:gs>
            </a:gsLst>
            <a:lin ang="8100000"/>
          </a:gra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870280"/>
            <a:ext cx="2133360" cy="0"/>
          </a:xfrm>
          <a:prstGeom prst="line">
            <a:avLst/>
          </a:prstGeom>
          <a:ln w="1260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1905120"/>
            <a:ext cx="0" cy="457200"/>
          </a:xfrm>
          <a:prstGeom prst="line">
            <a:avLst/>
          </a:prstGeom>
          <a:ln w="3816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3429000"/>
            <a:ext cx="0" cy="457200"/>
          </a:xfrm>
          <a:prstGeom prst="line">
            <a:avLst/>
          </a:prstGeom>
          <a:ln w="3816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1447920"/>
            <a:ext cx="2057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 = a *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 *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 = b %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 %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019920"/>
            <a:ext cx="8229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+=  -=  *=  /=  %=  Compound Assignment Oper.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08400" y="397656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+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3160" y="4584600"/>
            <a:ext cx="3251160" cy="1130400"/>
          </a:xfrm>
          <a:prstGeom prst="ellipse">
            <a:avLst/>
          </a:prstGeom>
          <a:solidFill>
            <a:srgbClr val="b20804"/>
          </a:solidFill>
          <a:ln w="1260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74960" y="462924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as i++, ++i, i = i + 1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52480" y="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n, i =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Enter any number”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n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n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n % i ==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Not a prime number”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1808280" y="56228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i == n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195480" indent="-195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2560" y="4189320"/>
            <a:ext cx="13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eak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8320" y="34783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000" y="42814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7480" y="5989680"/>
            <a:ext cx="6415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Prime number”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76800" y="1995480"/>
            <a:ext cx="965520" cy="519120"/>
          </a:xfrm>
          <a:prstGeom prst="ellipse">
            <a:avLst/>
          </a:prstGeom>
          <a:solidFill>
            <a:srgbClr val="b20804"/>
          </a:solidFill>
          <a:ln w="1260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rot="1224600">
            <a:off x="4984920" y="2285640"/>
            <a:ext cx="1371600" cy="457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560"/>
              <a:gd name="textAreaBottom" fmla="*/ 396360 h 4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981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Generate Prime Numbers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2320" y="22096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2                      17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199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2280" y="2214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j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k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a, b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 = i &amp;&amp; !j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 = ++i &amp;&amp; ++j || ++k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 %d %d %d 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a, b, i, j, k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752120" y="2473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What Would Be The O/P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 rot="15588000">
            <a:off x="3206520" y="2738160"/>
            <a:ext cx="2577960" cy="1066680"/>
          </a:xfrm>
          <a:custGeom>
            <a:avLst/>
            <a:gdLst>
              <a:gd name="textAreaLeft" fmla="*/ 451080 w 2577960"/>
              <a:gd name="textAreaRight" fmla="*/ 1869120 w 25779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 rot="18579600">
            <a:off x="4458600" y="3544560"/>
            <a:ext cx="2130480" cy="685800"/>
          </a:xfrm>
          <a:custGeom>
            <a:avLst/>
            <a:gdLst>
              <a:gd name="textAreaLeft" fmla="*/ 372600 w 2130480"/>
              <a:gd name="textAreaRight" fmla="*/ 1544760 w 21304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523880"/>
            <a:ext cx="4267440" cy="609840"/>
          </a:xfrm>
          <a:prstGeom prst="rect">
            <a:avLst/>
          </a:prstGeom>
          <a:solidFill>
            <a:srgbClr val="00dfca"/>
          </a:soli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 = ( ++i &amp;&amp; ++j ) || ++k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03920" y="2496960"/>
            <a:ext cx="4130640" cy="511200"/>
          </a:xfrm>
          <a:prstGeom prst="rect">
            <a:avLst/>
          </a:prstGeom>
          <a:solidFill>
            <a:srgbClr val="00dfca"/>
          </a:soli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 = ++i &amp;&amp; ( ++j || ++k )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9400" y="5410080"/>
            <a:ext cx="3047760" cy="520560"/>
          </a:xfrm>
          <a:prstGeom prst="rect">
            <a:avLst/>
          </a:prstGeom>
          <a:solidFill>
            <a:srgbClr val="ffb549"/>
          </a:soli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275800">
            <a:off x="6552720" y="5338800"/>
            <a:ext cx="762120" cy="1143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2560" y="53974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62720" y="5397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880" y="5397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23080" y="5397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76320"/>
            <a:ext cx="428292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= ++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&amp;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++b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&amp;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++c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j = ++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++b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++c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Loop Control Instructions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o-while</a:t>
            </a:r>
            <a:endParaRPr b="0" lang="en-US" sz="36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854720" y="2476440"/>
            <a:ext cx="5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</a:t>
            </a:r>
            <a:endParaRPr b="0" lang="en-US" sz="4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while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 Loop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m1, m2, m3, avg, i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=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%d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m1, &amp;m2, &amp;m3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vg = ( m1 +m2 + m3 ) /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avg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6176880" y="152280"/>
            <a:ext cx="2743200" cy="3200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50000">
                <a:srgbClr val="00ccff"/>
              </a:gs>
              <a:gs pos="100000">
                <a:srgbClr val="03d4a8"/>
              </a:gs>
            </a:gsLst>
            <a:lin ang="8100000"/>
          </a:gra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43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i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300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28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7491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1282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725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12841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86280" y="184320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  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m1, m2, m3, avg, i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%d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m1, &amp;m2, &amp;m3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vg = ( m1 + m2 + m3 ) /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avg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1552320" y="3087720"/>
            <a:ext cx="35884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                               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for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 Loop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>
            <a:off x="6176880" y="228600"/>
            <a:ext cx="2743200" cy="3200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50000">
                <a:srgbClr val="00ccff"/>
              </a:gs>
              <a:gs pos="100000">
                <a:srgbClr val="03d4a8"/>
              </a:gs>
            </a:gsLst>
            <a:lin ang="8100000"/>
          </a:gradFill>
          <a:ln w="12600">
            <a:solidFill>
              <a:srgbClr val="280049"/>
            </a:solidFill>
            <a:miter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189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i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063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825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135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801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360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86280" y="191916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st  Inc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..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..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..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4200" y="29988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56280" y="3070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1200" y="30258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57160" y="30481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19160" y="3456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1120" y="52801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Comparision - I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++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981080"/>
            <a:ext cx="0" cy="426744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108800">
            <a:off x="2739960" y="1980720"/>
            <a:ext cx="1981440" cy="10670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8579600">
            <a:off x="6608520" y="2442600"/>
            <a:ext cx="2468520" cy="617040"/>
          </a:xfrm>
          <a:custGeom>
            <a:avLst/>
            <a:gdLst>
              <a:gd name="textAreaLeft" fmla="*/ 432000 w 2468520"/>
              <a:gd name="textAreaRight" fmla="*/ 1789920 w 2468520"/>
              <a:gd name="textAreaTop" fmla="*/ 82440 h 617040"/>
              <a:gd name="textAreaBottom" fmla="*/ 534600 h 61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914400"/>
            <a:ext cx="3581640" cy="10666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ffff"/>
              </a:gs>
              <a:gs pos="100000">
                <a:srgbClr val="0000ff"/>
              </a:gs>
            </a:gsLst>
            <a:lin ang="8100000"/>
          </a:gradFill>
          <a:ln w="0">
            <a:noFill/>
          </a:ln>
          <a:effectLst>
            <a:outerShdw dist="153009" dir="2493982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94400" y="12193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ite Loop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63360" y="1219320"/>
            <a:ext cx="3352680" cy="838080"/>
          </a:xfrm>
          <a:prstGeom prst="ellipse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38924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te Loo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-763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omparison II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2772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++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1927080"/>
            <a:ext cx="0" cy="487692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18579600">
            <a:off x="6671880" y="2289960"/>
            <a:ext cx="2468520" cy="617040"/>
          </a:xfrm>
          <a:custGeom>
            <a:avLst/>
            <a:gdLst>
              <a:gd name="textAreaLeft" fmla="*/ 432000 w 2468520"/>
              <a:gd name="textAreaRight" fmla="*/ 1789920 w 2468520"/>
              <a:gd name="textAreaTop" fmla="*/ 82440 h 617040"/>
              <a:gd name="textAreaBottom" fmla="*/ 534600 h 61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16600" y="762120"/>
            <a:ext cx="3581280" cy="10666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ffff"/>
              </a:gs>
              <a:gs pos="100000">
                <a:srgbClr val="0000ff"/>
              </a:gs>
            </a:gsLst>
            <a:lin ang="8100000"/>
          </a:gradFill>
          <a:ln w="0">
            <a:noFill/>
          </a:ln>
          <a:effectLst>
            <a:outerShdw dist="153009" dir="2493982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57760" y="106668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ite Loop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8920" y="990720"/>
            <a:ext cx="3133800" cy="838080"/>
          </a:xfrm>
          <a:prstGeom prst="ellipse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60640"/>
            <a:ext cx="398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te Loo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5784800">
            <a:off x="2703240" y="1636560"/>
            <a:ext cx="1981440" cy="8413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112680 h 841320"/>
              <a:gd name="textAreaBottom" fmla="*/ 72864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3880" y="628560"/>
            <a:ext cx="7086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Print Nos. From 1 to 10</a:t>
            </a:r>
            <a:endParaRPr b="0" lang="en-US" sz="40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++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\n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Dropping Initialisation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(  ;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i++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\n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4040" y="1689120"/>
            <a:ext cx="3251160" cy="1130400"/>
          </a:xfrm>
          <a:prstGeom prst="ellipse">
            <a:avLst/>
          </a:prstGeom>
          <a:solidFill>
            <a:srgbClr val="b20804"/>
          </a:solidFill>
          <a:ln w="1260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One More Way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  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</a:t>
            </a:r>
            <a:r>
              <a:rPr b="1" lang="en-US" sz="2800" spc="-1" strike="noStrike">
                <a:solidFill>
                  <a:srgbClr val="00d2a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124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/* Repeat infinite times */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92320" y="31370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0520" y="1951200"/>
            <a:ext cx="327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y Non-Zero number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174400">
            <a:off x="3276360" y="2361960"/>
            <a:ext cx="1066680" cy="914400"/>
          </a:xfrm>
          <a:prstGeom prst="lightningBolt">
            <a:avLst/>
          </a:prstGeom>
          <a:solidFill>
            <a:srgbClr val="66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Dropping Incrementation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 ;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 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\n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Dropping Condition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 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 ;  ; 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8004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1246320" y="4191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g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eak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195600">
            <a:off x="3516120" y="2198880"/>
            <a:ext cx="1295280" cy="8413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2680 h 841320"/>
              <a:gd name="textAreaBottom" fmla="*/ 72864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143000"/>
            <a:ext cx="3133800" cy="838080"/>
          </a:xfrm>
          <a:prstGeom prst="ellipse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1312920"/>
            <a:ext cx="3987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; Necess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3560" y="3171960"/>
            <a:ext cx="3316320" cy="8762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66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ff66ff"/>
            </a:solidFill>
            <a:miter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06520" y="3390840"/>
            <a:ext cx="3068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f ( ”%d”,  i++ )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7320" y="3257640"/>
            <a:ext cx="3514680" cy="876240"/>
          </a:xfrm>
          <a:prstGeom prst="rightArrowCallout">
            <a:avLst>
              <a:gd name="adj1" fmla="val 50005"/>
              <a:gd name="adj2" fmla="val 25000"/>
              <a:gd name="adj3" fmla="val 60148"/>
              <a:gd name="adj4" fmla="val 85005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4560" y="3762360"/>
            <a:ext cx="2562120" cy="885960"/>
          </a:xfrm>
          <a:prstGeom prst="rightArrowCallout">
            <a:avLst>
              <a:gd name="adj1" fmla="val 50005"/>
              <a:gd name="adj2" fmla="val 25000"/>
              <a:gd name="adj3" fmla="val 43365"/>
              <a:gd name="adj4" fmla="val 85005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03920" y="3886200"/>
            <a:ext cx="2030400" cy="857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3365fb"/>
            </a:solidFill>
            <a:miter/>
          </a:ln>
          <a:effectLst>
            <a:outerShdw dist="107932" dir="2700000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9360" y="4124160"/>
            <a:ext cx="1957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++i &gt; 10 )</a:t>
            </a:r>
            <a:br>
              <a:rPr sz="2400"/>
            </a:b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763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omparison III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2772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 ;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1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2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statement3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1927080"/>
            <a:ext cx="0" cy="487692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16600" y="762120"/>
            <a:ext cx="3581280" cy="10666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ffff"/>
              </a:gs>
              <a:gs pos="100000">
                <a:srgbClr val="0000ff"/>
              </a:gs>
            </a:gsLst>
            <a:lin ang="8100000"/>
          </a:gradFill>
          <a:ln w="0">
            <a:noFill/>
          </a:ln>
          <a:effectLst>
            <a:outerShdw dist="153009" dir="2493982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57760" y="106668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finite Loop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838080"/>
            <a:ext cx="1524240" cy="838440"/>
          </a:xfrm>
          <a:prstGeom prst="ellipse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1008000"/>
            <a:ext cx="398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5784800">
            <a:off x="1676520" y="1750680"/>
            <a:ext cx="2361960" cy="84132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112680 h 841320"/>
              <a:gd name="textAreaBottom" fmla="*/ 72864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8579600">
            <a:off x="6085080" y="2296800"/>
            <a:ext cx="2468520" cy="617760"/>
          </a:xfrm>
          <a:custGeom>
            <a:avLst/>
            <a:gdLst>
              <a:gd name="textAreaLeft" fmla="*/ 432000 w 2468520"/>
              <a:gd name="textAreaRight" fmla="*/ 1789920 w 2468520"/>
              <a:gd name="textAreaTop" fmla="*/ 82800 h 617760"/>
              <a:gd name="textAreaBottom" fmla="*/ 534960 h 61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Drawing Boxes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846440"/>
            <a:ext cx="60948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1523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0 1 2  …    …    …    … 79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5724360"/>
            <a:ext cx="7391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p : ( 10, 20 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5800" y="597204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41600" y="2106720"/>
            <a:ext cx="3657600" cy="28191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12600">
            <a:solidFill>
              <a:srgbClr val="020004"/>
            </a:solidFill>
            <a:miter/>
          </a:ln>
          <a:effectLst>
            <a:outerShdw dist="107932" dir="189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2913120"/>
            <a:ext cx="2819520" cy="1371600"/>
          </a:xfrm>
          <a:prstGeom prst="rect">
            <a:avLst/>
          </a:prstGeom>
          <a:noFill/>
          <a:ln w="5724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2379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(10,20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43560" y="4332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(23,70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5520" y="5715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row number, col number )  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Box Drawing Characters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2057400"/>
            <a:ext cx="1524240" cy="1371600"/>
          </a:xfrm>
          <a:prstGeom prst="rect">
            <a:avLst/>
          </a:prstGeom>
          <a:noFill/>
          <a:ln w="3240">
            <a:solidFill>
              <a:srgbClr val="3e80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508040" y="2057400"/>
            <a:ext cx="152640" cy="171000"/>
            <a:chOff x="1508040" y="2057400"/>
            <a:chExt cx="152640" cy="171000"/>
          </a:xfrm>
        </p:grpSpPr>
        <p:sp>
          <p:nvSpPr>
            <p:cNvPr id="290" name=""/>
            <p:cNvSpPr/>
            <p:nvPr/>
          </p:nvSpPr>
          <p:spPr>
            <a:xfrm>
              <a:off x="1508040" y="2057400"/>
              <a:ext cx="152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527120" y="2076120"/>
              <a:ext cx="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914560" y="2057400"/>
            <a:ext cx="152640" cy="162000"/>
            <a:chOff x="2914560" y="2057400"/>
            <a:chExt cx="152640" cy="162000"/>
          </a:xfrm>
        </p:grpSpPr>
        <p:sp>
          <p:nvSpPr>
            <p:cNvPr id="293" name=""/>
            <p:cNvSpPr/>
            <p:nvPr/>
          </p:nvSpPr>
          <p:spPr>
            <a:xfrm flipH="1">
              <a:off x="2914560" y="2057400"/>
              <a:ext cx="152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048120" y="2066760"/>
              <a:ext cx="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08040" y="3263760"/>
            <a:ext cx="152280" cy="171360"/>
            <a:chOff x="1508040" y="3263760"/>
            <a:chExt cx="152280" cy="171360"/>
          </a:xfrm>
        </p:grpSpPr>
        <p:sp>
          <p:nvSpPr>
            <p:cNvPr id="296" name=""/>
            <p:cNvSpPr/>
            <p:nvPr/>
          </p:nvSpPr>
          <p:spPr>
            <a:xfrm>
              <a:off x="1508040" y="3435120"/>
              <a:ext cx="15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7120" y="3263760"/>
              <a:ext cx="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17440" y="3257640"/>
            <a:ext cx="152280" cy="171360"/>
            <a:chOff x="2917440" y="3257640"/>
            <a:chExt cx="152280" cy="171360"/>
          </a:xfrm>
        </p:grpSpPr>
        <p:sp>
          <p:nvSpPr>
            <p:cNvPr id="299" name=""/>
            <p:cNvSpPr/>
            <p:nvPr/>
          </p:nvSpPr>
          <p:spPr>
            <a:xfrm flipH="1">
              <a:off x="2917440" y="3429000"/>
              <a:ext cx="15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51000" y="3257640"/>
              <a:ext cx="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758960" y="20574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527120" y="23140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95720" y="1752480"/>
            <a:ext cx="4286160" cy="4265640"/>
            <a:chOff x="4095720" y="1752480"/>
            <a:chExt cx="4286160" cy="4265640"/>
          </a:xfrm>
        </p:grpSpPr>
        <p:sp>
          <p:nvSpPr>
            <p:cNvPr id="304" name=""/>
            <p:cNvSpPr/>
            <p:nvPr/>
          </p:nvSpPr>
          <p:spPr>
            <a:xfrm>
              <a:off x="4095720" y="1752480"/>
              <a:ext cx="4200480" cy="3962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20004"/>
              </a:solidFill>
              <a:miter/>
            </a:ln>
            <a:effectLst>
              <a:outerShdw dist="107932" dir="2700000" blurRad="0" rotWithShape="0">
                <a:srgbClr val="02000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1120" y="1828800"/>
              <a:ext cx="4190760" cy="41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haracter   ASCII value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               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18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2800" spc="-1" strike="noStrike">
                <a:solidFill>
                  <a:srgbClr val="28004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2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17    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96    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28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962600" y="2600280"/>
              <a:ext cx="152280" cy="171000"/>
              <a:chOff x="4962600" y="2600280"/>
              <a:chExt cx="152280" cy="171000"/>
            </a:xfrm>
          </p:grpSpPr>
          <p:sp>
            <p:nvSpPr>
              <p:cNvPr id="307" name=""/>
              <p:cNvSpPr/>
              <p:nvPr/>
            </p:nvSpPr>
            <p:spPr>
              <a:xfrm>
                <a:off x="4962600" y="2600280"/>
                <a:ext cx="152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981320" y="2619000"/>
                <a:ext cx="0" cy="152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971960" y="3152880"/>
              <a:ext cx="152640" cy="162000"/>
              <a:chOff x="4971960" y="3152880"/>
              <a:chExt cx="152640" cy="1620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4971960" y="3152880"/>
                <a:ext cx="152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105520" y="3162240"/>
                <a:ext cx="0" cy="152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981680" y="4762440"/>
              <a:ext cx="228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076720" y="515268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000400" y="4162320"/>
              <a:ext cx="152280" cy="152640"/>
              <a:chOff x="5000400" y="4162320"/>
              <a:chExt cx="152280" cy="152640"/>
            </a:xfrm>
          </p:grpSpPr>
          <p:sp>
            <p:nvSpPr>
              <p:cNvPr id="315" name=""/>
              <p:cNvSpPr/>
              <p:nvPr/>
            </p:nvSpPr>
            <p:spPr>
              <a:xfrm flipH="1">
                <a:off x="5000400" y="4314960"/>
                <a:ext cx="152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24600" y="4162320"/>
                <a:ext cx="0" cy="152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010120" y="3656880"/>
              <a:ext cx="152280" cy="153000"/>
              <a:chOff x="5010120" y="3656880"/>
              <a:chExt cx="152280" cy="153000"/>
            </a:xfrm>
          </p:grpSpPr>
          <p:sp>
            <p:nvSpPr>
              <p:cNvPr id="318" name=""/>
              <p:cNvSpPr/>
              <p:nvPr/>
            </p:nvSpPr>
            <p:spPr>
              <a:xfrm>
                <a:off x="5010120" y="3809880"/>
                <a:ext cx="152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29200" y="3656880"/>
                <a:ext cx="0" cy="152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800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To Begin With...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lrscr( ) ;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5943600" y="1752480"/>
            <a:ext cx="91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1981080"/>
            <a:ext cx="2667240" cy="228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3581280"/>
            <a:ext cx="4648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, 218 ) ;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…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…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318360" y="2203560"/>
            <a:ext cx="257040" cy="288720"/>
            <a:chOff x="6318360" y="2203560"/>
            <a:chExt cx="257040" cy="288720"/>
          </a:xfrm>
        </p:grpSpPr>
        <p:sp>
          <p:nvSpPr>
            <p:cNvPr id="326" name=""/>
            <p:cNvSpPr/>
            <p:nvPr/>
          </p:nvSpPr>
          <p:spPr>
            <a:xfrm>
              <a:off x="6318360" y="2203560"/>
              <a:ext cx="257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327720" y="2220840"/>
              <a:ext cx="0" cy="27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800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80" y="152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 marL="209160" indent="-20916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clrscr(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0049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09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218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91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192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217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r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r &l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r++ )  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 r,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179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6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 r,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179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… … … .. )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{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-763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7560" y="552600"/>
            <a:ext cx="315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r, c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104760"/>
            <a:ext cx="2819520" cy="1114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00640" y="-284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(10,20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5360" y="1295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(23,70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66920" y="22860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r, c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clrscr(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gotorc (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 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c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218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 ..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 .. 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r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r &l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r++ )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{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 ..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…  …  … )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{</a:t>
            </a:r>
            <a:br>
              <a:rPr sz="2800"/>
            </a:b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0049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4840" y="-46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#include   ”goto.c”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76240" y="1706400"/>
            <a:ext cx="1443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6 - 99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23240" y="4678200"/>
            <a:ext cx="2167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3 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pic>
        <p:nvPicPr>
          <p:cNvPr id="340" name="letusc" descr=""/>
          <p:cNvPicPr/>
          <p:nvPr/>
        </p:nvPicPr>
        <p:blipFill>
          <a:blip r:embed="rId1"/>
          <a:stretch/>
        </p:blipFill>
        <p:spPr>
          <a:xfrm>
            <a:off x="2898720" y="990720"/>
            <a:ext cx="1781280" cy="2209680"/>
          </a:xfrm>
          <a:prstGeom prst="rect">
            <a:avLst/>
          </a:prstGeom>
          <a:ln w="0">
            <a:noFill/>
          </a:ln>
        </p:spPr>
      </p:pic>
      <p:pic>
        <p:nvPicPr>
          <p:cNvPr id="341" name="explc" descr=""/>
          <p:cNvPicPr/>
          <p:nvPr/>
        </p:nvPicPr>
        <p:blipFill>
          <a:blip r:embed="rId2"/>
          <a:stretch/>
        </p:blipFill>
        <p:spPr>
          <a:xfrm>
            <a:off x="2860560" y="3486240"/>
            <a:ext cx="1781280" cy="2209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rot="21172800">
            <a:off x="4533840" y="2405160"/>
            <a:ext cx="1828800" cy="84132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12680 h 841320"/>
              <a:gd name="textAreaBottom" fmla="*/ 72864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21172800">
            <a:off x="4308480" y="5330880"/>
            <a:ext cx="1828800" cy="84132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12680 h 841320"/>
              <a:gd name="textAreaBottom" fmla="*/ 72864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-763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pplying Brakes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 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/* Repeat infinite times */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i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4343400"/>
            <a:ext cx="2895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f ( i &g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eak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0400" y="5724360"/>
            <a:ext cx="2235240" cy="824040"/>
          </a:xfrm>
          <a:prstGeom prst="ellipse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1260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943600"/>
            <a:ext cx="3276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935000">
            <a:off x="3657240" y="5181120"/>
            <a:ext cx="1066680" cy="914400"/>
          </a:xfrm>
          <a:prstGeom prst="lightningBolt">
            <a:avLst/>
          </a:prstGeom>
          <a:solidFill>
            <a:srgbClr val="66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3406680"/>
            <a:ext cx="1844640" cy="861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f ( i &g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xit(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626000">
            <a:off x="4481280" y="4343400"/>
            <a:ext cx="2133360" cy="91440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066680"/>
            <a:ext cx="5105520" cy="861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eak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- Terminates Loop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it( )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- Terminates Program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05520" y="4267080"/>
            <a:ext cx="3581280" cy="10670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ffff"/>
              </a:gs>
              <a:gs pos="100000">
                <a:srgbClr val="0000ff"/>
              </a:gs>
            </a:gsLst>
            <a:lin ang="8100000"/>
          </a:gradFill>
          <a:ln w="0">
            <a:noFill/>
          </a:ln>
          <a:effectLst>
            <a:outerShdw dist="153009" dir="2493982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29718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66ff"/>
              </a:gs>
              <a:gs pos="100000">
                <a:srgbClr val="ff0066"/>
              </a:gs>
            </a:gsLst>
            <a:lin ang="8100000"/>
          </a:gradFill>
          <a:ln w="0">
            <a:noFill/>
          </a:ln>
          <a:effectLst>
            <a:outerShdw dist="153009" dir="2493982" blurRad="0" rotWithShape="0">
              <a:srgbClr val="b500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alculate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n!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 = 1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n 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       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8600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 * 2 * 3 * 4 *….n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 + 2 + 3 + 4 +.…n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2 * 2 * 2 * 2 *….n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3157560"/>
            <a:ext cx="366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 sum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154080" indent="-154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154080" indent="-154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154080" indent="-154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1960" y="45306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unning product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 rot="19521000">
            <a:off x="3897000" y="1555560"/>
            <a:ext cx="1295280" cy="53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6760" y="1555920"/>
            <a:ext cx="3352680" cy="838080"/>
          </a:xfrm>
          <a:prstGeom prst="ellipse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05200" y="1725480"/>
            <a:ext cx="426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Running  product</a:t>
            </a:r>
            <a:r>
              <a:rPr b="1" lang="en-US" sz="2800" spc="-1" strike="noStrike" baseline="30000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20829000">
            <a:off x="4495680" y="2742120"/>
            <a:ext cx="1295640" cy="5335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771000">
            <a:off x="4191120" y="4952520"/>
            <a:ext cx="1295280" cy="5335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 rot="5964000">
            <a:off x="4915080" y="1771560"/>
            <a:ext cx="1295280" cy="5335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9400" y="3833640"/>
            <a:ext cx="271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 = s +   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-3528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Running Sum And Products</a:t>
            </a:r>
            <a:endParaRPr b="0" i="1" lang="en-US" sz="40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2080" y="5562360"/>
            <a:ext cx="13716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768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38480" y="42800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 = p * i 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 = pr *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76400" y="25718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5718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  pr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191120"/>
            <a:ext cx="4114800" cy="16002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9900"/>
              </a:gs>
              <a:gs pos="100000">
                <a:srgbClr val="ffff66"/>
              </a:gs>
            </a:gsLst>
            <a:lin ang="13500000"/>
          </a:gradFill>
          <a:ln w="12600">
            <a:solidFill>
              <a:srgbClr val="280049"/>
            </a:solidFill>
            <a:miter/>
          </a:ln>
          <a:effectLst>
            <a:outerShdw dist="125751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 + 2 + 3 + 4 +.…n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S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 * 2 * 3 * 4 *….n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P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298440" indent="-29844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2 * 2 * 2 * 2 *….n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P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3840" y="990720"/>
            <a:ext cx="2337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10520" y="2157480"/>
            <a:ext cx="342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n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6560" y="1676520"/>
            <a:ext cx="3724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s, p, pr, i, n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09080" y="2639880"/>
            <a:ext cx="2015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310320" y="3075120"/>
            <a:ext cx="4711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n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4320" y="52722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90160" y="5911920"/>
            <a:ext cx="60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f ( ”%d %d %d”, s, p, pr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685800"/>
            <a:ext cx="1905120" cy="3352680"/>
          </a:xfrm>
          <a:prstGeom prst="rect">
            <a:avLst/>
          </a:prstGeom>
          <a:gradFill rotWithShape="0">
            <a:gsLst>
              <a:gs pos="0">
                <a:srgbClr val="39ffec"/>
              </a:gs>
              <a:gs pos="50000">
                <a:srgbClr val="00ff00"/>
              </a:gs>
              <a:gs pos="100000">
                <a:srgbClr val="39ffec"/>
              </a:gs>
            </a:gsLst>
            <a:lin ang="8100000"/>
          </a:gradFill>
          <a:ln w="12600">
            <a:solidFill>
              <a:srgbClr val="006600"/>
            </a:solidFill>
            <a:miter/>
          </a:ln>
          <a:effectLst>
            <a:outerShdw dist="134955" dir="247288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19440" y="638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     s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53200" y="10666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0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07400" y="158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91720" y="158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17120" y="209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83800" y="210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34400" y="2557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12240" y="2562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5960" y="305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21600" y="303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8680" y="3519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16840" y="35434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53080" y="838080"/>
            <a:ext cx="1342800" cy="8384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66ff"/>
              </a:gs>
              <a:gs pos="100000">
                <a:srgbClr val="ff0066"/>
              </a:gs>
            </a:gsLst>
            <a:lin ang="8100000"/>
          </a:gradFill>
          <a:ln w="0">
            <a:noFill/>
          </a:ln>
          <a:effectLst>
            <a:outerShdw dist="91658" dir="3382340" blurRad="0" rotWithShape="0">
              <a:srgbClr val="b500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1520" y="995400"/>
            <a:ext cx="107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47560" y="75960"/>
            <a:ext cx="746748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—  +  — -   —  + —  - …………10 terms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!      3!        5!       7!       9!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3446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f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x ) ;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43520" y="329868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calculate numerator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54320" y="3811680"/>
            <a:ext cx="3963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calculate denominator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1680" y="4268880"/>
            <a:ext cx="556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term = numerator / denominator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4664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dd / subtract alternate terms to/fro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68000" y="2057400"/>
            <a:ext cx="22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 s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5257800"/>
            <a:ext cx="3133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9280" y="6019920"/>
            <a:ext cx="3208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 ( s 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95280" y="7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%f ”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, &amp;x ) ;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( i 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printf (</a:t>
            </a:r>
            <a:r>
              <a:rPr b="1" lang="en-US" sz="24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%f ”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, s ) ;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02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1066680"/>
            <a:ext cx="2286000" cy="335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53009" dir="2493982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1219320"/>
            <a:ext cx="198144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28960" y="21337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j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* i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0040" y="3048120"/>
            <a:ext cx="4724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( k &lt;= j )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d = d * k ;   n = n * x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k++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5320" y="243828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k = n  = d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3240" y="4724280"/>
            <a:ext cx="16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t = n / d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76200" y="51544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( i %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=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) ? s = s - t : s = s + t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x, s, n, d, t ;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i, j, k, n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6520" y="54000"/>
            <a:ext cx="2624040" cy="849240"/>
          </a:xfrm>
          <a:prstGeom prst="rect">
            <a:avLst/>
          </a:prstGeom>
          <a:solidFill>
            <a:srgbClr val="ff9b9b"/>
          </a:solidFill>
          <a:ln w="0">
            <a:noFill/>
          </a:ln>
          <a:effectLst>
            <a:outerShdw dist="107932" dir="2700000" blurRad="0" rotWithShape="0">
              <a:srgbClr val="02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20004"/>
                </a:solidFill>
                <a:latin typeface="Arial"/>
              </a:rPr>
              <a:t>1      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20004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      x</a:t>
            </a:r>
            <a:r>
              <a:rPr b="1" lang="en-US" sz="2800" spc="-1" strike="noStrike" baseline="30000">
                <a:solidFill>
                  <a:srgbClr val="020004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39480" indent="-339480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-  —  +  — -   </a:t>
            </a: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39480" indent="-3394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004"/>
                </a:solidFill>
                <a:latin typeface="Arial"/>
              </a:rPr>
              <a:t>1!      3!        5!       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339480" indent="-3394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0"/>
            <a:ext cx="1219320" cy="533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6600"/>
            </a:solidFill>
            <a:miter/>
          </a:ln>
          <a:effectLst>
            <a:outerShdw dist="73964" dir="1863564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000" y="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OK ?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3000240"/>
            <a:ext cx="2133360" cy="2057400"/>
          </a:xfrm>
          <a:prstGeom prst="cloudCallout">
            <a:avLst>
              <a:gd name="adj1" fmla="val -45981"/>
              <a:gd name="adj2" fmla="val 6998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9160" y="3524400"/>
            <a:ext cx="1817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ong ?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7760" y="1143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523880"/>
            <a:ext cx="2438640" cy="990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6600"/>
            </a:solidFill>
            <a:miter/>
          </a:ln>
          <a:effectLst>
            <a:outerShdw dist="73964" dir="1863564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 rot="19465200">
            <a:off x="5676120" y="-152280"/>
            <a:ext cx="381240" cy="106668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120 h 1066680"/>
              <a:gd name="textAreaBottom" fmla="*/ 7729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679400"/>
            <a:ext cx="180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ssociates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rom R to L</a:t>
            </a:r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 rot="4219800">
            <a:off x="4837320" y="232380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686560" y="1542960"/>
            <a:ext cx="3047760" cy="173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Enter any number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n ) ; 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4363920" y="4505400"/>
            <a:ext cx="965160" cy="519120"/>
          </a:xfrm>
          <a:prstGeom prst="ellipse">
            <a:avLst/>
          </a:prstGeom>
          <a:solidFill>
            <a:srgbClr val="b20804"/>
          </a:solidFill>
          <a:ln w="1260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71240" y="-1526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rime Number or Not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106668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 3  4  ..  ..  ..   12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62600" y="2209680"/>
            <a:ext cx="26208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2057400"/>
            <a:ext cx="121932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34240" y="2057400"/>
            <a:ext cx="914400" cy="533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24120" y="2057400"/>
            <a:ext cx="68580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209680"/>
            <a:ext cx="609480" cy="533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133720"/>
            <a:ext cx="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8280" y="327348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n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224600">
            <a:off x="3271680" y="4795560"/>
            <a:ext cx="1371600" cy="457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560"/>
              <a:gd name="textAreaBottom" fmla="*/ 396360 h 4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78440" y="4491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629320" y="399960"/>
            <a:ext cx="3048120" cy="1733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-763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rime No.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main( )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n ; 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Enter any number”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scan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%d”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, &amp;n ) ;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28600"/>
            <a:ext cx="3657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 3  4  ..  ..  ..   12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05720" y="984240"/>
            <a:ext cx="304560" cy="463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18280" y="919080"/>
            <a:ext cx="1219320" cy="59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43600" y="914400"/>
            <a:ext cx="990720" cy="52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248160" y="914400"/>
            <a:ext cx="685800" cy="52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40600" y="1055520"/>
            <a:ext cx="533520" cy="397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990720"/>
            <a:ext cx="1800" cy="52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3440" y="3276720"/>
            <a:ext cx="3959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(                 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2800" y="180180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i =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4840" y="3236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 &lt;= n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f ( n % i = =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printf (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Not a prime number”</a:t>
            </a:r>
            <a:r>
              <a:rPr b="1" lang="en-US" sz="2800" spc="-1" strike="noStrike">
                <a:solidFill>
                  <a:srgbClr val="00ba9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i++ ;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800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4:10Z</dcterms:created>
  <dc:creator>Microsoft Corporation</dc:creator>
  <dc:description/>
  <dc:language>en-US</dc:language>
  <cp:lastModifiedBy>sai</cp:lastModifiedBy>
  <dcterms:modified xsi:type="dcterms:W3CDTF">2000-05-24T21:23:28Z</dcterms:modified>
  <cp:revision>338</cp:revision>
  <dc:subject/>
  <dc:title>Lorem Ipsum</dc:title>
</cp:coreProperties>
</file>