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23C-2C25-463B-B068-E917B1E5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AB6-55BF-4C2F-AE8E-E75779A8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044-FF2A-4356-85AE-4129371B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BCE-75D2-4662-964A-717E0C94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DAA2-2045-4FC8-92B3-F7EFC7BE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5B1B-229A-439B-9B3F-F7101151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0697-B454-481A-959B-E542A683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EAB9-40B4-4D41-A373-1C956C3E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CC3C-EF02-451B-8CB0-BA0D7145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5461-9359-4274-B01E-1901B5DA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8BF1-748C-4BD0-B991-440D6F78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C2B-BDF8-45A3-A2B7-8C05CAB5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18CA-13B3-4CE8-AB99-F982B9FD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BBB8-4201-4CF0-9F31-30F46B4A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FB56-D08F-4A78-99D9-D12965CD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AFBC-494A-4F91-90F4-0691215B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E26E-9E68-4721-A26D-BC24206D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73A-9BAA-465D-9188-77E5BE92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B64-FBBF-4D03-BCA6-35A2B1B7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BC0-5100-4EE1-90CC-3D30250C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8DB-E78C-4C64-9AA5-408F7D39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780-BA1F-44C2-843E-32334F0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864-66B7-4A24-8F69-5833D62D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5C3-CCC4-49DA-8A01-7EBAA3C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5624-8EC5-48D5-8247-B1B10C872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6570-C810-4187-A315-C273AFE49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97080"/>
            <a:ext cx="7772400" cy="173664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8ae"/>
                </a:solidFill>
                <a:latin typeface="Comic Sans MS"/>
              </a:rPr>
              <a:t>EJEMPLOS DE HIPOTE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16000" y="49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MTRA.  MARTHA BEATRIZ CRUZ GONZÁL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Xalapa, Ver., Junio 22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48420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DIPLOMADO EN VIH-SIDA: ENFOQUE INTEG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3600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27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2800"/>
            </a:b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l </a:t>
            </a:r>
            <a:r>
              <a:rPr b="1" lang="es-ES" sz="2800" spc="-1" strike="noStrike">
                <a:solidFill>
                  <a:srgbClr val="0068ae"/>
                </a:solidFill>
                <a:latin typeface="Comic Sans MS"/>
              </a:rPr>
              <a:t>inicio de la vida sexual a muy temprana edad es un factores de riesgo en los jóvenes para contraer infecciones de transmisión sexual incluyendo el VIH-SID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3108240"/>
            <a:ext cx="8229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tercurr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3200"/>
            </a:b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l estado inmunológico y viral de la madre son factores de riesgo de la transmisión vertical del VIH.</a:t>
            </a:r>
            <a:r>
              <a:rPr b="0" lang="es-ES" sz="3200" spc="-1" strike="noStrike">
                <a:solidFill>
                  <a:srgbClr val="0068ae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3711600"/>
            <a:ext cx="798984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97080"/>
            <a:ext cx="7772400" cy="1736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8ae"/>
                </a:solidFill>
                <a:latin typeface="Comic Sans MS"/>
              </a:rPr>
              <a:t>DEFINICIÓN DE VARIAB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16000" y="49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MTRA.  MARTHA BEATRIZ CRUZ GONZÁL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Xalapa, Ver., Junio 22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48420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DIPLOMADO EN VIH-SIDA: ENFOQUE INTEG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00000"/>
                </a:solidFill>
                <a:latin typeface="Comic Sans MS"/>
              </a:rPr>
              <a:t>Defini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Una variable es una característica, cualidad, atributo o propiedad del sujeto o unidad de observ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Se denominan variables porque no son fijas, pueden cambiar e intervienen muchos factores en este camb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Variabl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Características cualitativas y cuantitativas de los objetos de investigació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Conjunto de atributos o características inherentes al fenóme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Tipos de variabl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338200" y="2205000"/>
            <a:ext cx="4754520" cy="43927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Depend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Independ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Intervin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Intercurr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Confus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Tipos de variabl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Dependient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e refiere al fenómeno que se intenta explicar y que será objeto de estudio a lo largo de la investig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Independient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on todos aquellos factores o elementos que explican un fenómeno o la conducta del fenóm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Tipos de variabl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Comic Sans MS"/>
              </a:rPr>
              <a:t>Interviniente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Son aquellas que influyen directamente sobre la variable dependiente y en los estudios experimentales son manipuladas por el investig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omic Sans MS"/>
              </a:rPr>
              <a:t>Intercurrentes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: Algunas características que pueden permitir comparaciones entre grupos sim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Tipos de variabl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8640" y="2074680"/>
            <a:ext cx="8229600" cy="31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0000"/>
                </a:solidFill>
                <a:latin typeface="Comic Sans MS"/>
              </a:rPr>
              <a:t>Confusoras</a:t>
            </a: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: Algunas características que pueden afectar tanto a las variables dependientes como independientes, comúnmente llevan a errores, sesgos, du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Comic Sans MS"/>
              </a:rPr>
              <a:t>Operacionalización de las variab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2471400"/>
            <a:ext cx="7624440" cy="2700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8ae"/>
                </a:solidFill>
                <a:latin typeface="Comic Sans MS"/>
              </a:rPr>
              <a:t>Permite definir todas las características de las variables y cómo serán med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8ae"/>
                </a:solidFill>
                <a:latin typeface="Comic Sans MS"/>
              </a:rPr>
              <a:t>Es la base del análisis estadís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97080"/>
            <a:ext cx="7772400" cy="173664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8ae"/>
                </a:solidFill>
                <a:latin typeface="Comic Sans MS"/>
              </a:rPr>
              <a:t>EJEMPLOS DE HIPOTE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16000" y="49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MTRA.  MARTHA BEATRIZ CRUZ GONZÁL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Xalapa, Ver., Junio 22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48420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DIPLOMADO EN VIH-SIDA: ENFOQUE INTEG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8ae"/>
                </a:solidFill>
                <a:latin typeface="Comic Sans MS"/>
              </a:rPr>
              <a:t>Nomencl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374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Cualitativas o categó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Cuantitativas o numé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11640" y="1989000"/>
            <a:ext cx="431640" cy="1584360"/>
          </a:xfrm>
          <a:custGeom>
            <a:avLst/>
            <a:gdLst>
              <a:gd name="textAreaLeft" fmla="*/ 0 w 431640"/>
              <a:gd name="textAreaRight" fmla="*/ 155880 w 43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14"/>
                </a:lnTo>
                <a:cubicBezTo>
                  <a:pt x="10800" y="10414"/>
                  <a:pt x="16200" y="11314"/>
                  <a:pt x="21600" y="11314"/>
                </a:cubicBezTo>
                <a:cubicBezTo>
                  <a:pt x="16200" y="11314"/>
                  <a:pt x="10800" y="12214"/>
                  <a:pt x="10800" y="131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4292640"/>
            <a:ext cx="576000" cy="1873080"/>
          </a:xfrm>
          <a:custGeom>
            <a:avLst/>
            <a:gdLst>
              <a:gd name="textAreaLeft" fmla="*/ 0 w 576000"/>
              <a:gd name="textAreaRight" fmla="*/ 208080 w 57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48360" y="4437000"/>
            <a:ext cx="280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Continu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e interva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iscre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9280" y="2276640"/>
            <a:ext cx="21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N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Ord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Escala de medición Cualitati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15192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8ae"/>
                </a:solidFill>
                <a:latin typeface="Comic Sans MS"/>
              </a:rPr>
              <a:t>Se ordenan en categorías debido a su carácter subjetivo y absolu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4221000"/>
            <a:ext cx="3961080" cy="241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Comic Sans MS"/>
              </a:rPr>
              <a:t>Nominal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: indican diferencias entre si pero no se les ubica en niveles o jerarquí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Sexo: masculino/feme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46560" y="4221000"/>
            <a:ext cx="3529080" cy="241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Comic Sans MS"/>
              </a:rPr>
              <a:t>Ordinal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: las categorías guardan un orden jerárqu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esnutrición: leve, moderada, sev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987280" y="3284640"/>
            <a:ext cx="1584360" cy="86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3284640"/>
            <a:ext cx="1440000" cy="86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7848360" cy="792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Cuantitativa: son características expresadas en valores numé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omic Sans MS"/>
              </a:rPr>
              <a:t>Escala de medición cuantitat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76360" y="2962440"/>
            <a:ext cx="71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Continu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asumen cualquier valor numérico y pueden variar en cualquier cantidad, sobre una escala aritmética e infinita. Incluye fr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315900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4724280"/>
            <a:ext cx="51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statura:  156.5,  165,  168.1, 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8ae"/>
                </a:solidFill>
                <a:latin typeface="Comic Sans MS"/>
              </a:rPr>
              <a:t>Escala de medición cuantitat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217476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Comic Sans MS"/>
              </a:rPr>
              <a:t>De intervalos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: categorías formadas por características numéricas con un orden jerárqu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3789360"/>
            <a:ext cx="4248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jemplo Grupos de eda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875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enor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875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1 a 5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875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6 a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875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11 a 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205000"/>
            <a:ext cx="1008000" cy="43344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8ae"/>
                </a:solidFill>
                <a:latin typeface="Comic Sans MS"/>
              </a:rPr>
              <a:t>Escala de medición cuantitat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7640" y="231948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Comic Sans MS"/>
              </a:rPr>
              <a:t>Discreta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: Intervalos cuantificados en un número finito de u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2349360"/>
            <a:ext cx="1223640" cy="432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42242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Número de cigarros fumados al día: 5,10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Cuadro de variab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9640" y="1981080"/>
          <a:ext cx="7918560" cy="4046760"/>
        </p:xfrm>
        <a:graphic>
          <a:graphicData uri="http://schemas.openxmlformats.org/drawingml/2006/table">
            <a:tbl>
              <a:tblPr/>
              <a:tblGrid>
                <a:gridCol w="1800360"/>
                <a:gridCol w="2663640"/>
                <a:gridCol w="2160720"/>
                <a:gridCol w="1293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8ae"/>
                          </a:solidFill>
                          <a:latin typeface="Comic Sans MS"/>
                        </a:rPr>
                        <a:t>Nombre y tipo de var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8ae"/>
                          </a:solidFill>
                          <a:latin typeface="Comic Sans MS"/>
                        </a:rPr>
                        <a:t>Definición concept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8ae"/>
                          </a:solidFill>
                          <a:latin typeface="Comic Sans MS"/>
                        </a:rPr>
                        <a:t>Definición oper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8ae"/>
                          </a:solidFill>
                          <a:latin typeface="Comic Sans MS"/>
                        </a:rPr>
                        <a:t>Escala de medi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dependi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abetes Melli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Diabetes Mellitus es el resultado de una alteración del metabolismo de los hidratos de carbono, debido a la deficiente producción de insulina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abetes Mellitus tipo I y II en tratamiento conven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m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pendi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berculosis Pulmo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fectación respiratoria producida por M. Tubercul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B pulmonar diagnosticada por clínica, rayos X y cultivo bacteri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m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SI – 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684360" y="1052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jemplo de incidencia de tuberculosis pulmonar en pacientes diab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041480"/>
            <a:ext cx="7846920" cy="18828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jemplo: </a:t>
            </a:r>
            <a:br>
              <a:rPr sz="3200"/>
            </a:b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l Cáncer de pulmón está relacionado con el hábito de fumar en hombres de 45 a 60 años de eda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3038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dependiente: hábito de fum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dependiente: cáncer de pulm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tercurrente: hombres, 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jemplo: </a:t>
            </a:r>
            <a:br>
              <a:rPr sz="3200"/>
            </a:b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La productividad de los obreros en la pequeña y mediana industria está relacionada con el salario que perciben y las condiciones de trabaj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3108240"/>
            <a:ext cx="8229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dependiente: el salario y las condiciones de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dependiente: productivid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tercurrente: tipo de indust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jemplo: </a:t>
            </a:r>
            <a:br>
              <a:rPr sz="3200"/>
            </a:b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l nivel de escolaridad está asociado a la decisión de embarazarse en mujeres portadoras de VIH-SID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108240"/>
            <a:ext cx="8229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tercurr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2800"/>
            </a:b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l </a:t>
            </a:r>
            <a:r>
              <a:rPr b="1" lang="es-ES" sz="2800" spc="-1" strike="noStrike">
                <a:solidFill>
                  <a:srgbClr val="0068ae"/>
                </a:solidFill>
                <a:latin typeface="Comic Sans MS"/>
              </a:rPr>
              <a:t>VIH-SIDA ocasiona el deterioro del estado nutricional de las personas portadoras</a:t>
            </a:r>
            <a:r>
              <a:rPr b="0" lang="es-ES" sz="2800" spc="-1" strike="noStrike">
                <a:solidFill>
                  <a:srgbClr val="0068ae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3711600"/>
            <a:ext cx="79898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2800"/>
            </a:b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l nivel de </a:t>
            </a:r>
            <a:r>
              <a:rPr b="1" lang="es-ES" sz="2800" spc="-1" strike="noStrike">
                <a:solidFill>
                  <a:srgbClr val="0068ae"/>
                </a:solidFill>
                <a:latin typeface="Comic Sans MS"/>
              </a:rPr>
              <a:t>conocimientos sobre el VIH-SIDA está asociado a la realización de conductas de riesgo en las personas portadoras </a:t>
            </a:r>
            <a:r>
              <a:rPr b="0" lang="es-ES" sz="2800" spc="-1" strike="noStrike">
                <a:solidFill>
                  <a:srgbClr val="0068ae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3711600"/>
            <a:ext cx="79898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dependi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dependi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tercurr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266364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2800"/>
            </a:b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Las representaciones sociales del VIH-SIDA favorecen la adopción de comportamientos preventivos de la adquisición del VIH a través de vías específicas</a:t>
            </a:r>
            <a:r>
              <a:rPr b="0" lang="es-ES" sz="2800" spc="-1" strike="noStrike">
                <a:solidFill>
                  <a:srgbClr val="0068ae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3711600"/>
            <a:ext cx="798984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2800"/>
            </a:b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l apego al tratamiento para el VIH-SIDA está asociado a la actitud positiva del paciente, a la aceptación familiar y al conocimiento sobre la enfermedad.</a:t>
            </a:r>
            <a:r>
              <a:rPr b="0" lang="es-ES" sz="2800" spc="-1" strike="noStrike">
                <a:solidFill>
                  <a:srgbClr val="0068ae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3711600"/>
            <a:ext cx="798984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7:59:19Z</dcterms:created>
  <dc:creator>LEONIC</dc:creator>
  <dc:description/>
  <dc:language>en-US</dc:language>
  <cp:lastModifiedBy>LEONIC</cp:lastModifiedBy>
  <dcterms:modified xsi:type="dcterms:W3CDTF">2008-10-25T18:27:31Z</dcterms:modified>
  <cp:revision>2</cp:revision>
  <dc:subject/>
  <dc:title>DEFINICIÓN DE VARIABLES</dc:title>
</cp:coreProperties>
</file>