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2D2E-02EB-4801-86E9-53C5FDB5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735-4045-4AB8-8C25-53AC8D63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8ADB-6768-4912-B7F8-D2D97132B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3FC-AF25-4F1F-8F26-600E3BF8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32EC-A2B4-4FF1-B12D-978E3B53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39EF1-914F-4565-BD1B-6292AA7C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3D3D-44E1-4613-85C6-6758D4C4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FF61-5913-4177-86F2-3B31D7A74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B6DC7-F787-4CAD-8415-0CFC9657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FDC33-C968-42D5-9B73-2D3EB5F2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31F7B-8D33-4CCD-9254-C1C96481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D558-5B03-41EF-A389-C2BECA76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7BB5-3C76-4235-AA26-8B7D9955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3F21-62AC-4428-B02C-777DCB1E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E668-91D2-4265-B223-AEBD7751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8D21A-0575-41C0-A847-2C1FDA94E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E5C8-E160-43E5-9D9E-BC722B3F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88E-085F-4727-AF2E-A5D090F3A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F945-C9BD-4EC7-B01A-6F25A58EE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5267-7DC6-4DF9-936D-CB36B66B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A2FF-DB06-429D-ADCA-2CFE99C8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FAF6-0F77-4D73-8A15-D4B57BA4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18AF-FBF6-4DEC-9E6E-26DCD30D7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F770-AB58-49F4-B210-37DC6E87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79C0-5C67-42A5-AA2C-9BB983644B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4B2F-1DC4-4F5D-9D79-EF7DD8EA47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197080"/>
            <a:ext cx="7772400" cy="173664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8ae"/>
                </a:solidFill>
                <a:latin typeface="Comic Sans MS"/>
              </a:rPr>
              <a:t>EJEMPLOS DE HIPOTE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16000" y="49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MTRA.  MARTHA BEATRIZ CRUZ GONZÁL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Xalapa, Ver., Junio 22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4000" y="48420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DIPLOMADO EN VIH-SIDA: ENFOQUE INTEG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3600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2714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2800"/>
            </a:b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l </a:t>
            </a:r>
            <a:r>
              <a:rPr b="1" lang="es-ES" sz="2800" spc="-1" strike="noStrike">
                <a:solidFill>
                  <a:srgbClr val="0068ae"/>
                </a:solidFill>
                <a:latin typeface="Comic Sans MS"/>
              </a:rPr>
              <a:t>inicio de la vida sexual a muy temprana edad es un factores de riesgo en los jóvenes para contraer infecciones de transmisión sexual incluyendo el VIH-SIDA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3108240"/>
            <a:ext cx="8229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tercurr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3200"/>
            </a:b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l estado inmunológico y viral de la madre son factores de riesgo de la transmisión vertical del VIH.</a:t>
            </a:r>
            <a:r>
              <a:rPr b="0" lang="es-ES" sz="3200" spc="-1" strike="noStrike">
                <a:solidFill>
                  <a:srgbClr val="0068ae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11280" y="3711600"/>
            <a:ext cx="798984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197080"/>
            <a:ext cx="7772400" cy="1736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8ae"/>
                </a:solidFill>
                <a:latin typeface="Comic Sans MS"/>
              </a:rPr>
              <a:t>DEFINICIÓN DE VARIAB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116000" y="49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MTRA.  MARTHA BEATRIZ CRUZ GONZÁL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Xalapa, Ver., Junio 22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24000" y="48420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DIPLOMADO EN VIH-SIDA: ENFOQUE INTEG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800000"/>
                </a:solidFill>
                <a:latin typeface="Comic Sans MS"/>
              </a:rPr>
              <a:t>Definicion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Una variable es una característica, cualidad, atributo o propiedad del sujeto o unidad de observa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Se denominan variables porque no son fijas, pueden cambiar e intervienen muchos factores en este camb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Variabl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Características cualitativas y cuantitativas de los objetos de investigación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Comic Sans MS"/>
              </a:rPr>
              <a:t>Conjunto de atributos o características inherentes al fenóme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Comic Sans MS"/>
              </a:rPr>
              <a:t>Tipos de variabl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338200" y="2205000"/>
            <a:ext cx="4754520" cy="439272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Depend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Independ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Intervini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Intercurr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Confusor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Tipos de variabl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Dependient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e refiere al fenómeno que se intenta explicar y que será objeto de estudio a lo largo de la investig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omic Sans MS"/>
              </a:rPr>
              <a:t>Independient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on todos aquellos factores o elementos que explican un fenómeno o la conducta del fenómen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Tipos de variabl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800000"/>
                </a:solidFill>
                <a:latin typeface="Comic Sans MS"/>
              </a:rPr>
              <a:t>Interviniente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Son aquellas que influyen directamente sobre la variable dependiente y en los estudios experimentales son manipuladas por el investigad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800000"/>
                </a:solidFill>
                <a:latin typeface="Comic Sans MS"/>
              </a:rPr>
              <a:t>Intercurrentes</a:t>
            </a: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: Algunas características que pueden permitir comparaciones entre grupos simil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Comic Sans MS"/>
              </a:rPr>
              <a:t>Tipos de variabl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8640" y="2074680"/>
            <a:ext cx="8229600" cy="31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800000"/>
                </a:solidFill>
                <a:latin typeface="Comic Sans MS"/>
              </a:rPr>
              <a:t>Confusoras</a:t>
            </a: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: Algunas características que pueden afectar tanto a las variables dependientes como independientes, comúnmente llevan a errores, sesgos, du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Comic Sans MS"/>
              </a:rPr>
              <a:t>Operacionalización de las variab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2471400"/>
            <a:ext cx="7624440" cy="27003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8ae"/>
                </a:solidFill>
                <a:latin typeface="Comic Sans MS"/>
              </a:rPr>
              <a:t>Permite definir todas las características de las variables y cómo serán medid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8ae"/>
                </a:solidFill>
                <a:latin typeface="Comic Sans MS"/>
              </a:rPr>
              <a:t>Es la base del análisis estadíst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197080"/>
            <a:ext cx="7772400" cy="173664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68ae"/>
                </a:solidFill>
                <a:latin typeface="Comic Sans MS"/>
              </a:rPr>
              <a:t>EJEMPLOS DE HIPOTESI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116000" y="49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MTRA.  MARTHA BEATRIZ CRUZ GONZÁLE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Xalapa, Ver., Junio 22, 200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24000" y="484200"/>
            <a:ext cx="36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Comic Sans MS"/>
              </a:rPr>
              <a:t>DIPLOMADO EN VIH-SIDA: ENFOQUE INTEG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68ae"/>
                </a:solidFill>
                <a:latin typeface="Comic Sans MS"/>
              </a:rPr>
              <a:t>Nomencla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374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Cualitativas o categó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Cuantitativas o numér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11640" y="1989000"/>
            <a:ext cx="431640" cy="1584360"/>
          </a:xfrm>
          <a:custGeom>
            <a:avLst/>
            <a:gdLst>
              <a:gd name="textAreaLeft" fmla="*/ 0 w 431640"/>
              <a:gd name="textAreaRight" fmla="*/ 155880 w 43164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514"/>
                </a:lnTo>
                <a:cubicBezTo>
                  <a:pt x="10800" y="10414"/>
                  <a:pt x="16200" y="11314"/>
                  <a:pt x="21600" y="11314"/>
                </a:cubicBezTo>
                <a:cubicBezTo>
                  <a:pt x="16200" y="11314"/>
                  <a:pt x="10800" y="12214"/>
                  <a:pt x="10800" y="13114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40360" y="4292640"/>
            <a:ext cx="576000" cy="1873080"/>
          </a:xfrm>
          <a:custGeom>
            <a:avLst/>
            <a:gdLst>
              <a:gd name="textAreaLeft" fmla="*/ 0 w 576000"/>
              <a:gd name="textAreaRight" fmla="*/ 208080 w 57600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148360" y="4437000"/>
            <a:ext cx="280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Continu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e interva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iscre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9280" y="2276640"/>
            <a:ext cx="21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N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Ord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Comic Sans MS"/>
              </a:rPr>
              <a:t>Escala de medición Cualitativa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773360"/>
            <a:ext cx="7989840" cy="151920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68ae"/>
                </a:solidFill>
                <a:latin typeface="Comic Sans MS"/>
              </a:rPr>
              <a:t>Se ordenan en categorías debido a su carácter subjetivo y absolu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26920" y="4221000"/>
            <a:ext cx="3961080" cy="241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Comic Sans MS"/>
              </a:rPr>
              <a:t>Nominal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: indican diferencias entre si pero no se les ubica en niveles o jerarquí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Sexo: masculino/femeni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146560" y="4221000"/>
            <a:ext cx="3529080" cy="241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Comic Sans MS"/>
              </a:rPr>
              <a:t>Ordinal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: las categorías guardan un orden jerárqu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Desnutrición: leve, moderada, sev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987280" y="3284640"/>
            <a:ext cx="1584360" cy="86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076720" y="3284640"/>
            <a:ext cx="1440000" cy="8650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684000" y="1700280"/>
            <a:ext cx="7848360" cy="792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8ae"/>
                </a:solidFill>
                <a:latin typeface="Comic Sans MS"/>
              </a:rPr>
              <a:t>Cuantitativa: son características expresadas en valores numér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ecff"/>
                </a:solidFill>
                <a:latin typeface="Comic Sans MS"/>
              </a:rPr>
              <a:t>Escala de medición cuantitat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476360" y="2962440"/>
            <a:ext cx="714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Continu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asumen cualquier valor numérico y pueden variar en cualquier cantidad, sobre una escala aritmética e infinita. Incluye fr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315900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4724280"/>
            <a:ext cx="518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Estatura:  156.5,  165,  168.1, 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8ae"/>
                </a:solidFill>
                <a:latin typeface="Comic Sans MS"/>
              </a:rPr>
              <a:t>Escala de medición cuantitat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547640" y="2174760"/>
            <a:ext cx="64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Comic Sans MS"/>
              </a:rPr>
              <a:t>De intervalos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: categorías formadas por características numéricas con un orden jerárqu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68360" y="3789360"/>
            <a:ext cx="4248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jemplo Grupos de edad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875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enor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875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1 a 5 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875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6 a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1800" indent="-18756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11 a 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2205000"/>
            <a:ext cx="1008000" cy="433440"/>
          </a:xfrm>
          <a:custGeom>
            <a:avLst/>
            <a:gdLst>
              <a:gd name="textAreaLeft" fmla="*/ 157320 w 1008000"/>
              <a:gd name="textAreaRight" fmla="*/ 882000 w 1008000"/>
              <a:gd name="textAreaTop" fmla="*/ 108360 h 433440"/>
              <a:gd name="textAreaBottom" fmla="*/ 325080 h 433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8ae"/>
                </a:solidFill>
                <a:latin typeface="Comic Sans MS"/>
              </a:rPr>
              <a:t>Escala de medición cuantitativa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547640" y="2319480"/>
            <a:ext cx="69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Comic Sans MS"/>
              </a:rPr>
              <a:t>Discreta</a:t>
            </a:r>
            <a:r>
              <a:rPr b="0" lang="es-MX" sz="2400" spc="-1" strike="noStrike">
                <a:solidFill>
                  <a:srgbClr val="ffffff"/>
                </a:solidFill>
                <a:latin typeface="Comic Sans MS"/>
              </a:rPr>
              <a:t>: Intervalos cuantificados en un número finito de u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2349360"/>
            <a:ext cx="1223640" cy="432000"/>
          </a:xfrm>
          <a:custGeom>
            <a:avLst/>
            <a:gdLst>
              <a:gd name="textAreaLeft" fmla="*/ 191160 w 1223640"/>
              <a:gd name="textAreaRight" fmla="*/ 1071000 w 1223640"/>
              <a:gd name="textAreaTop" fmla="*/ 108000 h 432000"/>
              <a:gd name="textAreaBottom" fmla="*/ 324000 h 432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900000" y="4224240"/>
            <a:ext cx="7201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jemp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Número de cigarros fumados al día: 5,10,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ecff"/>
                </a:solidFill>
                <a:latin typeface="Arial"/>
              </a:rPr>
              <a:t>Cuadro de variable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539640" y="1981080"/>
          <a:ext cx="7918560" cy="4046760"/>
        </p:xfrm>
        <a:graphic>
          <a:graphicData uri="http://schemas.openxmlformats.org/drawingml/2006/table">
            <a:tbl>
              <a:tblPr/>
              <a:tblGrid>
                <a:gridCol w="1800360"/>
                <a:gridCol w="2663640"/>
                <a:gridCol w="2160720"/>
                <a:gridCol w="12938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8ae"/>
                          </a:solidFill>
                          <a:latin typeface="Comic Sans MS"/>
                        </a:rPr>
                        <a:t>Nombre y tipo de variab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8ae"/>
                          </a:solidFill>
                          <a:latin typeface="Comic Sans MS"/>
                        </a:rPr>
                        <a:t>Definición conceptu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8ae"/>
                          </a:solidFill>
                          <a:latin typeface="Comic Sans MS"/>
                        </a:rPr>
                        <a:t>Definición oper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0068ae"/>
                          </a:solidFill>
                          <a:latin typeface="Comic Sans MS"/>
                        </a:rPr>
                        <a:t>Escala de medició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00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Independi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abetes Mellit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La Diabetes Mellitus es el resultado de una alteración del metabolismo de los hidratos de carbono, debido a la deficiente producción de insulina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iabetes Mellitus tipo I y II en tratamiento conven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m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ependi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uberculosis Pulmon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fectación respiratoria producida por M. Tuberculos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TB pulmonar diagnosticada por clínica, rayos X y cultivo bacteria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Nomi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8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(SI – 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684360" y="105264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imes New Roman"/>
              </a:rPr>
              <a:t>Ejemplo de incidencia de tuberculosis pulmonar en pacientes diabé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041480"/>
            <a:ext cx="7846920" cy="18828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jemplo: </a:t>
            </a:r>
            <a:br>
              <a:rPr sz="3200"/>
            </a:b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l Cáncer de pulmón está relacionado con el hábito de fumar en hombres de 45 a 60 años de eda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3038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dependiente: hábito de fum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dependiente: cáncer de pulm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tercurrente: hombres, 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jemplo: </a:t>
            </a:r>
            <a:br>
              <a:rPr sz="3200"/>
            </a:b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La productividad de los obreros en la pequeña y mediana industria está relacionada con el salario que perciben y las condiciones de trabaj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3108240"/>
            <a:ext cx="8229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dependiente: el salario y las condiciones de traba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dependiente: productivida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tercurrente: tipo de indust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jemplo: </a:t>
            </a:r>
            <a:br>
              <a:rPr sz="3200"/>
            </a:br>
            <a:r>
              <a:rPr b="1" lang="es-MX" sz="3200" spc="-1" strike="noStrike">
                <a:solidFill>
                  <a:srgbClr val="0068ae"/>
                </a:solidFill>
                <a:latin typeface="Comic Sans MS"/>
              </a:rPr>
              <a:t>El nivel de escolaridad está asociado a la decisión de embarazarse en mujeres portadoras de VIH-SIDA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3108240"/>
            <a:ext cx="8229600" cy="23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tercurr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2800"/>
            </a:b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l </a:t>
            </a:r>
            <a:r>
              <a:rPr b="1" lang="es-ES" sz="2800" spc="-1" strike="noStrike">
                <a:solidFill>
                  <a:srgbClr val="0068ae"/>
                </a:solidFill>
                <a:latin typeface="Comic Sans MS"/>
              </a:rPr>
              <a:t>VIH-SIDA ocasiona el deterioro del estado nutricional de las personas portadoras</a:t>
            </a:r>
            <a:r>
              <a:rPr b="0" lang="es-ES" sz="2800" spc="-1" strike="noStrike">
                <a:solidFill>
                  <a:srgbClr val="0068ae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1280" y="3711600"/>
            <a:ext cx="79898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2800"/>
            </a:b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l nivel de </a:t>
            </a:r>
            <a:r>
              <a:rPr b="1" lang="es-ES" sz="2800" spc="-1" strike="noStrike">
                <a:solidFill>
                  <a:srgbClr val="0068ae"/>
                </a:solidFill>
                <a:latin typeface="Comic Sans MS"/>
              </a:rPr>
              <a:t>conocimientos sobre el VIH-SIDA está asociado a la realización de conductas de riesgo en las personas portadoras </a:t>
            </a:r>
            <a:r>
              <a:rPr b="0" lang="es-ES" sz="2800" spc="-1" strike="noStrike">
                <a:solidFill>
                  <a:srgbClr val="0068ae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11280" y="3711600"/>
            <a:ext cx="7989840" cy="15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dependi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dependi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omic Sans MS"/>
              </a:rPr>
              <a:t>Variable intercurr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266364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2800"/>
            </a:b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Las representaciones sociales del VIH-SIDA favorecen la adopción de comportamientos preventivos de la adquisición del VIH a través de vías específicas</a:t>
            </a:r>
            <a:r>
              <a:rPr b="0" lang="es-ES" sz="2800" spc="-1" strike="noStrike">
                <a:solidFill>
                  <a:srgbClr val="0068ae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1280" y="3711600"/>
            <a:ext cx="798984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3840" cy="2374920"/>
          </a:xfrm>
          <a:prstGeom prst="rect">
            <a:avLst/>
          </a:prstGeom>
          <a:solidFill>
            <a:srgbClr val="0088e4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jemplo:</a:t>
            </a:r>
            <a:br>
              <a:rPr sz="2800"/>
            </a:br>
            <a:r>
              <a:rPr b="1" lang="es-MX" sz="2800" spc="-1" strike="noStrike">
                <a:solidFill>
                  <a:srgbClr val="0068ae"/>
                </a:solidFill>
                <a:latin typeface="Comic Sans MS"/>
              </a:rPr>
              <a:t>El apego al tratamiento para el VIH-SIDA está asociado a la actitud positiva del paciente, a la aceptación familiar y al conocimiento sobre la enfermedad.</a:t>
            </a:r>
            <a:r>
              <a:rPr b="0" lang="es-ES" sz="2800" spc="-1" strike="noStrike">
                <a:solidFill>
                  <a:srgbClr val="0068ae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1280" y="3711600"/>
            <a:ext cx="7989840" cy="18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independient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Comic Sans MS"/>
              </a:rPr>
              <a:t>Variable dependi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7:59:19Z</dcterms:created>
  <dc:creator>LEONIC</dc:creator>
  <dc:description/>
  <dc:language>en-US</dc:language>
  <cp:lastModifiedBy>LEONIC</cp:lastModifiedBy>
  <dcterms:modified xsi:type="dcterms:W3CDTF">2008-10-25T18:27:31Z</dcterms:modified>
  <cp:revision>2</cp:revision>
  <dc:subject/>
  <dc:title>DEFINICIÓN DE VARIABLES</dc:title>
</cp:coreProperties>
</file>