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B01-1A52-4B0B-8A21-34E83244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5CC-9DCF-4FEF-BCE4-1B4E68E5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84C-83AB-48CD-9E48-93BE121D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852-30EE-48D1-A05A-157A3798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47C-498F-48AF-A527-75C30C79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D4A-4FA8-408D-95A5-E6EEC830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076-8407-4A73-B558-2FE4CC1C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BB3-445A-4501-BFAC-A0AF6F58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B5F-D426-472F-9217-1527FCE8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0F1-C279-4A36-9A4E-C9C15AC7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162-0AC9-472B-B3B7-3411EE99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4ED-9689-4140-8238-4886AB2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C6FA0-F2E3-41B5-93EE-73A1D82A8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E31E8-15BA-4AA3-902D-C77F2024E82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3:47:44Z</dcterms:created>
  <dc:creator>최봉수</dc:creator>
  <dc:description/>
  <dc:language>en-US</dc:language>
  <cp:lastModifiedBy>군만두 맛있다</cp:lastModifiedBy>
  <dcterms:modified xsi:type="dcterms:W3CDTF">2023-07-12T04:05:14Z</dcterms:modified>
  <cp:revision>2</cp:revision>
  <dc:subject/>
  <dc:title>슬라이드 1</dc:title>
</cp:coreProperties>
</file>