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DA8-0141-431E-9853-CD03F892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D1A-47E6-45B3-9BBB-DC62A742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AEC-430F-4915-BA75-E7870311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213-B994-4938-A825-A9D0281C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35E-CF5C-443F-B92C-4AB5E642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0AB-A891-42AE-AA54-A63DBEDD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A7C-8514-40D8-BB93-2CA29BF9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55F-E792-4D18-9967-3978CEAD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E0D-20F6-44A6-922E-F0BD9DE3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281-26B4-481A-9E28-2EABBB6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1B6-2E0A-4DB5-9326-DB73411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30F-C0AD-4F70-B936-5B02C0C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F4AC9-86E8-447F-B45B-CD6E509AE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A7C60-EF36-4536-A211-2E523D7643C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3:47:44Z</dcterms:created>
  <dc:creator>최봉수</dc:creator>
  <dc:description/>
  <dc:language>en-US</dc:language>
  <cp:lastModifiedBy>군만두 맛있다</cp:lastModifiedBy>
  <dcterms:modified xsi:type="dcterms:W3CDTF">2023-07-12T04:05:14Z</dcterms:modified>
  <cp:revision>2</cp:revision>
  <dc:subject/>
  <dc:title>슬라이드 1</dc:title>
</cp:coreProperties>
</file>