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BF1-4052-4082-94E5-9845A8F5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1EA-3067-4EB2-BC9E-E884EBE5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985-45ED-46EA-9E5C-9924C747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745-DD5F-4143-ADBA-9E9CF7E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5E23-D396-45CB-9DA4-DC03D879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3F6E-83E6-4281-9AC5-1EC8EC05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3653-A17A-4226-BD6A-3B471B4A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4124-B044-43F6-A8B3-47D70896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543C-C3DA-40AA-B656-956F262F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F759-1721-40AD-BE3A-1AB4D4CE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6B92-3688-402F-9F17-E8083A4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4AB-6B0E-4729-ABEB-D207E5AE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F6D7-61B1-4BAE-BF39-A7E10F03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6ADB-5DDF-460A-922A-A42DFB36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ACE1-B7F4-4E10-B762-0CE7AC2F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450C-3B7E-4E83-8DA0-BD142D36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F904-6405-4A08-B918-133E3E80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CDF-83D0-480C-8E49-F710ADB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C5E-272C-45B5-B207-D97ACCD2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087-4B4D-453E-BBB2-3FF5412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E782-4516-4D1D-89DE-24465EB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E89-7CBB-408F-8615-255CF78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A50-6DE0-4377-AA82-45EFE37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65FE-22E1-49CB-B056-5DE02A1F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36C7-A9E1-4CD8-B5BB-5CCE3D7EC863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9150-4093-4EE3-A190-9E27F7FC9E70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How to Add a New Protocol in NS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Xu Leiming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SCW Lab. at CS Dept., Tsinghua Univ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ilto:xlming@csnet4.cs.tsinghua.edu.c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June 1, 2001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cc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1676520"/>
            <a:ext cx="7696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nt hdr_ping::offset_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class PingHeaderClass : public PacketHeaderClass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HeaderClass() : PacketHeaderClass("PacketHeader/Ping",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zeof(hdr_ping)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ind_offset(&amp;hdr_ping::offset_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class_pinghdr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class PingClass : public TclClass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Class() : TclClass("Agent/Ping") {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Object* create(int, const char*const*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return (new PingAgent()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class_ping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cc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7432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ingAgent::PingAgent() : Agent(PT_PING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ind("packetSize_", &amp;size_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174600"/>
            <a:ext cx="7772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nt PingAgent::command(int argc, const char*const* argv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argc == 2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strcmp(argv[1], "send") == 0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reate a new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* pkt = allocpkt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new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 = hdr_ping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'ret' field to 0, so the receiving node know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that it has to generate an echo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-&gt;ret = 0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tore the current time in the 'send_time' fiel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-&gt;send_time = Scheduler::instance().clock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nd(pkt, 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return TCL_OK, so the calling function knows that th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ommand has been processe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return (TCL_OK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f the command hasn't been processed by PingAgent()::command,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all the command() function for the base clas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return (Agent::command(argc, argv)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228600"/>
            <a:ext cx="7924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void PingAgent::recv(Packet* pkt, Handler*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IP header for the received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ip* hdrip = hdr_ip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received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 = hdr_ping::access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s the 'ret' field = 0 (i.e. the receiving node is being pinged)?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if (hdr-&gt;ret == 0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an 'echo'. First save the old packet's send_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double stime = hdr-&gt;send_time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Discar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::free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Create a new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* pktret = allocpkt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ccess the Ping header for the new packet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_ping* hdrret = hdr_ping::access(pktre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'ret' field to 1, so the receiver won't send another ech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ret-&gt;ret = 1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t the send_time field to the correct valu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ret-&gt;send_time = stime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Sen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nd(pktret, 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457200"/>
            <a:ext cx="7238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}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else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A packet was received. Use tcl.eval to call the Tc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interpreter with the ping results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Note: In the Tcl code, a procedure 'Agent/Ping recv {from rtt}'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has to be defined which allows the user to react to the ping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result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har out[100]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Prepare the output to the Tcl interpreter. Calculate the round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trip tim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printf(out, "%s recv %d %3.1f", name()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hdrip-&gt;src_.addr_ &gt;&gt; Address::instance().NodeShift_[1],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(Scheduler::instance().clock()-hdr-&gt;send_time) * 1000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cl&amp; tcl = Tcl::instance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tcl.eval(ou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// Discard the packe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acket::free(pkt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tcl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27520" y="1752480"/>
            <a:ext cx="63604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efine a 'recv' function for the class 'Agent/Ping'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gent/Ping instproc recv {from rtt}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self instvar node_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ts "node [$node_ id] received ping answer from \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from with round-trip-time $rtt ms."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s [new Simulator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f [open out.nam w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namtrace-all $nf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 three node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0 [$ns node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n1 [$ns node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457200"/>
            <a:ext cx="746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onnect the nodes with one lin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duplex-link $n0 $n1 1Mb 10ms DropTai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Times New Roman"/>
              </a:rPr>
              <a:t>#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reate two ping agents and attach them to the nodes n0 and n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p0 [new Agent/Ping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tach-agent $n0 $p0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set p1 [new Agent/Ping]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tach-agent $n1 $p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Connect the two age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connect $p0 $p1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Schedule event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2 "$p0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4 "$p1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6 "$p0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0.6 "$p1 send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at 1.0 "finish"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#Run the simulatio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$ns run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.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360" y="2487600"/>
            <a:ext cx="613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enum packet_t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CP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UDP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..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// insert new packet types he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FRC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TFRC_ACK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T_PING,    //  packet protocol ID for our ping-ag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T_NTYPE // This MUST be the LAST on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.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243540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class p_info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p_info() 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CP]= "tcp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UDP]= "udp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......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FRC]= "tcpFriend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TFRC_ACK]= "tcpFriendCtl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name_[PT_PING]="Ping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name_[PT_NTYPE]= "undefined"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/lib/ns-default.tc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gent/Ping set packetSize_ 64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/lib/ns-packet.tc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reach prot {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ODV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RP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SRM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……  </a:t>
            </a:r>
            <a:br>
              <a:rPr sz="2000"/>
            </a:b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ing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 {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add-packet-header $prot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 Example ---- P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cket flow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de mode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Our research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cessary changes (cont.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kefil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ssionhelper.o delaymodel.o srm-ssm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rm-topo.o \</a:t>
            </a:r>
            <a:br>
              <a:rPr sz="2000"/>
            </a:b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d3333"/>
                </a:solidFill>
                <a:latin typeface="Times New Roman"/>
              </a:rPr>
              <a:t>ping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(LIB_DIR)int.Vec.o $(LIB_DIR)int.RVec.o \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$(LIB_DIR)dmalloc_support.o \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ompile and run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 depend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ke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ns  ping.tc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flo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76520"/>
          <a:ext cx="76964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6964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ode Models -- Wireless No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9624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ode Models -- LA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4674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net: Mobile Ad hoc Network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No fixed infra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bile nod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ulti-hop wireless networ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ry host act as a rout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uting protocol in Manet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ODV  DSR  DSDV 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arget applications:</a:t>
            </a:r>
            <a:br>
              <a:rPr sz="32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attlefield,  border patrol,  disaster recovery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990720" y="609480"/>
          <a:ext cx="7848360" cy="554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84836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MU Ad-Hocke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alistic scenario build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isualizations of the simulation trace fil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cenario: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1500m * 300m,  50 node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opogation range: 250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x speed: 20m/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use time: 0 30 60 120 300 600 900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raffic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BR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  4pkt/s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urce number: 10 20 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Simlation time: 900s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nalyze the trace file: perl program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274320" indent="-27432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Performance metric: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cket delivery ra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end-end dela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tocol overhea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…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ur Research : Wireless rout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packet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++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necessary chang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828800" y="1752480"/>
          <a:ext cx="56386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56386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46784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w Packet Hea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new header structur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able tracing support of new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eate static class for OTcl linkage (packet.h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able new header in Otcl (tcl/lib/ns-packet.tcl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New Agen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ecide position in class hierarchy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rive from a agent cla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Link with a OTcl cla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Class  TclObjec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clObject::bind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Otcl --&gt; c++: command() &lt;otcl command&gt;,  tcl.result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++ --&gt; otcl: tcl.eval(“&lt;otcl action&gt;”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member functions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t Agent::command(int argc, const char*const* argv)</a:t>
            </a: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void Agent::recv(Packet* pkt, Handler*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ew packet head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++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cl co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ome necessary chang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ing.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584360"/>
            <a:ext cx="7620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ruct hdr_ping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har ret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double send_time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// Header access method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tatic int offset_; // required by PacketHeaderManag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inline static hdr_ping* access(const Packet* p)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return (hdr_ping*) p-&gt;access(offset_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class PingAgent : public Agent {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ublic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PingAgent(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irtual int command(int argc, const char*const* argv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virtual void recv(Packet*, Handler*)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};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7T09:54:43Z</dcterms:created>
  <dc:creator>xlming</dc:creator>
  <dc:description/>
  <dc:language>en-US</dc:language>
  <cp:lastModifiedBy>xlming</cp:lastModifiedBy>
  <dcterms:modified xsi:type="dcterms:W3CDTF">2001-05-31T13:28:43Z</dcterms:modified>
  <cp:revision>29</cp:revision>
  <dc:subject/>
  <dc:title>How to Add a New Protocol in NS2</dc:title>
</cp:coreProperties>
</file>