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740-86EE-4858-BA8E-FF1C7EDA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EBB-239E-4BA7-91CA-161F373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811-6B33-483E-A989-92275303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F2C-15C7-4C6E-B171-37B2BDD3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3F50-C54E-414F-AA01-554E55B5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F3C-AE12-4F01-B668-5A242EA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4BAA-8817-4F0C-AB33-55653196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8B9D-E38A-4E31-8C46-0B75EE96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918C-4C61-4EB9-A67A-E719570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000-AD15-46BD-AE6D-2880A64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7C11-B0A4-4CFB-900A-26CE90C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811-7161-40B0-A88B-DFBB39B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95E-4642-4121-AAF8-08294DB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0C3-AF23-4E95-ABEA-753EFAF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48E-4A96-4140-9472-ABF2060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69B-9EC1-439B-91CD-23371506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BB3-DCB0-4E6A-A0D3-9DC28E42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28F-C6CB-4BA8-A121-D5465C0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261-A01D-4AE2-A6E4-EF1AED3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904-2DBB-49B7-A24A-11593F4A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BCD-3A05-4944-8EE8-7053BBE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119-FE05-424B-A8F1-7FE4361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1DE-A68F-46E7-9C33-5C48378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82D-2BDF-410B-8593-B7AFC98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36B-BE57-4EE0-AEC5-26B89E9C620D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8B2-A4F5-4D23-A2D8-A50C6DF26BA1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Add a New Protocol in NS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Xu Leiming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SCW Lab. at CS Dept., Tsinghua Univ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ilto:xlming@csnet4.cs.tsinghua.edu.c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June 1, 2001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676520"/>
            <a:ext cx="7696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t hdr_ping::offset_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HeaderClass : public PacketHeader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HeaderClass() : PacketHeaderClass("PacketHeader/Ping"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zeof(hdr_ping)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ind_offset(&amp;hdr_ping::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hd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Class : public Tcl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Class() : TclClass("Agent/Ping") {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* create(int, const char*const*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new PingAgent()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7432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ngAgent::PingAgent() : Agent(PT_PING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nd("packetSize_", &amp;size_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174600"/>
            <a:ext cx="777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 PingAgent::command(int argc, const char*const* argv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argc == 2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strcmp(argv[1], "send")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0, so the receiving node know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hat it has to generate an echo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ret = 0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tore the current time in the 'send_time' fiel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send_time = Scheduler::instance().clock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turn TCL_OK, so the calling function knows that th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ommand has been processe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TCL_OK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f the command hasn't been processed by PingAgent()::command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all the command() function for the base clas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Agent::command(argc, argv)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28600"/>
            <a:ext cx="7924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void PingAgent::recv(Packet* pkt, Handler*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IP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ip* hdrip = hdr_ip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s the 'ret' field = 0 (i.e. the receiving node is being pinged)?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hdr-&gt;ret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an 'echo'. First save the old packet's send_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ouble stime = hdr-&gt;send_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re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ret = hdr_ping::access(pktre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1, so the receiver won't send another ech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ret = 1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send_time field to the correct valu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send_time = s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re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457200"/>
            <a:ext cx="723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}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else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 packet was received. Use tcl.eval to call the Tc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nterpreter with the ping result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Note: In the Tcl code, a procedure 'Agent/Ping recv {from rtt}'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has to be defined which allows the user to react to the p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sult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har out[100]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Prepare the output to the Tcl interpreter. Calculate the roun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rip 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printf(out, "%s recv %d %3.1f", name()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ip-&gt;src_.addr_ &gt;&gt; Address::instance().NodeShift_[1]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Scheduler::instance().clock()-hdr-&gt;send_time) * 100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&amp; tcl = Tcl::instance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.eval(ou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tc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520" y="1752480"/>
            <a:ext cx="6360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efine a 'recv' function for the class 'Agent/Ping'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instproc recv {from rtt}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self instvar node_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ts "node [$node_ id] received ping answer from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from with round-trip-time $rtt ms."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s [new Simulator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f [open out.nam w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namtrace-all $n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hree nod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0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1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45720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nnect the nodes with one lin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duplex-link $n0 $n1 1Mb 10ms DropTai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wo ping agents and attach them to the nodes n0 and n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0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0 $p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1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1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Connect the two ag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connect $p0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Schedule ev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2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4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1.0 "finish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Run the simula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ru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360" y="2487600"/>
            <a:ext cx="613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num packet_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C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UD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insert new packet types he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_ACK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T_PING,    //  packet protocol ID for our ping-ag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NTYPE // This MUST be the LAST o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43540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ass p_info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_info(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CP]= "tc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UDP]= "ud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]= "tcpFrien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_ACK]= "tcpFriendCtl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name_[PT_PING]="Ping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NTYPE]= "undefine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defaul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set packetSize_ 6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packe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reach prot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ODV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RP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RM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……  </a:t>
            </a:r>
            <a:br>
              <a:rPr sz="2000"/>
            </a:b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dd-packet-header $prot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xample ---- P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 fl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de mode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Our resear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kefil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ssionhelper.o delaymodel.o srm-ssm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rm-topo.o \</a:t>
            </a:r>
            <a:br>
              <a:rPr sz="2000"/>
            </a:b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int.Vec.o $(LIB_DIR)int.RVec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dmalloc_support.o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mpile and ru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depend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s  ping.tc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flo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76520"/>
          <a:ext cx="76964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6964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Wireless N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96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LA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467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net: Mobile Ad hoc Network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ixed infra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bile nod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-hop wireless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host act as a rou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uting protocol in Mane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ODV  DSR  DSDV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arget applications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ttlefield,  border patrol,  disaster recovery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990720" y="609480"/>
          <a:ext cx="7848360" cy="554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84836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MU Ad-Hock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listic scenario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isualizations of the simulation trace f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enario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500m * 300m,  50 node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pogation range: 250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x speed: 20m/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use time: 0 30 60 120 300 600 9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raffic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B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4pkt/s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urce number: 10 20 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imlation time: 900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alyze the trace file: perl progra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erformance metric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cket delivery r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d-end dela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tocol overhe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752480"/>
          <a:ext cx="56386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6386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4678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new header structu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tracing support of new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static class for OTcl linkage (packet.h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new header in Otcl (tcl/lib/ns-packet.tc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Ag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cide position in class hierarchy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rive from a agent cla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nk with a OTcl cla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Class  TclObj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::bind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tcl --&gt; c++: command() &lt;otcl command&gt;,  tcl.result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++ --&gt; otcl: tcl.eval(“&lt;otcl action&gt;”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member function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 Agent::command(int argc, const char*const* argv)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oid Agent::recv(Packet* pkt, Handler*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84360"/>
            <a:ext cx="7620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ruct hdr_ping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har re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uble send_time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Header access method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int offset_; // required by PacketHeaderManag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line static hdr_ping* access(const Packet* p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hdr_ping*) p-&gt;access(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ass PingAgent : public Agen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Agent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int command(int argc, const char*const* argv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void recv(Packet*, Handler*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09:54:43Z</dcterms:created>
  <dc:creator>xlming</dc:creator>
  <dc:description/>
  <dc:language>en-US</dc:language>
  <cp:lastModifiedBy>xlming</cp:lastModifiedBy>
  <dcterms:modified xsi:type="dcterms:W3CDTF">2001-05-31T13:28:43Z</dcterms:modified>
  <cp:revision>29</cp:revision>
  <dc:subject/>
  <dc:title>How to Add a New Protocol in NS2</dc:title>
</cp:coreProperties>
</file>