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0DBE-C5F5-42BF-B976-086BE318BF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181-3297-4214-AB50-3503DF9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9A1-4251-4874-852A-749EE08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E84-CFFD-4111-97FB-3B0BC28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0F1-594C-4626-9FCB-6B0B63CA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68F-EA99-4272-93D7-E02E060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2EB-C5DD-40BF-82C4-31E5104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629-D095-4466-84C1-88B82B2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AD0-00E7-4CA1-BE5B-7D05888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B39-7C22-4F85-9902-8527067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61C-3B6F-4B88-AAC0-BC86A21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F42-9F6D-4C07-A0B5-21A01F7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D2B-2195-42D3-AF6A-41E5FE7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659-A940-4027-9A54-FB47962EB4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../MODELO%20METODOLOG&#205;A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" y="228600"/>
            <a:ext cx="8686800" cy="18288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380880" y="2514600"/>
            <a:ext cx="84582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" name="Picture 5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304920" y="380880"/>
            <a:ext cx="990360" cy="943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228600" y="30481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METODOLOGÍA”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371600" y="457200"/>
            <a:ext cx="6324480" cy="707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UNIVERSIDAD AUTÓNOMA DEL ESTADO DE MÉXICO</a:t>
            </a:r>
            <a:endParaRPr b="1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LANTEL “CUAUHTÉMOC” DE LA ESCUELA PREPARATORIA</a:t>
            </a:r>
            <a:endParaRPr b="1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447920" y="5181480"/>
            <a:ext cx="5790960" cy="45972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A.Ed. Martín José Chong Campuzan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257800" y="6172200"/>
            <a:ext cx="3581280" cy="3682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BRIL DE 2010.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6" name="Object 17"/>
          <p:cNvGraphicFramePr/>
          <p:nvPr/>
        </p:nvGraphicFramePr>
        <p:xfrm>
          <a:off x="7772400" y="380880"/>
          <a:ext cx="9907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380880"/>
                    <a:ext cx="9907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295280" y="228600"/>
            <a:ext cx="6553440" cy="13737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8.METODOLOGÍA,ESTRATEGIA METODOLÓGICA, O PLAN DE TRABAJO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2280" y="2362320"/>
            <a:ext cx="8686800" cy="26694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1. CONCEPT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Consiste en describir los procedimientos y herramientas  que se utilizarán para realizar la investigación y alcanzar los objetivos propuestos. Para ello se tiene que considerar el tipo de estudio a realizar (exploratorio, descriptivo y correlacional o explicativo) .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11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13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95280" y="228600"/>
            <a:ext cx="6553440" cy="5205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2. TIPOS DE ESTUDIO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219320"/>
            <a:ext cx="8077320" cy="2128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Por su nivel de profundidad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 Exploratori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escriptiv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Explicativ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5" name="Picture 4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5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"/>
          <p:cNvSpPr/>
          <p:nvPr/>
        </p:nvSpPr>
        <p:spPr>
          <a:xfrm>
            <a:off x="609480" y="4114800"/>
            <a:ext cx="8077320" cy="2128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Por la fuente de información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ocumenta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e camp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Experimenta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38080" y="304920"/>
            <a:ext cx="7391520" cy="15652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3. DESCRIPCIÓN DE LOS PROCEDIMIENTOS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¿Cuántos procedimientos se identifican en la investigación?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228600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lo teóric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investigación documental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.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documentale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28600" y="350532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la realidad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investigación de camp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.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de camp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28600" y="480060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procesar y analizar los dato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cualitativas y cuantitativa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10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12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19320" y="304920"/>
            <a:ext cx="6933960" cy="5205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4. EJEMPLO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7" name="Picture 6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7"/>
          <p:cNvGraphicFramePr/>
          <p:nvPr/>
        </p:nvGraphicFramePr>
        <p:xfrm>
          <a:off x="0" y="0"/>
          <a:ext cx="106668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8"/>
          <p:cNvSpPr/>
          <p:nvPr/>
        </p:nvSpPr>
        <p:spPr>
          <a:xfrm>
            <a:off x="6094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DELO DEL APARTADO DE METODOLOGÍA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2590920"/>
            <a:ext cx="7924680" cy="10083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Times New Roman"/>
              </a:rPr>
              <a:t>¡MUCHAS GRACIAS!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2" name="Picture 6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7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31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293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838080" y="30481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00"/>
                </a:solidFill>
                <a:latin typeface="Monotype Corsiva"/>
              </a:rPr>
              <a:t>¡MUCHAS GRACIAS!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Rectangle 1034"/>
          <p:cNvSpPr/>
          <p:nvPr/>
        </p:nvSpPr>
        <p:spPr>
          <a:xfrm>
            <a:off x="36576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8" name="Object 7"/>
          <p:cNvGraphicFramePr/>
          <p:nvPr/>
        </p:nvGraphicFramePr>
        <p:xfrm>
          <a:off x="0" y="0"/>
          <a:ext cx="134460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344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3:05:33Z</dcterms:created>
  <dc:creator>Familia Chong Hernández</dc:creator>
  <dc:description/>
  <dc:language>en-US</dc:language>
  <cp:lastModifiedBy>Martin</cp:lastModifiedBy>
  <dcterms:modified xsi:type="dcterms:W3CDTF">2010-03-17T19:33:04Z</dcterms:modified>
  <cp:revision>57</cp:revision>
  <dc:subject/>
  <dc:title>Presentación de PowerPoint</dc:title>
</cp:coreProperties>
</file>