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9B85-FC55-473B-8DFF-C90D011280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aboración de Proyectos de investigación</a:t>
            </a:r>
            <a:endParaRPr b="1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3F6-E6FB-49B5-A8EF-AA965C50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B84-707E-44DB-8F4D-0C4E8C2F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117-1DA1-4BE7-83FC-C9B32A95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F07-EFB6-46C3-B49F-2B7C1D85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42F-1EF6-4004-81CB-B8936A92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F36-794B-4506-8B08-86A0055F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04D-F23F-4794-A229-C9B274EF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3E2-558C-4EA9-B696-ED45C6ED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E2D-0B88-4222-900F-35D3FBE4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ED8-2FF2-4B9A-97E2-0E7C9FA4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32B-D827-4932-902B-30965D4E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864-7E0E-4EA6-B1CC-BCFD7AFD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CEA9-CB7E-4580-874D-839FA0810E7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hyperlink" Target="file:///../MODELO%20METODOLOG&#205;A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28600" y="228600"/>
            <a:ext cx="8686800" cy="1828800"/>
          </a:xfrm>
          <a:prstGeom prst="rect">
            <a:avLst/>
          </a:prstGeom>
          <a:solidFill>
            <a:srgbClr val="ffcc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380880" y="2514600"/>
            <a:ext cx="845820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0" name="Picture 5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304920" y="380880"/>
            <a:ext cx="990360" cy="943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228600" y="304812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METODOLOGÍA”</a:t>
            </a:r>
            <a:endParaRPr b="1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371600" y="457200"/>
            <a:ext cx="6324480" cy="707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UNIVERSIDAD AUTÓNOMA DEL ESTADO DE MÉXICO</a:t>
            </a:r>
            <a:endParaRPr b="1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LANTEL “CUAUHTÉMOC” DE LA ESCUELA PREPARATORIA</a:t>
            </a:r>
            <a:endParaRPr b="1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447920" y="5181480"/>
            <a:ext cx="5790960" cy="45972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A.Ed. Martín José Chong Campuzan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257800" y="6172200"/>
            <a:ext cx="3581280" cy="36828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BRIL DE 2010.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57200" y="2743200"/>
            <a:ext cx="84582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6" name="Object 17"/>
          <p:cNvGraphicFramePr/>
          <p:nvPr/>
        </p:nvGraphicFramePr>
        <p:xfrm>
          <a:off x="7772400" y="380880"/>
          <a:ext cx="99072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380880"/>
                    <a:ext cx="9907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1295280" y="228600"/>
            <a:ext cx="6553440" cy="13737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8.METODOLOGÍA,ESTRATEGIA METODOLÓGICA, O PLAN DE TRABAJO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52280" y="2362320"/>
            <a:ext cx="8686800" cy="26694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1. CONCEPT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Consiste en describir los procedimientos y herramientas  que se utilizarán para realizar la investigación y alcanzar los objetivos propuestos. Para ello se tiene que considerar el tipo de estudio a realizar (exploratorio, descriptivo y correlacional o explicativo) .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11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13"/>
          <p:cNvGraphicFramePr/>
          <p:nvPr/>
        </p:nvGraphicFramePr>
        <p:xfrm>
          <a:off x="0" y="0"/>
          <a:ext cx="83808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38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95280" y="228600"/>
            <a:ext cx="6553440" cy="5205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2. TIPOS DE ESTUDIO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219320"/>
            <a:ext cx="8077320" cy="21283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Por su nivel de profundidad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 Exploratori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Descriptiv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Explicativ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5" name="Picture 4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5"/>
          <p:cNvGraphicFramePr/>
          <p:nvPr/>
        </p:nvGraphicFramePr>
        <p:xfrm>
          <a:off x="0" y="0"/>
          <a:ext cx="83808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38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"/>
          <p:cNvSpPr/>
          <p:nvPr/>
        </p:nvSpPr>
        <p:spPr>
          <a:xfrm>
            <a:off x="609480" y="4114800"/>
            <a:ext cx="8077320" cy="21283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Por la fuente de información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Documenta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De campo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Times New Roman"/>
              </a:rPr>
              <a:t>-Experimental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838080" y="304920"/>
            <a:ext cx="7391520" cy="156528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3. DESCRIPCIÓN DE LOS PROCEDIMIENTOS</a:t>
            </a: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¿Cuántos procedimientos se identifican en la investigación?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8600" y="2286000"/>
            <a:ext cx="8686800" cy="88596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Procedimiento para lo teórico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: 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investigación documental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. (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técnicas documentales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28600" y="3505320"/>
            <a:ext cx="8686800" cy="88596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Procedimiento para la realidad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: 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investigación de campo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. (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técnicas de campo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28600" y="4800600"/>
            <a:ext cx="8686800" cy="88596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Procedimiento para procesar y analizar los datos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 (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técnicas cualitativas y cuantitativas</a:t>
            </a:r>
            <a:r>
              <a:rPr b="1" lang="es-MX" sz="26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es-ES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1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10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12"/>
          <p:cNvGraphicFramePr/>
          <p:nvPr/>
        </p:nvGraphicFramePr>
        <p:xfrm>
          <a:off x="0" y="0"/>
          <a:ext cx="83808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38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219320" y="304920"/>
            <a:ext cx="6933960" cy="5205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4. EJEMPLO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7" name="Picture 6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7"/>
          <p:cNvGraphicFramePr/>
          <p:nvPr/>
        </p:nvGraphicFramePr>
        <p:xfrm>
          <a:off x="0" y="0"/>
          <a:ext cx="106668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8"/>
          <p:cNvSpPr/>
          <p:nvPr/>
        </p:nvSpPr>
        <p:spPr>
          <a:xfrm>
            <a:off x="609480" y="1523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ODELO DEL APARTADO DE METODOLOGÍA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3520" y="2590920"/>
            <a:ext cx="7924680" cy="10083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Times New Roman"/>
              </a:rPr>
              <a:t>¡MUCHAS GRACIAS!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2" name="Picture 6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8229600" y="0"/>
            <a:ext cx="914400" cy="8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7"/>
          <p:cNvGraphicFramePr/>
          <p:nvPr/>
        </p:nvGraphicFramePr>
        <p:xfrm>
          <a:off x="0" y="0"/>
          <a:ext cx="838080" cy="8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380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31" descr="http://www.uaemex.mx/ideario/suni/suni1D0A5.jpg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293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838080" y="30481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00"/>
                </a:solidFill>
                <a:latin typeface="Monotype Corsiva"/>
              </a:rPr>
              <a:t>¡MUCHAS GRACIAS!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Rectangle 1034"/>
          <p:cNvSpPr/>
          <p:nvPr/>
        </p:nvSpPr>
        <p:spPr>
          <a:xfrm>
            <a:off x="36576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8" name="Object 7"/>
          <p:cNvGraphicFramePr/>
          <p:nvPr/>
        </p:nvGraphicFramePr>
        <p:xfrm>
          <a:off x="0" y="0"/>
          <a:ext cx="1344600" cy="12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3446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03:05:33Z</dcterms:created>
  <dc:creator>Familia Chong Hernández</dc:creator>
  <dc:description/>
  <dc:language>en-US</dc:language>
  <cp:lastModifiedBy>Martin</cp:lastModifiedBy>
  <dcterms:modified xsi:type="dcterms:W3CDTF">2010-03-17T19:33:04Z</dcterms:modified>
  <cp:revision>57</cp:revision>
  <dc:subject/>
  <dc:title>Presentación de PowerPoint</dc:title>
</cp:coreProperties>
</file>