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jpeg" ContentType="image/jpeg"/>
  <Override PartName="/ppt/media/image24.jpeg" ContentType="image/jpeg"/>
  <Override PartName="/ppt/media/image5.jpeg" ContentType="image/jpeg"/>
  <Override PartName="/ppt/media/image32.jpeg" ContentType="image/jpeg"/>
  <Override PartName="/ppt/media/image26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6.wmf" ContentType="image/x-wmf"/>
  <Override PartName="/ppt/media/image8.png" ContentType="image/png"/>
  <Override PartName="/ppt/media/image14.jpeg" ContentType="image/jpeg"/>
  <Override PartName="/ppt/media/image11.jpeg" ContentType="image/jpeg"/>
  <Override PartName="/ppt/media/image12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-21600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Introduction aux réseau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31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M1-M2 IS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M2 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287280" y="7121520"/>
            <a:ext cx="119700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eilze D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427720" y="7132680"/>
            <a:ext cx="453060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UFR Mathématiques et Informatiques - Crip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26840" y="47304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ystème distribué X Réseau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12440" y="1801440"/>
            <a:ext cx="860724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ystème distribu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giciel système en-dessus d'un rése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ue unique et cohérente d'un ensemble d'ordinate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ésea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« Vrais » machines : aucune vue cohér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fférentes archite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fférents systèmes d'explo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stinction repose sur le logici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12440" y="37476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L'intérêt des réseaux d'ordinateu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57000" y="1625400"/>
            <a:ext cx="8607240" cy="55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dé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: partager les res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Bu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: l'information disponible à quicon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ans souci de localisation phys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pplications commer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nitorer la production, le payement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s personnes : communication puiss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Mail, Chat, News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Videoconférence, Commerce éléctron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98400" y="501120"/>
            <a:ext cx="860760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Domaines en croiss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12440" y="1849320"/>
            <a:ext cx="8607240" cy="50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munication orientée application via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ppels téléphon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Video ph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adio sur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seignement à d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ideo à la dema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Jeux vid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merce éléctron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Le modèle Client-Serveu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144440" y="2225520"/>
            <a:ext cx="7647120" cy="454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39440" y="388440"/>
            <a:ext cx="86072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Le modèle Client-Serveu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26840" y="1719360"/>
            <a:ext cx="8607240" cy="57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ient et serveur reliés par un résea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rveurs ==&gt; Des ordinateurs puissa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ockage de Base de Donné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rveur 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ients ==&gt; Machines simp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s ordinateurs sur le bure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ccès au serve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 les utilisa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ia des requê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Le modèle Client-Serveu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35120" y="2760840"/>
            <a:ext cx="8342280" cy="297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26840" y="57168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Peer-to-pe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824120" y="2227320"/>
            <a:ext cx="5742000" cy="424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69600" y="47304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Peer-to-pe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47720" y="1979640"/>
            <a:ext cx="8682120" cy="448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26840" y="41760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Peer-to-pe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38000" y="1508040"/>
            <a:ext cx="8607240" cy="581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out le monde communique avec tout le mon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hacun à son tour peut être client ou serve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dée : partager des infor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emple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urrier éléctronique (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Macedonia 2000, Lam ant Tan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ffuser quelles musiques est dans le dis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ttre sur une Base de Donées centra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Napster serve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: BD centra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Utilisateurs mob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87200" y="1968480"/>
            <a:ext cx="791532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Notebook, PDA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(Personal Digital Assista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Réseaux sans f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WAP, WAP 2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pplic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« bureau portable 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ilitai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orodateure sans fil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tilisation des réseaux d'ordinateu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ypes de résea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dèles de réfé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nexion X Déconnex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ndardis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3840" y="291600"/>
            <a:ext cx="86072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ecurit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71480" y="1422000"/>
            <a:ext cx="8607600" cy="58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roblème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formation ilégale et agréss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berté d'expression et vie priv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pyright (musique, vide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curité (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º de C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olutions :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hères à impla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riptograph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l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uthent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3363840"/>
            <a:ext cx="86076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Types de réseau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Architecture des Réseau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39440" y="2157120"/>
            <a:ext cx="860724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echnologie de trans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iff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oint-à-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éseaux de diffusion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 seul canal de communication partag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éseaux point-à-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lusieurs connexions entre paires de mach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5000" y="139680"/>
            <a:ext cx="86076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Réseaux de Diff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14240" y="1511280"/>
            <a:ext cx="8607600" cy="58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Paque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(partie d'1 message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çu par toutes les mach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Champ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adress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à l'intérieur du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paqu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dique l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estinat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iffusion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(Broadca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voi du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paque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à toutes les mach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Champ adresse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vec un code spé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mmunication de groupe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(Multica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voi du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paque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à un sous-ensemble des mach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 bit du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champ adresse +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º de grou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000" y="19368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Réseau point-à-po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25400" y="1350720"/>
            <a:ext cx="86076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e la source à la dest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paquet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isite des machines intermédiai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ifférents chemins sont possi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fférentes longu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fférentes lat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rouver un bon chemin est impor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Unica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oint-à-poin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vec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émetteur et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recepteu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Routag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necéssa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Règle Géner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Réseaux de Diff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s réseaux pet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s réseaux proches géographiqu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Réseaux Point-à-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s réseaux plus lar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Classification par échel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7280" y="2080800"/>
            <a:ext cx="8286840" cy="48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98560" y="1905120"/>
            <a:ext cx="8682120" cy="516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Classification par échel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68280" y="2639880"/>
          <a:ext cx="8947080" cy="326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280" y="2639880"/>
                    <a:ext cx="8947080" cy="326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39440" y="277920"/>
            <a:ext cx="8607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Réseau local X réseau large échel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98400" y="1495080"/>
            <a:ext cx="8529840" cy="57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e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sante : vitesse maxim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WANs : 9,6Kbps à 655Mbp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LANs : 230kbps jusqu'à 1Gbp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atence : délai de traversée du rése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WANs : 10ms à centaines de 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LANs : &lt; 10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38160" y="5256360"/>
            <a:ext cx="7508880" cy="19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98400" y="95400"/>
            <a:ext cx="86076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Réseaux Locau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8240" y="1279080"/>
            <a:ext cx="8607600" cy="60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éseaux de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roprieté priv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éploiement dans un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bâtiment ou camp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treint en taille =&gt;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b. de machines limité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mps de transmission borné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implicité d'admini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âbl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utes les machines attaché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itesses utilisées :10 Mps ou 100 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pologies :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bus, anneau, éto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ût, complexité et robust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28440" y="3157200"/>
            <a:ext cx="8607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Utilisation des réseaux d'ordinateu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3840" y="291600"/>
            <a:ext cx="86072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B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1555560"/>
            <a:ext cx="87710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vant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acile à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Inconvéni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lérance au pan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Une connexion pour toutes les machi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ssage  à l'éch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Exemple : Etherne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158920" y="5770440"/>
            <a:ext cx="5434200" cy="140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12440" y="23508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Annea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12440" y="1752120"/>
            <a:ext cx="8607240" cy="29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vant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lérance à une pan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Incovéni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lier les deux bouts du câ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Exemple : Anneau à jeton (IBM) et FDD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828880" y="5248440"/>
            <a:ext cx="3421080" cy="165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12440" y="22068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Éto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58800" y="1488600"/>
            <a:ext cx="8758080" cy="35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Équipement spécial : 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</a:rPr>
              <a:t>hub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vant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lérance aux pannes des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Inconvéni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nne du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hub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choisir un bon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 hu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ût du câblage (choisir une localisation centrale pour le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hu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749680" y="5299200"/>
            <a:ext cx="3525840" cy="188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Réseau Métropolit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054160" y="2048040"/>
            <a:ext cx="40831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74560" y="1976400"/>
            <a:ext cx="8221680" cy="480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12440" y="2905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W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71400" y="1464840"/>
            <a:ext cx="8607600" cy="555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uvre une zone géographique import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rveurs connectés par des sous-réseau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Séparation entre l'application et le réseau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Sous-réseaux composés 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ignes de transmission et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Rou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lusieurs lignes de transmissions entr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oute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munication indirecte 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outeur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termédiair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Commutation des 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</a:rPr>
              <a:t>paquets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(partie d'1 messag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Paquet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ransmis de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 routeur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 routeur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u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estinat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39440" y="47304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W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90680" y="2081160"/>
            <a:ext cx="8831160" cy="454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lux de paqu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49280" y="2427120"/>
            <a:ext cx="8885160" cy="399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Réseaux sans f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61840" y="2678040"/>
            <a:ext cx="8607600" cy="33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ystèmes d'interconnexion (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Bluetooth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Réseaux locaux (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LANs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 sans f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Réseaux à large échele (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WANs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 sans f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Times New Roman"/>
              </a:rPr>
              <a:t>Bluetoo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ystèmes d'interconnex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niteurs, claviers, souris, imprimantes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scanner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Composants reliés par des ondes-courtes  radio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s des câbles, pas d'installation des pilo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odèle maître-escl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ître : CP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sclaves: souris, clavier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12440" y="40320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Bluetooth et LAN sans f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98600" y="2197080"/>
            <a:ext cx="8599320" cy="450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Qu'est-ce qu'un réseau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éseau de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éliant plusieurs obj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rdinateurs, periphériques, utilisateur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ransfert d'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onnées, son, im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upport de trans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uivre, fibre optique, l'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26840" y="30636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LANs sans f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8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EEE 802.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necter des mach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âtiment ou bure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haque ordinateur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dem ra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e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anten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i assez proches =&gt; 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peer-to-pe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53840" y="9540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IEEE 802.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31800" y="1184400"/>
            <a:ext cx="8607600" cy="61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Travailler avec et en absence d'une station de base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Trouver une fréquence de bande convenable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Assurer la privecité de l'usager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Considérer le temps limité d'une batéri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Avoir assez de BP ==&gt; viable économiquemen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Ethernet très utilisé; s'inspirer d'Ethernet ==&gt; pb. Politique d'accè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Entrer dans la portée d'une autre station de bas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Solution : cellules multiple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Réseau 802.11 avec base et ad-ho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47560" y="2411280"/>
            <a:ext cx="8742600" cy="401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39440" y="420840"/>
            <a:ext cx="8607240" cy="16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La portée d'un seul radio peut ne pas couvrir tout le systè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87400" y="2597040"/>
            <a:ext cx="8259840" cy="397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Réseau Multi-cellules 802.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23800" y="3125880"/>
            <a:ext cx="8859960" cy="274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WANs sans f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munication par satell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haque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routeur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une anten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Écoute l'émission par le satell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Écoute l'émission d'autres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route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s réseaux des satell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téressant pour l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iff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Usage des réseaux sans f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39840" y="2630520"/>
            <a:ext cx="9131040" cy="36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69600" y="360000"/>
            <a:ext cx="8607240" cy="8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Connexion inter-résea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25400" y="1270080"/>
            <a:ext cx="8607600" cy="38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necter des réseaux différ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ia «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gateway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Établir la connexion (matériel et logici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urnir la traduction nécessaire (matériel et logici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er-résea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llection de LANs connectés par un W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749600" y="5308560"/>
            <a:ext cx="520200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98400" y="360360"/>
            <a:ext cx="86076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Internet :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884160" y="2241720"/>
            <a:ext cx="8534520" cy="46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26840" y="2635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Internet :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96680" y="1680840"/>
            <a:ext cx="8607240" cy="56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S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Internet Service Provi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Réseau régional ISP :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routeurs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interconnectés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dans les villes que l'ISP s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OP :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oint of Pres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NAP :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une salle remplie des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routeurs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(un par backbone)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connectés par un réseau local (LA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Backbone : «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ertèbre » du résea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treprises opérateurs : AT&amp;T, Spri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39440" y="59220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Informations transmi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39440" y="1839960"/>
            <a:ext cx="8607240" cy="57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nalogique :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ne infinité des valeu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arole humaine et son haute fidelit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mages animée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télévi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Numérique :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nsemble fini des valeu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onnées alphanumériques et structurées, tex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mages fixe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noir et blanc, couleu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nalogique et numér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formations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multimédia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textes, sons, images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Intrane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38000" y="2590560"/>
            <a:ext cx="8607240" cy="32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Réseaux d'entreprise interconnecté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Utilisant la même technologie d'Intern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ccessibles qu'à l'intérieur de l'entrepri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Fonctionne comme Intern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68040" y="274644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Modèles de Réfé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Hiérarchies de protocol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26840" y="2368440"/>
            <a:ext cx="8607240" cy="37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rganisation par des niveaux de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u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haque couche offre certains services pour les couches supérieu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berer ces couches des détails de comment ces services offerts sont vraiment implement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53840" y="44604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Couches, protocoles et interfa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82560" y="1884240"/>
            <a:ext cx="8183520" cy="51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26840" y="37620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Le modèle OS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074600" y="1935000"/>
            <a:ext cx="7689960" cy="529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3840" y="41760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Le modèle TCP/IP - Inter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84520" y="2569680"/>
            <a:ext cx="6403680" cy="37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47560" y="1881360"/>
            <a:ext cx="8912520" cy="514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Réseaux et protocoles dans TCP/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65280" y="2448000"/>
            <a:ext cx="8924760" cy="38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39440" y="558720"/>
            <a:ext cx="8607240" cy="14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Modèle hybride OSI-TCP/IP</a:t>
            </a:r>
            <a:br>
              <a:rPr sz="44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dans un but pédagogiqu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428920" y="2625840"/>
            <a:ext cx="5086440" cy="37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39440" y="388440"/>
            <a:ext cx="86072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La couche Phys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53840" y="2017800"/>
            <a:ext cx="86072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ransmission des b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ia un canal de trans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ssurer : 1 bit sera reçu comme 1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pas comme 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bien de Volts pour représenter un 1 et un 0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ransmission unidirectionnel ou bidirectionne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ment la 1ère connexion est établi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u-dessus le support physique de trans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8240" y="182160"/>
            <a:ext cx="86076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La couche Liai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71400" y="1168200"/>
            <a:ext cx="8607600" cy="61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ransformer une transmission « crue » en une ligne sans erreur pour la couche résea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écouper les données en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ram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Quelques centaines à quelques milliers d'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ct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ransmettre les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ram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équentiel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cevoir un acquitement si la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ram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est correc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égulation du traf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Éviter que des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ram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soient jetées par manque d'espace dans le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amp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Nature des transmi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39440" y="1833480"/>
            <a:ext cx="8607240" cy="58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nalog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ignaux qui varient continûment dans le temp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emple : réseau téléphon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Numér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ignaux variant de manière discrète dans le tem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d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formation numérique =&gt; codage =&gt; bina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formation analogique =&gt; échantillonage =&gt; codage =&gt; bina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75880" y="7047000"/>
            <a:ext cx="12780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6FD25F1A-DEED-473C-A7DB-3F048C675F8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La couche Résea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724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trôle l'opération du sous-résea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ment les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aquet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sont routé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(Tables de routage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Choix de la route de la source vers la destin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Determinée au moment du début de la conversation (terminal - login vers une machine distant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Determiné pour chaque paquet dynamiquem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ntrôle de congestio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QoS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élai, temps de transit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rmettre la connexion de réseaux hétérogé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300" spc="-1" strike="noStrike">
                <a:solidFill>
                  <a:srgbClr val="000000"/>
                </a:solidFill>
                <a:latin typeface="Times New Roman"/>
              </a:rPr>
              <a:t>Découpage d'un message en paque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471680" y="2263680"/>
            <a:ext cx="6819840" cy="38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39440" y="307800"/>
            <a:ext cx="8607240" cy="110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La couche Trans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53840" y="1553760"/>
            <a:ext cx="8607240" cy="55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Bout-en-b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s fonctions de la couche trans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ccepter des données venant de la couche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s découper en unités plus petites si necéssa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onner ces unités à la couche rése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surer que les morceaux arrivent correc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 connection transport la plus populaire : sans erreur; point à point; dans le même ordre 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C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ans contrôle d'erreur ni d'ordre 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D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La couche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15800" y="2624040"/>
            <a:ext cx="5900760" cy="34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Établir des s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trôle de dialog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stion des jet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ynchronis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int de repr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La couche Pré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51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cernée par la syntaxe et la sémantique de l'information transm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rmet à des ordinateurs avec différentes représentations de communiqu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s structures de données à échanger peuvent être définies d'une façon abstra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dage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ermet l'échange des registres d'une ban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La couche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12440" y="2522160"/>
            <a:ext cx="860724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tient une varité des protocoles auxquels les utilisateurs ont beso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HTT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HyperText Transfer Protocol) (We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FTP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File Transfer Protoc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588760"/>
            <a:ext cx="86076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Connexion X Déconnex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98400" y="293400"/>
            <a:ext cx="8607600" cy="9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Mode sans connex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88880" y="1442880"/>
            <a:ext cx="8607600" cy="598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vant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dapté au multipoint =&gt; large éch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dapté au messages cou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lus robu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nconvén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s de garantie pour l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Q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s de contrôle de la commun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emples :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messagerie électronique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transfert de fich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Mode avec connex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60240" y="1542960"/>
            <a:ext cx="8607600" cy="616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3 phases distinc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Établissement de la connex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ransfert de donné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bération de la connex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vant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dapté aux longs transfer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Securité et Qo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convén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Mettre en place la connexion, BP non utilisé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emple :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ppel téléphon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75880" y="7047000"/>
            <a:ext cx="12780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4FC5B768-E64D-446C-8AA6-FDCD7EB37C7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4000" y="179280"/>
            <a:ext cx="860724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Non connecté et Connect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17400" y="1422360"/>
            <a:ext cx="8607600" cy="56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Non connect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munauté ARPANET et Intern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oD : réseau résistant à un attaque nuclé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ifférents chemins pour les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aqu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nnect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panies de téléph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act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ronie: maintenir un archive de facture est chè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lternative: forfait (ex. câble, accès Intern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Qualité de Service -Q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724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isponibilité des moyens de transf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aux de panne des équipements et lia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aux d'erreur maxi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Nb. de bits modifié / Nb. total de bits d'information ém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ébit de transf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él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Durée entre l'émission de l'information et la récep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ix services différ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63400" y="2173320"/>
            <a:ext cx="8560080" cy="42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Primitives de connex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60440" y="2787480"/>
            <a:ext cx="8717040" cy="34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Client-Serveur avec connex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00120" y="2944800"/>
            <a:ext cx="8550360" cy="279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26840" y="198000"/>
            <a:ext cx="860724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Réseaux orienté connexio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29920" y="910800"/>
            <a:ext cx="8607240" cy="65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X.25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(197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ndard Europé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abilité, ordre et contrôle de fl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usqu'à 64 K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1980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dée: service minimum : ord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de contrôle d'erreur ni de fl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,5 M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TM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synchronou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Transfer Mode (199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çu pour des réseaux à large éch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55 Mbps, 622 M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4000" y="23508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ATM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52400" y="1645920"/>
            <a:ext cx="8607600" cy="34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rvice de base de trans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pable de transmettre tout type de traff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oix, données, images, images animés, son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ellules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petits paquets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aille fix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53 octets (5 entête - 48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payload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636560" y="5427720"/>
            <a:ext cx="5997600" cy="106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Circuit Virtuel AT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550800" y="3087720"/>
            <a:ext cx="8545680" cy="278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39440" y="406440"/>
            <a:ext cx="8607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AT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82640" y="1793520"/>
            <a:ext cx="860760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outage faite par le matéri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ellules de taille fixe et petites facilitent la construction de routeurs dans le matéri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ites cellules ne bloquent pas une ligne long temps ==&gt; facilite la garantie de la Q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outes les cellules emprentent le même chem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élivrance n'est pas garan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rdre est garan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26840" y="588600"/>
            <a:ext cx="860724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Modèle de référence AT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750960" y="2422440"/>
            <a:ext cx="8259840" cy="42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26840" y="517320"/>
            <a:ext cx="860724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Couches et sous-couches AT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81160" y="1981080"/>
            <a:ext cx="9440640" cy="51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4840" y="341784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Standardisatio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ystèmes centralis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PU chère par rapport aux lignes de transmission et aux termina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ntabiliser : maximum dans le système cent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n ordinateur fait le travai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b. terminaux croît =&gt; connexion peut utilisée =&gt; coût des liaisons non néglige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&gt; Plusieurs ordinateurs reliés font le trav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39440" y="782640"/>
            <a:ext cx="8607240" cy="79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Télécommunication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07840" y="2763360"/>
            <a:ext cx="8607240" cy="27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TT 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st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legraph &amp;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leph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TU : I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ternational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lecommunica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ion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CITT : 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mité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nsultatif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ternational   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élégraphique et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élépho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72840" y="531360"/>
            <a:ext cx="860724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International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39440" y="1833120"/>
            <a:ext cx="86072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SO : I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ternational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andard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gan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NSI : 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erica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tional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andards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D : 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mmitte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a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NIST : 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tional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stitute of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andards and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EEE : I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stitute of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ctrical and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ctronics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gine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99840" y="746280"/>
            <a:ext cx="8607240" cy="79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72840" y="2436840"/>
            <a:ext cx="8607240" cy="36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AB : I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ternet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chitectur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tivities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RFC : 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quest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m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RTF : I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ternet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search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sk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ETF : I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ternet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gineering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sk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99840" y="746280"/>
            <a:ext cx="8607240" cy="79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Times New Roman"/>
              </a:rPr>
              <a:t>Module réseau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72840" y="1943280"/>
            <a:ext cx="86072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dage et Protection contre les erreu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trôle de flux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HD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éseaux locaux : politiques d'accè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mutation et multiplex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out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ernet : IP, UDP, TCP, D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écurit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39440" y="46044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Réseaux d'ordinateu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98400" y="1808280"/>
            <a:ext cx="8607600" cy="52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llection d'ordinateurs auton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terconnectés par une seule technolog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pables de s'échanger d'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upports de connex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ble coaxial, fibre optique, infra-rouge,           micro-ondes, sattelite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: réseau des résea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: système distribué au dessus de l'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