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jpeg" ContentType="image/jpeg"/>
  <Override PartName="/ppt/media/image28.jpeg" ContentType="image/jpeg"/>
  <Override PartName="/ppt/media/image24.jpeg" ContentType="image/jpeg"/>
  <Override PartName="/ppt/media/image5.jpeg" ContentType="image/jpeg"/>
  <Override PartName="/ppt/media/image32.jpeg" ContentType="image/jpeg"/>
  <Override PartName="/ppt/media/image26.jpeg" ContentType="image/jpeg"/>
  <Override PartName="/ppt/media/image7.png" ContentType="image/png"/>
  <Override PartName="/ppt/media/image22.jpeg" ContentType="image/jpeg"/>
  <Override PartName="/ppt/media/image9.png" ContentType="image/png"/>
  <Override PartName="/ppt/media/image6.wmf" ContentType="image/x-wmf"/>
  <Override PartName="/ppt/media/image8.png" ContentType="image/png"/>
  <Override PartName="/ppt/media/image14.jpeg" ContentType="image/jpeg"/>
  <Override PartName="/ppt/media/image11.jpeg" ContentType="image/jpeg"/>
  <Override PartName="/ppt/media/image12.jpeg" ContentType="image/jpeg"/>
  <Override PartName="/ppt/media/image13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19.jpeg" ContentType="image/jpeg"/>
  <Override PartName="/ppt/media/image25.png" ContentType="image/png"/>
  <Override PartName="/ppt/media/image3.png" ContentType="image/png"/>
  <Override PartName="/ppt/media/image17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10.png" ContentType="image/png"/>
  <Override PartName="/ppt/media/image27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20.jpeg" ContentType="image/jpeg"/>
  <Override PartName="/ppt/media/image21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73944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1490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64932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55920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73944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64932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55920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739440" y="62676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-21600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490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5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5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5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Introduction aux réseau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3164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M1-M2 IS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3164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M2 I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3164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200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287280" y="7121520"/>
            <a:ext cx="119700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Neilze Dor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5427720" y="7132680"/>
            <a:ext cx="453060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UFR Mathématiques et Informatiques - Crip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26840" y="47304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ystème distribué X Réseau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12440" y="1801440"/>
            <a:ext cx="8607240" cy="50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ystème distribu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ogiciel système en-dessus d'un résea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Vue unique et cohérente d'un ensemble d'ordinateu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ésea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« Vrais » machines : aucune vue cohér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21564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ifférentes archite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21564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ifférents systèmes d'exploi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istinction repose sur le logici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12440" y="37476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L'intérêt des réseaux d'ordinateu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57000" y="1625400"/>
            <a:ext cx="8607240" cy="551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Idé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: partager les ressour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Bu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: l'information disponible à quicon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ans souci de localisation physi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pplications commerci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onitorer la production, le payement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Les personnes : communication puissa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Mail, Chat, NewsGro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Videoconférence, Commerce éléctroni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98400" y="501120"/>
            <a:ext cx="860760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Domaines en croissa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12440" y="1849320"/>
            <a:ext cx="8607240" cy="50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mmunication orientée application via Intern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ppels téléphoniq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Video ph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adio sur Inter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nseignement à dist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Video à la deman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Jeux vide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ommerce éléctroni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Le modèle Client-Serveu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144440" y="2225520"/>
            <a:ext cx="7647120" cy="4548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39440" y="388440"/>
            <a:ext cx="86072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Le modèle Client-Serveu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26840" y="1719360"/>
            <a:ext cx="8607240" cy="57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lient et serveur reliés par un résea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rveurs ==&gt; Des ordinateurs puissant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tockage de Base de Donné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erveur We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lients ==&gt; Machines simpl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es ordinateurs sur le burea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ccès au serveu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21564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ar les utilisate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21564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Via des requê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Le modèle Client-Serveu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735120" y="2760840"/>
            <a:ext cx="8342280" cy="297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26840" y="57168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Peer-to-pe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824120" y="2227320"/>
            <a:ext cx="5742000" cy="424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69600" y="47304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Peer-to-pe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747720" y="1979640"/>
            <a:ext cx="8682120" cy="4486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26840" y="41760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Peer-to-pe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38000" y="1508040"/>
            <a:ext cx="8607240" cy="581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out le monde communique avec tout le mon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hacun à son tour peut être client ou serveu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dée : partager des inform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xemples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Courrier éléctronique (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e-mail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Macedonia 2000, Lam ant Tan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21564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iffuser quelles musiques est dans le dis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21564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ettre sur une Base de Donées centra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21564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Napster serve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: BD centra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Utilisateurs mobi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87200" y="1968480"/>
            <a:ext cx="7915320" cy="483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Notebook, PDA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(Personal Digital Assistan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Réseaux sans f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WAP, WAP 2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pplicatio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« bureau portable 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ilitai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Horodateure sans fil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Pl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Utilisation des réseaux d'ordinateu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ypes de réseau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odèles de référ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nexion X Déconnex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ndardis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53840" y="291600"/>
            <a:ext cx="86072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ecurit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771480" y="1422000"/>
            <a:ext cx="8607600" cy="586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Problèmes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nformation ilégale et agréss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iberté d'expression et vie priv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opyright (musique, vide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ecurité (n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º de CB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Solutions :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hères à implan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riptograph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lé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uthentif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400" y="3363840"/>
            <a:ext cx="86076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Types de réseau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Architecture des Réseau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39440" y="2157120"/>
            <a:ext cx="860724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echnologie de transmis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Diffu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Point-à-poi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éseaux de diffusion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n seul canal de communication partag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éseaux point-à-poi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lusieurs connexions entre paires de mach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5000" y="139680"/>
            <a:ext cx="86076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Réseaux de Diffu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714240" y="1511280"/>
            <a:ext cx="8607600" cy="58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Paque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(partie d'1 message)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çu par toutes les mach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Champ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adresse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à l'intérieur du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paqu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21564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dique l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destinata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Diffusion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 (Broadcas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nvoi du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paquet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à toutes les mach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21564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Champ adresse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vec un code spé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Communication de groupe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 (Multicas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nvoi du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paquet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à un sous-ensemble des mach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21564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1 bit du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champ adresse +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º de grou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4000" y="19368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Réseau point-à-poi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25400" y="1350720"/>
            <a:ext cx="86076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De la source à la destin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n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paquet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visite des machines intermédiai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ifférents chemins sont possi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21564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ifférentes longue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21564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ifférentes lat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rouver un bon chemin est importa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Unicas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Point-à-point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avec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émetteur et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recepteu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Routag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necéssai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Règle Géneriqu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Réseaux de Diffu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Les réseaux peti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Les réseaux proches géographiqu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Réseaux Point-à-poi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Les réseaux plus lar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Classification par échel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7280" y="2080800"/>
            <a:ext cx="8286840" cy="48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898560" y="1905120"/>
            <a:ext cx="8682120" cy="5163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Classification par échel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368280" y="2639880"/>
          <a:ext cx="8947080" cy="3264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8280" y="2639880"/>
                    <a:ext cx="8947080" cy="326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39440" y="277920"/>
            <a:ext cx="8607240" cy="114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Réseau local X réseau large échel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98400" y="1495080"/>
            <a:ext cx="8529840" cy="57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nde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ssante : vitesse maximu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WANs : 9,6Kbps à 655Mbp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LANs : 230kbps jusqu'à 1Gbp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atence : délai de traversée du résea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WANs : 10ms à centaines de m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LANs : &lt; 10m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938160" y="5256360"/>
            <a:ext cx="7508880" cy="195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98400" y="95400"/>
            <a:ext cx="86076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Réseaux Locau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68240" y="1279080"/>
            <a:ext cx="8607600" cy="605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éseaux de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proprieté priv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éploiement dans un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bâtiment ou camp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treint en taille =&gt;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nb. de machines limité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21564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emps de transmission borné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21564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implicité d'administ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âbl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21564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outes les machines attaché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21564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Vitesses utilisées :10 Mps ou 100 M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opologies :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bus, anneau, éto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21564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ût, complexité et robustes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28440" y="3157200"/>
            <a:ext cx="860724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Utilisation des réseaux d'ordinateu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53840" y="291600"/>
            <a:ext cx="86072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B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90400" y="1555560"/>
            <a:ext cx="877104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Avantag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acile à insta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Inconvénient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olérance au pan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21564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Une connexion pour toutes les machin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assage  à l'échel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Exemple : Etherne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158920" y="5770440"/>
            <a:ext cx="5434200" cy="140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12440" y="23508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Annea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12440" y="1752120"/>
            <a:ext cx="8607240" cy="29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Avantag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olérance à une pan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Incovénient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elier les deux bouts du câ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Exemple : Anneau à jeton (IBM) et FDDI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828880" y="5248440"/>
            <a:ext cx="3421080" cy="165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12440" y="22068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Étoi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58800" y="1488600"/>
            <a:ext cx="8758080" cy="35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Équipement spécial : </a:t>
            </a:r>
            <a:r>
              <a:rPr b="1" i="1" lang="en-GB" sz="2600" spc="-1" strike="noStrike">
                <a:solidFill>
                  <a:srgbClr val="000000"/>
                </a:solidFill>
                <a:latin typeface="Times New Roman"/>
              </a:rPr>
              <a:t>hub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Avantag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olérance aux pannes des mach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Inconvénient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anne du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hub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choisir un bon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 hu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ût du câblage (choisir une localisation centrale pour le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hu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2749680" y="5299200"/>
            <a:ext cx="3525840" cy="1887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Réseau Métropolit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054160" y="2048040"/>
            <a:ext cx="408312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574560" y="1976400"/>
            <a:ext cx="8221680" cy="4808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12440" y="2905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WA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71400" y="1464840"/>
            <a:ext cx="8607600" cy="555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ouvre une zone géographique importa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erveurs connectés par des sous-réseau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Séparation entre l'application et le réseau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Sous-réseaux composés d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21564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Lignes de transmission et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Route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lusieurs lignes de transmissions entre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routeu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ommunication indirecte (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routeurs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ntermédiair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</a:rPr>
              <a:t>Commutation des </a:t>
            </a:r>
            <a:r>
              <a:rPr b="1" i="1" lang="en-GB" sz="2600" spc="-1" strike="noStrike">
                <a:solidFill>
                  <a:srgbClr val="000000"/>
                </a:solidFill>
                <a:latin typeface="Times New Roman"/>
              </a:rPr>
              <a:t>paquets 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(partie d'1 message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21564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Paquets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ransmis de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 routeur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n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 routeur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u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destinata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39440" y="47304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WA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490680" y="2081160"/>
            <a:ext cx="8831160" cy="4541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lux de paque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449280" y="2427120"/>
            <a:ext cx="8885160" cy="3992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Réseaux sans fi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61840" y="2678040"/>
            <a:ext cx="8607600" cy="33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Systèmes d'interconnexion (</a:t>
            </a:r>
            <a:r>
              <a:rPr b="1" i="1" lang="en-GB" sz="3600" spc="-1" strike="noStrike">
                <a:solidFill>
                  <a:srgbClr val="000000"/>
                </a:solidFill>
                <a:latin typeface="Times New Roman"/>
              </a:rPr>
              <a:t>Bluetooth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Réseaux locaux (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LANs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) sans fi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Réseaux à large échele (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WANs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) sans fi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Times New Roman"/>
              </a:rPr>
              <a:t>Bluetoo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Systèmes d'interconnex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oniteurs, claviers, souris, imprimantes,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scanners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Composants reliés par des ondes-courtes  radio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as des câbles, pas d'installation des pilo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Modèle maître-escla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aître : CP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sclaves: souris, clavier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12440" y="40320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Bluetooth et LAN sans fi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498600" y="2197080"/>
            <a:ext cx="8599320" cy="4502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Qu'est-ce qu'un réseau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éseau de commun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éliant plusieurs obj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rdinateurs, periphériques, utilisateurs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ransfert d'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onnées, son, im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upport de transmis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uivre, fibre optique, l'ai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26840" y="30636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LANs sans fi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7240" cy="48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IEEE 802.1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necter des machi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Bâtiment ou burea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haque ordinateur 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n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modem rad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ne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anten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i assez proches =&gt;  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peer-to-pe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53840" y="9540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IEEE 802.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31800" y="1184400"/>
            <a:ext cx="8607600" cy="61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Times New Roman"/>
              </a:rPr>
              <a:t>Travailler avec et en absence d'une station de base 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Times New Roman"/>
              </a:rPr>
              <a:t>Trouver une fréquence de bande convenable 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Times New Roman"/>
              </a:rPr>
              <a:t>Assurer la privecité de l'usager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Times New Roman"/>
              </a:rPr>
              <a:t>Considérer le temps limité d'une batérie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Times New Roman"/>
              </a:rPr>
              <a:t>Avoir assez de BP ==&gt; viable économiquement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Times New Roman"/>
              </a:rPr>
              <a:t>Ethernet très utilisé; s'inspirer d'Ethernet ==&gt; pb. Politique d'accès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Times New Roman"/>
              </a:rPr>
              <a:t>Entrer dans la portée d'une autre station de base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Times New Roman"/>
              </a:rPr>
              <a:t>Solution : cellules multiples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Réseau 802.11 avec base et ad-ho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547560" y="2411280"/>
            <a:ext cx="8742600" cy="401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39440" y="420840"/>
            <a:ext cx="8607240" cy="167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La portée d'un seul radio peut ne pas couvrir tout le systè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887400" y="2597040"/>
            <a:ext cx="8259840" cy="3979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Réseau Multi-cellules 802.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523800" y="3125880"/>
            <a:ext cx="8859960" cy="2749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WANs sans fi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mmunication par satell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haque 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routeur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 une anten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Écoute l'émission par le satelli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Écoute l'émission d'autres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routeu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Les réseaux des satelli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ntéressant pour la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diffu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Usage des réseaux sans fi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339840" y="2630520"/>
            <a:ext cx="9131040" cy="3633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69600" y="360000"/>
            <a:ext cx="8607240" cy="8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Connexion inter-résea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725400" y="1270080"/>
            <a:ext cx="8607600" cy="38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necter des réseaux différ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Via «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gateways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21564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Établir la connexion (matériel et logicie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21564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urnir la traduction nécessaire (matériel et logicie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nter-résea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ollection de LANs connectés par un W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1749600" y="5308560"/>
            <a:ext cx="5202000" cy="1752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98400" y="360360"/>
            <a:ext cx="86076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Internet : archite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884160" y="2241720"/>
            <a:ext cx="8534520" cy="461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26840" y="2635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Internet : archite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96680" y="1680840"/>
            <a:ext cx="8607240" cy="56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IS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Internet Service Provid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Réseau régional ISP : 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routeurs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 interconnectés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dans les villes que l'ISP se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POP :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Point of Pres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NAP :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une salle remplie des 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routeurs 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(un par backbone)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connectés par un réseau local (LA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Backbone : «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vertèbre » du résea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ntreprises opérateurs : AT&amp;T, Sprin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39440" y="59220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Informations transmi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39440" y="1839960"/>
            <a:ext cx="8607240" cy="57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Analogique :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une infinité des valeu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Parole humaine et son haute fidelit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mages animées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(télévisi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Numérique :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nsemble fini des valeu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Données alphanumériques et structurées, tex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mages fixes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(noir et blanc, couleu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Analogique et numéri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formations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multimédia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(textes, sons, images..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Intranet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38000" y="2590560"/>
            <a:ext cx="8607240" cy="32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Réseaux d'entreprise interconnecté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Utilisant la même technologie d'Intern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Accessibles qu'à l'intérieur de l'entrepri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Fonctionne comme Intern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68040" y="274644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Modèles de Réfé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Hiérarchies de protocole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726840" y="2368440"/>
            <a:ext cx="8607240" cy="371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rganisation par des niveaux de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couch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haque couche offre certains services pour les couches supérieu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iberer ces couches des détails de comment ces services offerts sont vraiment implementé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53840" y="44604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Couches, protocoles et interfa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682560" y="1884240"/>
            <a:ext cx="8183520" cy="511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26840" y="37620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Le modèle OS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074600" y="1935000"/>
            <a:ext cx="7689960" cy="529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53840" y="41760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Le modèle TCP/IP - Inter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784520" y="2569680"/>
            <a:ext cx="6403680" cy="37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547560" y="1881360"/>
            <a:ext cx="8912520" cy="514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Réseaux et protocoles dans TCP/I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665280" y="2448000"/>
            <a:ext cx="8924760" cy="387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39440" y="558720"/>
            <a:ext cx="8607240" cy="14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Modèle hybride OSI-TCP/IP</a:t>
            </a:r>
            <a:br>
              <a:rPr sz="4400"/>
            </a:b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dans un but pédagogiqu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2428920" y="2625840"/>
            <a:ext cx="5086440" cy="374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39440" y="388440"/>
            <a:ext cx="86072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La couche Physiqu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53840" y="2017800"/>
            <a:ext cx="86072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ransmission des bi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Via un canal de transmis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ssurer : 1 bit sera reçu comme 1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(pas comme 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mbien de Volts pour représenter un 1 et un 0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ransmission unidirectionnel ou bidirectionne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mment la 1ère connexion est établi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u-dessus le support physique de transmis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68240" y="182160"/>
            <a:ext cx="8607600" cy="9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La couche Liais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71400" y="1168200"/>
            <a:ext cx="8607600" cy="61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ransformer une transmission « crue » en une ligne sans erreur pour la couche résea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écouper les données en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tram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Quelques centaines à quelques milliers d'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ct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ransmettre les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tram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équentiell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ecevoir un acquitement si la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tram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est correc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égulation du traf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Éviter que des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trames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soient jetées par manque d'espace dans le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tamp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Nature des transmiss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39440" y="1833480"/>
            <a:ext cx="8607240" cy="58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Analogi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ignaux qui varient continûment dans le temp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xemple : réseau téléphoni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Numéri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ignaux variant de manière discrète dans le tem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Cod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nformation numérique =&gt; codage =&gt; binai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nformation analogique =&gt; échantillonage =&gt; codage =&gt; binai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475880" y="7047000"/>
            <a:ext cx="127800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2CFC205E-07C6-4804-8ADB-39F4A3A74A50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La couche Résea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7240" cy="49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trôle l'opération du sous-résea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omment les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paquets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sont routés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(Tables de routage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Choix de la route de la source vers la destina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21564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Determinée au moment du début de la conversation (terminal - login vers une machine distante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21564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Determiné pour chaque paquet dynamiquemen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Contrôle de congestion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QoS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élai, temps de transit..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rmettre la connexion de réseaux hétérogé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300" spc="-1" strike="noStrike">
                <a:solidFill>
                  <a:srgbClr val="000000"/>
                </a:solidFill>
                <a:latin typeface="Times New Roman"/>
              </a:rPr>
              <a:t>Découpage d'un message en paque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1471680" y="2263680"/>
            <a:ext cx="6819840" cy="389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39440" y="307800"/>
            <a:ext cx="8607240" cy="110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La couche Transpor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53840" y="1553760"/>
            <a:ext cx="8607240" cy="55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Bout-en-bo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Les fonctions de la couche trans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ccepter des données venant de la couche 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es découper en unités plus petites si necéssai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onner ces unités à la couche résea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ssurer que les morceaux arrivent correct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21564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a connection transport la plus populaire : sans erreur; point à point; dans le même ordre (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TC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21564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ans contrôle d'erreur ni d'ordre (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UD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La couche Ses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15800" y="2624040"/>
            <a:ext cx="5900760" cy="347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Établir des ses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ontrôle de dialog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Gestion des jet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ynchronis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oint de repri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La couche Pré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7240" cy="513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cernée par la syntaxe et la sémantique de l'information transmi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rmet à des ordinateurs avec différentes représentations de communiqu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Les structures de données à échanger peuvent être définies d'une façon abstra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dage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ermet l'échange des registres d'une ban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La couche Appl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712440" y="2522160"/>
            <a:ext cx="860724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tient une varité des protocoles auxquels les utilisateurs ont beso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HTT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HyperText Transfer Protocol) (Web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FTP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File Transfer Protoco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588760"/>
            <a:ext cx="860760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Connexion X Déconnexio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98400" y="293400"/>
            <a:ext cx="8607600" cy="97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Mode sans connex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88880" y="1442880"/>
            <a:ext cx="8607600" cy="598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Avant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dapté au multipoint =&gt; large échel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dapté au messages cour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lus robus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Inconvéni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as de garantie pour la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Q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as de contrôle de la commun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xemples : 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messagerie électronique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 transfert de fichi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93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Mode avec connex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60240" y="1542960"/>
            <a:ext cx="8607600" cy="616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3 phases distinc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Établissement de la connex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ransfert de donné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ibération de la connex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Avant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Adapté aux longs transfert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Securité et Qo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convéni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Mettre en place la connexion, BP non utilisé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xemple :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appel téléphoni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75880" y="7047000"/>
            <a:ext cx="127800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D3C48241-CBA9-4055-A903-075E69C28A12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4000" y="179280"/>
            <a:ext cx="8607240" cy="93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Non connecté et Connect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17400" y="1422360"/>
            <a:ext cx="8607600" cy="56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Non connect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ommunauté ARPANET et Interne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21564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oD : réseau résistant à un attaque nucléa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727280" indent="-216000">
              <a:lnSpc>
                <a:spcPct val="93000"/>
              </a:lnSpc>
              <a:spcAft>
                <a:spcPts val="575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Différents chemins pour les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paque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Connect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ompanies de téléph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21564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Q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21564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actu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727280" indent="-216000">
              <a:lnSpc>
                <a:spcPct val="93000"/>
              </a:lnSpc>
              <a:spcAft>
                <a:spcPts val="575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ronie: maintenir un archive de facture est chè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727280" indent="-216000">
              <a:lnSpc>
                <a:spcPct val="93000"/>
              </a:lnSpc>
              <a:spcAft>
                <a:spcPts val="575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lternative: forfait (ex. câble, accès Interne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Qualité de Service -Qo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724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Disponibilité des moyens de transfe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aux de panne des équipements et liais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Taux d'erreur maxim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Nb. de bits modifié / Nb. total de bits d'information ém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Débit de transfe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Déla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Durée entre l'émission de l'information et la récep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ix services différ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563400" y="2173320"/>
            <a:ext cx="8560080" cy="423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Primitives de connex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460440" y="2787480"/>
            <a:ext cx="8717040" cy="3490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Client-Serveur avec connex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600120" y="2944800"/>
            <a:ext cx="8550360" cy="279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26840" y="198000"/>
            <a:ext cx="860724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Réseaux orienté connexion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29920" y="910800"/>
            <a:ext cx="8607240" cy="653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X.25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(197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tandard Europé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iabilité, ordre et contrôle de fl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Jusqu'à 64 Kb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Frame Relay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(1980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dée: service minimum : ord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Pa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de contrôle d'erreur ni de fl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1,5 Mb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ATM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Asynchronous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Transfer Mode (199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nçu pour des réseaux à large échel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155 Mbps, 622 Mb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4000" y="23508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ATM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752400" y="1645920"/>
            <a:ext cx="8607600" cy="34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rvice de base de transmis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apable de transmettre tout type de traff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21564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Voix, données, images, images animés, son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Cellules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petits paquets)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e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taille fix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53 octets (5 entête - 48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payload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1636560" y="5427720"/>
            <a:ext cx="5997600" cy="1060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Circuit Virtuel AT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550800" y="3087720"/>
            <a:ext cx="8545680" cy="2782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739440" y="406440"/>
            <a:ext cx="8607240" cy="114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AT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782640" y="1793520"/>
            <a:ext cx="860760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outage faite par le matéri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ellules de taille fixe et petites facilitent la construction de routeurs dans le matéri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ites cellules ne bloquent pas une ligne long temps ==&gt; facilite la garantie de la Q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outes les cellules emprentent le même chem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élivrance n'est pas garant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rdre est garant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26840" y="588600"/>
            <a:ext cx="860724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Modèle de référence AT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750960" y="2422440"/>
            <a:ext cx="8259840" cy="4292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726840" y="517320"/>
            <a:ext cx="8607240" cy="11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Couches et sous-couches AT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281160" y="1981080"/>
            <a:ext cx="9440640" cy="517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4840" y="341784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Standardisation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ystèmes centralisé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PU chère par rapport aux lignes de transmission et aux terminau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entabiliser : maximum dans le système cent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Un ordinateur fait le travai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Nb. terminaux croît =&gt; connexion peut utilisée =&gt; coût des liaisons non néglige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=&gt; Plusieurs ordinateurs reliés font le trava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739440" y="782640"/>
            <a:ext cx="8607240" cy="79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Télécommunications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07840" y="2763360"/>
            <a:ext cx="8607240" cy="27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PTT 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st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legraph &amp;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leph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ITU : I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nternational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lecommunication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nion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CCITT : C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mité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C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nsultatif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nternational   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élégraphique et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éléphoni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72840" y="531360"/>
            <a:ext cx="860724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International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739440" y="1833120"/>
            <a:ext cx="860724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ISO : I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nternational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andards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O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gan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ANSI : A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erican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tional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andards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CD : C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mmittee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a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NIST : 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tional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I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nstitute of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andards and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chnolo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IEEE : I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nstitute of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lectrical and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lectronics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ngine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99840" y="746280"/>
            <a:ext cx="8607240" cy="79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72840" y="2436840"/>
            <a:ext cx="8607240" cy="36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IAB : I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nternet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chitecture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(A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tivities)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RFC : R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quest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F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C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m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IRTF : I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nternet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search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sk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F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r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IETF : I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nternet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ngineering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sk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F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r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99840" y="746280"/>
            <a:ext cx="8607240" cy="79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Module réseau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72840" y="1943280"/>
            <a:ext cx="86072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dage et Protection contre les erreu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trôle de flux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(HDL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éseaux locaux : politiques d'accè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mmutation et multiplex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out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nternet : IP, UDP, TCP, D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écurit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39440" y="46044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Réseaux d'ordinateu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98400" y="1808280"/>
            <a:ext cx="8607600" cy="527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llection d'ordinateurs autono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nterconnectés par une seule technolog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apables de s'échanger d'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upports de connex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able coaxial, fibre optique, infra-rouge,           micro-ondes, sattelites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: réseau des réseau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We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: système distribué au dessus de l'Intern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