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517F-1335-49B1-838A-788E0D978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018A-1742-4E4F-9ACF-F4B0943D4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D4E5-386A-4273-9658-70360B8E5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A880-2693-44B6-ABD5-86970BD5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49AA-6E5B-4275-AAF9-7D713EE54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0FA5-20FF-4A97-85B5-BC8BE7DAD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24ED-F618-42F0-BEB7-1459435C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FBB5-41B7-4E38-9B2C-34336762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115D-D3E0-4259-8728-09AF2AF0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C4EC-7F0D-4854-BC13-4CC98EAA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B9FB-6E7E-4164-AF5C-EE5A3034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0AF0-F648-46EF-A3BA-E83638E4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1852-6554-493A-B0D3-A08F3B9E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B1B1-3540-4083-9B16-315C4300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C95E-B02F-4815-AC50-3B882FBE2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838080" y="127080"/>
            <a:ext cx="7848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dual Tarikh Pembentangan Soalan Tugasan Kerja Kursus Sem 1/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ingkat JaP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 </a:t>
            </a:r>
            <a:r>
              <a:rPr b="1" lang="mr-IN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17 Januari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mpat : Bilik Mesyuarat JaP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280" y="1066680"/>
          <a:ext cx="8839440" cy="4602240"/>
        </p:xfrm>
        <a:graphic>
          <a:graphicData uri="http://schemas.openxmlformats.org/drawingml/2006/table">
            <a:tbl>
              <a:tblPr/>
              <a:tblGrid>
                <a:gridCol w="1295640"/>
                <a:gridCol w="2286000"/>
                <a:gridCol w="1904760"/>
                <a:gridCol w="1981440"/>
                <a:gridCol w="1371600"/>
              </a:tblGrid>
              <a:tr h="34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ikh / Mas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d &amp; Nama Kurs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ggub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.2019 (Isni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0 </a:t>
                      </a:r>
                      <a:r>
                        <a:rPr b="0" lang="mr-I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1.00 pa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J2062 Tamadun Islam &amp; A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hd Ariffin Bin Salle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piyah Binti Md Rangg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bedah Abd Raza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1.2019 (Selas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0 </a:t>
                      </a:r>
                      <a:r>
                        <a:rPr b="0" lang="mr-I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1.00 pa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U3052 Tamadun Islam &amp; A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iah Binti Moham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hd Ariffin Bin Salle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bedah Abd Raza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1.201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elas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0 </a:t>
                      </a:r>
                      <a:r>
                        <a:rPr b="0" lang="mr-I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4.30 peta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MB3103 Tarikh al-Adab al-Arabi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hd Ibrahim Md Ta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d Salam Mohamed Ibrah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bedah Abd Raza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MB3113 Kesusasteraan Ar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d Salam Mohamed Ibrah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hd Ibrahim Md Ta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bedah Abd Raza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MB3123 Pengantar Linguisti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hd Rizuan Abd Rasi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d Salam Mohamed Ibrah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bedah Abd Raza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M1064 Tarikh Islam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bedah Abd Raza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 Hjh Maimon Da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bedah Abd Raza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1.201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abu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0 </a:t>
                      </a:r>
                      <a:r>
                        <a:rPr b="0" lang="mr-I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1.00 pa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M1044 Pengajaran Tarannum dan Qira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hd Ariffin Bin Salle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hd Fu’ad Mohamad Sele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bedah Abd Raza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M1054 Pengantar Jaw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piyah Binti Md Rangg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iah Binti Moham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bedah Abd Raza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MB3143 Asas Penyelidikan Dalam Pendidik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hd Rizuan Abd Rasi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d Salam Mohamed Ibrah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bedah Abd Raza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1.2019 (Khami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0 </a:t>
                      </a:r>
                      <a:r>
                        <a:rPr b="0" lang="mr-I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1.00 pa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KIK3013 Fikh Kekeluargaan Isl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bedah Abd Raza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 Hjh Maimon Da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bedah Abd Raza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KB3013 Bahasa Arab Komunik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d Salam Mohamed Ibrah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hd Ibrahim Md Ta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bedah Abd Raza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1.201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hami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0 </a:t>
                      </a:r>
                      <a:r>
                        <a:rPr b="0" lang="mr-I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4.30 peta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MB3152 Inovasi Digital Dalam Pengajaran &amp; Pembelajar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hd Fu’ad Mohamad Sele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hd Rizuan Abd Rasi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bedah Abd Raza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MB3132 Pendidikan Inklus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hd Ibrahim Md Ta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d Salam Mohamed Ibrah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bedah Abd Raza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I1083 Generik Pendidikan Isl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 Hjh Maimon Da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hd Ariffin Bin Salle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bedah Abd Raza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Box 5"/>
          <p:cNvSpPr/>
          <p:nvPr/>
        </p:nvSpPr>
        <p:spPr>
          <a:xfrm>
            <a:off x="76320" y="6095880"/>
            <a:ext cx="27432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sediakan oleh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hd Rizuan Abd Rasi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enyelaras Kerja Kursus Jabata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248520" y="6095880"/>
            <a:ext cx="27432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sahkan oleh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bdul Salam Bin Mohamed Ibrahi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Ketua Jabatan Pendidikan Islam &amp; Mor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22:49:17Z</dcterms:created>
  <dc:creator>Admin</dc:creator>
  <dc:description/>
  <dc:language>en-US</dc:language>
  <cp:lastModifiedBy>Microsoft Office User</cp:lastModifiedBy>
  <dcterms:modified xsi:type="dcterms:W3CDTF">2019-01-16T21:55:50Z</dcterms:modified>
  <cp:revision>252</cp:revision>
  <dc:subject/>
  <dc:title>Slide 1</dc:title>
</cp:coreProperties>
</file>