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8324-0456-4F81-8447-4B8818CD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9073-E2A2-4F98-A1E5-7ACA6AD4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690-8000-46FC-A760-931E99BC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F47-A1C0-49BB-B36B-3C760C18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C79-2153-4C54-A8B7-F4EAA85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9B8-10B6-4E1F-AC6B-57932F95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B4A-EE20-48FD-9E0A-B7FA0485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962-A8CF-4C68-96CF-E01610C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58F-CFE0-4684-8F52-09A1D1CA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650-B0E3-46A7-A256-D208DD5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EEB-AB5F-4A41-B8A0-DC08B25C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15F-83B0-4FC2-B1D5-C998C82D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B7A-5463-46B4-A647-AF81EFE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81F-0868-4306-AB2B-51F8FB1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9BA-436F-4C77-A864-556D1720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38080" y="1270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dual Tarikh Pembentangan Soalan Tugasan Kerja Kursus Sem 1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ngkat JaP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17 Januari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at : Bilik Mesyuarat JaP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1066680"/>
          <a:ext cx="8839440" cy="4602240"/>
        </p:xfrm>
        <a:graphic>
          <a:graphicData uri="http://schemas.openxmlformats.org/drawingml/2006/table">
            <a:tbl>
              <a:tblPr/>
              <a:tblGrid>
                <a:gridCol w="1295640"/>
                <a:gridCol w="2286000"/>
                <a:gridCol w="1904760"/>
                <a:gridCol w="1981440"/>
                <a:gridCol w="1371600"/>
              </a:tblGrid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/ Mas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d &amp; Nama Kurs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gu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.2019 (Isn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J2062 Tamadun Islam &amp;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iyah Binti Md Rang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.2019 (Sela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3052 Tamadun Islam &amp;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iah Binti Moham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a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.30 pet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03 Tarikh al-Adab al-Arabi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13 Kesusasteraan Ar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23 Pengantar Linguist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64 Tarikh Isl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b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44 Pengajaran Tarannum dan Qir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Fu’ad Mohamad Se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54 Pengantar J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iyah Binti Md Rang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iah Binti Moham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43 Asas Penyelidikan Dalam Pendidi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.2019 (Khami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IK3013 Fikh Kekeluargaan Is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B3013 Bahasa Arab Komunik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hami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.30 pet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52 Inovasi Digital Dalam Pengajaran &amp; Pembelajar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Fu’ad Mohamad Se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32 Pendidikan Inklus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1083 Generik Pendidikan Is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76320" y="6095880"/>
            <a:ext cx="27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ediakan ole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hd Rizuan Abd Ras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nyelaras Kerja Kursus Jabat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248520" y="6095880"/>
            <a:ext cx="27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ahkan ole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bdul Salam Bin Mohamed Ibrah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tua Jabatan Pendidikan Islam &amp; M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22:49:17Z</dcterms:created>
  <dc:creator>Admin</dc:creator>
  <dc:description/>
  <dc:language>en-US</dc:language>
  <cp:lastModifiedBy>Microsoft Office User</cp:lastModifiedBy>
  <dcterms:modified xsi:type="dcterms:W3CDTF">2019-01-16T21:55:50Z</dcterms:modified>
  <cp:revision>252</cp:revision>
  <dc:subject/>
  <dc:title>Slide 1</dc:title>
</cp:coreProperties>
</file>