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19B-0A37-4246-B8CE-97EC03BD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7FA-A13B-4733-8239-A507ACBC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AD3-EC67-4B7F-B0E4-3EA7D6DE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E1F-4978-4AE4-80DC-D47391EF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364B-0BC8-4376-AADF-86D0BAFB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B80B-E995-473D-AC02-EA793590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B86-C572-405E-A78E-A25608B9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2A16-9C67-49CF-8DCB-24ECC0C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3D78-81EB-4FDE-9B7B-C73AB603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F884-CD6F-45A8-AC4E-9E66536D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2BC0-25BA-4672-A7BF-8A22BD7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EEA-80DC-4261-95A6-91A6DC4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CBF8-A69E-4EDA-889F-11ADEBC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C43-976E-4C41-8C3A-36F5813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0C92-B92F-49E7-85DB-0FDE0087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69CE-B394-4BB1-A6E3-6EEF54BD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42F9-4A6C-43A0-B8C8-515EE203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D8F-985D-4EE5-8CDD-2DD3ACD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484-F4C5-4F79-99AF-C2E3833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CD0-0794-4DED-B941-C4358F83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C52-4145-4E7B-8A1E-A20E95A7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307-F424-45DF-A291-D9F947C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905-CFFB-4C5D-B543-D1354DE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F82-6DA7-4A41-A6B8-1A0E35C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0C97-6369-4E42-B13B-8084A77915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7D5-7711-412F-A591-F21602BF9F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200" spc="-1" strike="noStrike">
                <a:solidFill>
                  <a:srgbClr val="ffffff"/>
                </a:solidFill>
                <a:latin typeface="Times New Roman"/>
              </a:rPr>
              <a:t>TAMADUN MELAYU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ediakan oleh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G 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Times New Roman"/>
              </a:rPr>
              <a:t>MELAKA</a:t>
            </a: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laka sebagai empayar penting di Alam Melayu sebagai pusat perdagangan, agama Islam dan Bahasa Melay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ngamalkan sistem pemerintahan beraja. Raja di bantu oleh emapat pembesar utama; 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. Bendahara, 2. Penghulu Bendahari, 3. Temenggung, 4. Laksa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ISTEM KEPERCAYAAN DAN AG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Evolusi sistem kepercayaan masyarakat melayu dilihat melalui dua tahap iaitu zaman pra-Islam dan zaman pasca-Is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Zaman pra-Is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idominasi dua fahmanan anismisme-dinamisme, iaitu dikaitkan kewujudan roh, semangat, penunggu dan makhluk alam ghaib melalui pemujaan oleh pawang ataupun bomo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Kepercayaan Hindu-Budd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Times New Roman"/>
              </a:rPr>
              <a:t>Zaman Pasca-Isl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lam Melayu menerima Islam seawal kurun ke-9 dan kurun ke-10, malah ada mempercayai kedatanganya pada abad ke-13 dan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Teori kedatangan Islam masih lagi tidak disepakat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amum terdapat tiga teori iaitu Islam datang dari Tanah Arab, India dan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edatangan Islam telah merubah kepercayaan animisme-dinanisme, Hindu-Buddha kepada konsep ketauhid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onsep politik dan sosial orang melayu juga berubah iaitu konsep dewaraja telah dimanusiak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edatanagn Islam ke Alam Melayu juga telah melahirkan kerajaan Melayu Islam seperti Pasai, Acheh, Pattani, Demak dan Melak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SISTEM PERUNDANGAN MELA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Terdapat beberapa jenis perundangan yang digunakan sebagai panduan oleh masyarakat melay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Di Melaka terdapat dua teks iaitu, </a:t>
            </a:r>
            <a:r>
              <a:rPr b="1" lang="sv-SE" sz="2700" spc="-1" strike="noStrike">
                <a:solidFill>
                  <a:srgbClr val="ffffff"/>
                </a:solidFill>
                <a:latin typeface="Arial"/>
              </a:rPr>
              <a:t>Hukum Kanun Melaka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 yang mengandungi larangan dan keistemewaan Raja, t/jawab Raja dan Pembesar Neger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700" spc="-1" strike="noStrike">
                <a:solidFill>
                  <a:srgbClr val="ffffff"/>
                </a:solidFill>
                <a:latin typeface="Arial"/>
              </a:rPr>
              <a:t>Undang-Undang Laut Melaka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, adalah peratuan mengenai perlayaran, tatacara jual beli di atas kapal, bidang kuasa nakhoda dan t/jawab pegawai kapa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TARBELAKANG </a:t>
            </a: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TAMADUN MELA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Ada berpendapat orang Melayu adalah orang 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ongoliod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drp kumpulan Indonesia yang berhijrah ke selatan China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Yun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, ia dikenali sebagai 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layu Deutro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atau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 Melayu Panta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. Ciri-cirinya iala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500" spc="-1" strike="noStrike">
                <a:solidFill>
                  <a:srgbClr val="ffffff"/>
                </a:solidFill>
                <a:latin typeface="Arial"/>
              </a:rPr>
              <a:t>Berdahi luas, kulit sawo matang, mata cantik, badan seimbang dan berambut hitam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layu Proto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dikatakan lebih awal menduduki kawasan pantai, dng kedatangan Melayu Deutro menyebabkan Melayu Proto ditolak dikawasan pendalaman dan pergunungan, ia diwakili oleh Jakun, Orang laut dan Seletar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suku kaum orang asl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Wan Hashim Wan Teh telah melolak teori migrasi , berdasarkan para arkeologi mengatakan orang Melayu berasal dari Alam Melayu sendiri, kerana tiada ciri persamaan dengan orang melayu dengan orang Yun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RAS DAN RUMPUN MELA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Pengkaji Antropologi merujuk kepada enam kelompok manusia terbesar didunia berdasarkan ciri fizikal,bentuk muka, hidung, rambut, genetik, linguistic dan bud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aucasoid(Kulit Putih), Negroid (Kulit Hitam), Mongoloid (Kulit Kuning), Australoid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uduk asal Australia dan New Guinea),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Red Indian (Kulit Merah, asalnya dari benua Asia atau Alam Melayu, Melayu-Polinesia- Kulit Ciku Masak(sawo mata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Ras Melayu-Polinesia dicirikan oleh persamaan dari segi bahasa (linguistic) dan konsep ras tidak mengambil kira persamaan ag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Ras Melayu boleh dipecahkan kepada ratusan suku atau ernik yang mempunyai perbezaan lokasi, dialek dan budaya, antarany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ff"/>
                </a:solidFill>
                <a:latin typeface="Arial"/>
              </a:rPr>
              <a:t>Melayu-Riau, Jawa, Bugis, Minangkabau, Aceh, Banjar, Mandaling, Sunda, Kerinci, Patani, Kelantan, Terengganu dan Champ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KONSEP MELAYU I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Diperkenalkan oleh Ismail Hussein dan Wan Hashim Wan Teh, merujuk kepada kawasan di sekitar dataran Sunda dihuni oleh ras melayu sebagai penduduk as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Ia merangkumi semenanjung Tanah Melayu hingga ke Segenting Kra(Thai), Indonesia, China, Filipina dan seluruh kepulauan Indonesia dan Borne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Di kawasan Dunia Melayu Inti inilah wujudnya kerajaan iaitu Champa, Funan, Langkasuka(indo-China)  dan Segenting K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emudianya muncul kerajaan dan bangsa pascakolonial seperti Malaysia, Indonesia, Singapura dan Brunai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MELAYU DIAS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Merujuk kepada bangsa melayu yang tersebar meluas dari Alam Melayu dan telah berhijrah ke kawasan baru iaitu sejak zaman Kerajaan Sriwijaya hingga ke zaman pascakemerdeka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Lima belas kumpulan Melayu Diaspora dikenalpasti(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rujuk modul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), selain itu wujud juga kelompok kecil yang merupakan penduduk asal sebagai Melayu Minoriti(selatan Thai, Singapura, Vietnam dan Taiwan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KONSEP MELAYU MENGIKUT BAH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ahasa Melayu termasuk dalam rumpun Austaonesia-Nusant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Filum ialah kelompok bahasa yang lama waktunya 5000 th ke 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55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MELAYU MENURUT PERLEMBAG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Orang Melayu ialah orang bertutur dalam Bahasa Melayu, menganut agama Islam dan mengamalkan ciri-ciri Melay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Kemudianya dengan penubuhan Malaysia 1963, maka konsep bumiputra diperkenalkan yang memasukkan orang Melayu sebahagian kaum bumiputra yang merupakan penduduk asal persekutuan termasuklah bumiputra Sabah, Sarawak dan orang Asli Semenanju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Times New Roman"/>
              </a:rPr>
              <a:t>PUSAT KERAJAAN DAN KETAMADUNAN MELA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Ia terbahagi kepada dua iaitu berbentuk agrarian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pertani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 dan maritime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perlaut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. SRIWIJAYA(650-1200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uncul selepas Funan mulai lemah(6M) dipengaruhi Hindu-Budd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ebuah kerajaan maritim yang kuat kerana mengawal perdagangan di Selat Sunda dan Selat Mela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Antara sumbangannya iala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. Pusat Perdaga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miliki sistem perdagagan yang teratur dan sistemat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iketuai oleh Raja dan dibantu oleh tiga struktur pentadbiran iaitu Daerah, Tentera dan Pentadbiran Dir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Tuhan Vatakvurah sebagi pegawas kepada golongan Puhawang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anak Kapal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, dan Vaniaga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Pedagang tempat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 dan berperanan menetapkan harga barang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ffff"/>
                </a:solidFill>
                <a:latin typeface="Times New Roman"/>
              </a:rPr>
              <a:t>ii. Pusat Kegiatan Ilmu Pengentahu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Menurut I-Tsing, pada abad ke-7 Seriwijaya sebagai pusat akademik seperti menterjemah bahasa Sanskrit ke bahasa C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Pada 711 Sriwijaya sebagai pusat pembelajaran agama Buddh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Bahasa Melayu Kuno adalah bahasa rasmi dalam semua lapangan, ini terbukti penemuan batu bersurat Kedukan Bukit, Talang Tuwo, Kota Kapur, Karang Barah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7:03:50Z</dcterms:created>
  <dc:creator>sarif</dc:creator>
  <dc:description/>
  <dc:language>en-US</dc:language>
  <cp:lastModifiedBy>sarif</cp:lastModifiedBy>
  <dcterms:modified xsi:type="dcterms:W3CDTF">2006-08-03T04:09:38Z</dcterms:modified>
  <cp:revision>3</cp:revision>
  <dc:subject/>
  <dc:title>TAMADUN MELAYU</dc:title>
</cp:coreProperties>
</file>