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1C9-7951-49F6-BF50-F7EA1BBC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6DB-224D-41C5-A590-575AE041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3FA-C3EC-44F0-902E-30AFE103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A3E-7EF9-4FC5-88CF-7833DC51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B283-EB55-4CE1-93CB-78DC21EF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D474-F5A2-4781-B044-B2675004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49A6-A1A8-439C-A7FA-4FB498BE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1C77-5036-4CC2-A279-7510F046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2B81-D713-4DF5-B410-47A4E82A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7536-1E19-48FE-983B-26B3F7CB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1CA5-D942-4640-88AF-64D5C6F2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D8D-DB65-4B04-AF4C-5321324C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0975-6E6D-45F1-A9E6-C709F8C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961A-FA8A-48C7-BF41-7699DE8F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2E3C-23E7-4826-944B-CFA2FEA2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C96B-393D-4B45-BA1B-10F04538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05F5-CED7-4A94-8278-00A4E481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039-5EF0-4CE1-8BAB-084AA04B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B11-68F7-4371-A223-F4D360EC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AB0-BC91-4310-B2B1-2CFE59BB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488-13AD-4792-AE08-00F89C4E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32A-BF56-429E-B655-9D22D6BF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45D-42DC-4367-9047-6DCC4B9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EEB-DD45-4A70-AD5F-A9AF0871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50F2-CF71-4887-879B-E3D06C1D1D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EE77-C42A-4A61-A087-84093D07D2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200" spc="-1" strike="noStrike">
                <a:solidFill>
                  <a:srgbClr val="ffffff"/>
                </a:solidFill>
                <a:latin typeface="Times New Roman"/>
              </a:rPr>
              <a:t>TAMADUN MELAYU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ediakan oleh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G 200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Times New Roman"/>
              </a:rPr>
              <a:t>MELAKA</a:t>
            </a:r>
            <a:r>
              <a:rPr b="0" lang="sv-SE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laka sebagai empayar penting di Alam Melayu sebagai pusat perdagangan, agama Islam dan Bahasa Melay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ngamalkan sistem pemerintahan beraja. Raja di bantu oleh emapat pembesar utama; 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1. Bendahara, 2. Penghulu Bendahari, 3. Temenggung, 4. Laksam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ISTEM KEPERCAYAAN DAN AG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Evolusi sistem kepercayaan masyarakat melayu dilihat melalui dua tahap iaitu zaman pra-Islam dan zaman pasca-Isl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Zaman pra-Isl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Didominasi dua fahmanan anismisme-dinamisme, iaitu dikaitkan kewujudan roh, semangat, penunggu dan makhluk alam ghaib melalui pemujaan oleh pawang ataupun bomo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Kepercayaan Hindu-Budd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Times New Roman"/>
              </a:rPr>
              <a:t>Zaman Pasca-Isl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Alam Melayu menerima Islam seawal kurun ke-9 dan kurun ke-10, malah ada mempercayai kedatanganya pada abad ke-13 dan 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Teori kedatangan Islam masih lagi tidak disepakat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Namum terdapat tiga teori iaitu Islam datang dari Tanah Arab, India dan Chi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Kedatangan Islam telah merubah kepercayaan animisme-dinanisme, Hindu-Buddha kepada konsep ketauhid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Konsep politik dan sosial orang melayu juga berubah iaitu konsep dewaraja telah dimanusiak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Kedatanagn Islam ke Alam Melayu juga telah melahirkan kerajaan Melayu Islam seperti Pasai, Acheh, Pattani, Demak dan Melak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SISTEM PERUNDANGAN MELA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Terdapat beberapa jenis perundangan yang digunakan sebagai panduan oleh masyarakat melay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Di Melaka terdapat dua teks iaitu, </a:t>
            </a:r>
            <a:r>
              <a:rPr b="1" lang="sv-SE" sz="2700" spc="-1" strike="noStrike">
                <a:solidFill>
                  <a:srgbClr val="ffffff"/>
                </a:solidFill>
                <a:latin typeface="Arial"/>
              </a:rPr>
              <a:t>Hukum Kanun Melaka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 yang mengandungi larangan dan keistemewaan Raja, t/jawab Raja dan Pembesar Neger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700" spc="-1" strike="noStrike">
                <a:solidFill>
                  <a:srgbClr val="ffffff"/>
                </a:solidFill>
                <a:latin typeface="Arial"/>
              </a:rPr>
              <a:t>Undang-Undang Laut Melaka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, adalah peratuan mengenai perlayaran, tatacara jual beli di atas kapal, bidang kuasa nakhoda dan t/jawab pegawai kapa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TARBELAKANG </a:t>
            </a: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TAMADUN MELA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Ada berpendapat orang Melayu adalah orang 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ongoliod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drp kumpulan Indonesia yang berhijrah ke selatan China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Yunan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, ia dikenali sebagai 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elayu Deutro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atau</a:t>
            </a: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 Melayu Pantai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. Ciri-cirinya ialah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500" spc="-1" strike="noStrike">
                <a:solidFill>
                  <a:srgbClr val="ffffff"/>
                </a:solidFill>
                <a:latin typeface="Arial"/>
              </a:rPr>
              <a:t>Berdahi luas, kulit sawo matang, mata cantik, badan seimbang dan berambut hitam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elayu Proto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dikatakan lebih awal menduduki kawasan pantai, dng kedatangan Melayu Deutro menyebabkan Melayu Proto ditolak dikawasan pendalaman dan pergunungan, ia diwakili oleh Jakun, Orang laut dan Seletar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suku kaum orang asli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Wan Hashim Wan Teh telah melolak teori migrasi , berdasarkan para arkeologi mengatakan orang Melayu berasal dari Alam Melayu sendiri, kerana tiada ciri persamaan dengan orang melayu dengan orang Yun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RAS DAN RUMPUN MELA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Pengkaji Antropologi merujuk kepada enam kelompok manusia terbesar didunia berdasarkan ciri fizikal,bentuk muka, hidung, rambut, genetik, linguistic dan buda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aucasoid(Kulit Putih), Negroid (Kulit Hitam), Mongoloid (Kulit Kuning), Australoid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duduk asal Australia dan New Guinea),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Red Indian (Kulit Merah, asalnya dari benua Asia atau Alam Melayu, Melayu-Polinesia- Kulit Ciku Masak(sawo mata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Ras Melayu-Polinesia dicirikan oleh persamaan dari segi bahasa (linguistic) dan konsep ras tidak mengambil kira persamaan ag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Ras Melayu boleh dipecahkan kepada ratusan suku atau ernik yang mempunyai perbezaan lokasi, dialek dan budaya, antarany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ffffff"/>
                </a:solidFill>
                <a:latin typeface="Arial"/>
              </a:rPr>
              <a:t>Melayu-Riau, Jawa, Bugis, Minangkabau, Aceh, Banjar, Mandaling, Sunda, Kerinci, Patani, Kelantan, Terengganu dan Champ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KONSEP MELAYU IN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Diperkenalkan oleh Ismail Hussein dan Wan Hashim Wan Teh, merujuk kepada kawasan di sekitar dataran Sunda dihuni oleh ras melayu sebagai penduduk as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Ia merangkumi semenanjung Tanah Melayu hingga ke Segenting Kra(Thai), Indonesia, China, Filipina dan seluruh kepulauan Indonesia dan Borne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Di kawasan Dunia Melayu Inti inilah wujudnya kerajaan iaitu Champa, Funan, Langkasuka(indo-China)  dan Segenting K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Kemudianya muncul kerajaan dan bangsa pascakolonial seperti Malaysia, Indonesia, Singapura dan Brunai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MELAYU DIAS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Merujuk kepada bangsa melayu yang tersebar meluas dari Alam Melayu dan telah berhijrah ke kawasan baru iaitu sejak zaman Kerajaan Sriwijaya hingga ke zaman pascakemerdeka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Lima belas kumpulan Melayu Diaspora dikenalpasti(</a:t>
            </a:r>
            <a:r>
              <a:rPr b="0" i="1" lang="sv-SE" sz="2700" spc="-1" strike="noStrike">
                <a:solidFill>
                  <a:srgbClr val="ffffff"/>
                </a:solidFill>
                <a:latin typeface="Arial"/>
              </a:rPr>
              <a:t>rujuk modul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), selain itu wujud juga kelompok kecil yang merupakan penduduk asal sebagai Melayu Minoriti(selatan Thai, Singapura, Vietnam dan Taiwan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KONSEP MELAYU MENGIKUT BAH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ahasa Melayu termasuk dalam rumpun Austaonesia-Nusanta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Filum ialah kelompok bahasa yang lama waktunya 5000 th ke a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7559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MELAYU MENURUT PERLEMBAG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Orang Melayu ialah orang bertutur dalam Bahasa Melayu, menganut agama Islam dan mengamalkan ciri-ciri Melay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Kemudianya dengan penubuhan Malaysia 1963, maka konsep bumiputra diperkenalkan yang memasukkan orang Melayu sebahagian kaum bumiputra yang merupakan penduduk asal persekutuan termasuklah bumiputra Sabah, Sarawak dan orang Asli Semenanju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Times New Roman"/>
              </a:rPr>
              <a:t>PUSAT KERAJAAN DAN KETAMADUNAN MELA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Ia terbahagi kepada dua iaitu berbentuk agrarian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pertanian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 dan maritime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perlautan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a. SRIWIJAYA(650-1200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uncul selepas Funan mulai lemah(6M) dipengaruhi Hindu-Budd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ebuah kerajaan maritim yang kuat kerana mengawal perdagangan di Selat Sunda dan Selat Mela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Antara sumbangannya iala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i. Pusat Perdaga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miliki sistem perdagagan yang teratur dan sistemat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Diketuai oleh Raja dan dibantu oleh tiga struktur pentadbiran iaitu Daerah, Tentera dan Pentadbiran Dir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Tuhan Vatakvurah sebagi pegawas kepada golongan Puhawang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anak Kapal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, dan Vaniaga(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Pedagang tempatan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) dan berperanan menetapkan harga barang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fffff"/>
                </a:solidFill>
                <a:latin typeface="Times New Roman"/>
              </a:rPr>
              <a:t>ii. Pusat Kegiatan Ilmu Pengentahu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Menurut I-Tsing, pada abad ke-7 Seriwijaya sebagai pusat akademik seperti menterjemah bahasa Sanskrit ke bahasa Ci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Pada 711 Sriwijaya sebagai pusat pembelajaran agama Buddh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Bahasa Melayu Kuno adalah bahasa rasmi dalam semua lapangan, ini terbukti penemuan batu bersurat Kedukan Bukit, Talang Tuwo, Kota Kapur, Karang Barah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7:03:50Z</dcterms:created>
  <dc:creator>sarif</dc:creator>
  <dc:description/>
  <dc:language>en-US</dc:language>
  <cp:lastModifiedBy>sarif</cp:lastModifiedBy>
  <dcterms:modified xsi:type="dcterms:W3CDTF">2006-08-03T04:09:38Z</dcterms:modified>
  <cp:revision>3</cp:revision>
  <dc:subject/>
  <dc:title>TAMADUN MELAYU</dc:title>
</cp:coreProperties>
</file>