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7DA4B-B63D-4850-9702-D274FCBA6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78457-A698-4C37-B017-E8FCC9B08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C6F3A-5EB6-4A18-9A6D-BE81F8996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B0670-2E04-4811-8C84-2B1FF2B89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FCE25-DE58-4F2A-ADB7-16D7D2478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99CBE-71F6-449B-862F-5B0E50BFB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55D28-B80E-43BB-8C3A-8E3F2E126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3488C-0D80-4219-B06D-6B1B20AC4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9E865-A22C-4C57-8A2B-7CBDB3F24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DA2A4-C4B9-4921-BA06-300697408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23E8F-AE2A-476F-A55F-FB466F529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365F-F5D8-4A4E-97F0-B268BCB67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C7DA8-0253-4B69-A53E-194FCA8BC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CC4D9-FC26-4EBC-BB09-4138F415E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C14E3-BB17-40F3-BBAA-902E56360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3A926-CA51-4484-BAD3-F2991150D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F50AF-F594-44A3-9498-3BAF131C8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6D6F5-4FBC-4C8C-810E-8C016BC3F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3393D-F254-40D6-9D82-8F2156444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7046-A6F5-4204-BB37-00AD90D5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AF72C-50B8-48CE-99BA-2CA8F5649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26BD-0E4B-485A-B127-0BDFC1A1E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BE3CB-DD04-42A8-BF8A-24793A54C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B324-599B-403D-AA54-304EE1D24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067B-E6D8-4BDE-93CC-A986447C4E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283A-F0C8-4E2F-BF13-2985D389BC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74284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NI-Helve"/>
              </a:rPr>
              <a:t>BIEÅU HIEÄN COÙ LIEÂN QUAN BAÙNH NHAU</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2" name="H%20154" descr=""/>
          <p:cNvPicPr/>
          <p:nvPr/>
        </p:nvPicPr>
        <p:blipFill>
          <a:blip r:embed="rId1"/>
          <a:stretch/>
        </p:blipFill>
        <p:spPr>
          <a:xfrm>
            <a:off x="2666880" y="152280"/>
            <a:ext cx="3943440" cy="2716200"/>
          </a:xfrm>
          <a:prstGeom prst="rect">
            <a:avLst/>
          </a:prstGeom>
          <a:ln w="0">
            <a:noFill/>
          </a:ln>
        </p:spPr>
      </p:pic>
      <p:pic>
        <p:nvPicPr>
          <p:cNvPr id="113" name="H%20155" descr=""/>
          <p:cNvPicPr/>
          <p:nvPr/>
        </p:nvPicPr>
        <p:blipFill>
          <a:blip r:embed="rId2"/>
          <a:stretch/>
        </p:blipFill>
        <p:spPr>
          <a:xfrm>
            <a:off x="152280" y="3048120"/>
            <a:ext cx="2524320" cy="3657600"/>
          </a:xfrm>
          <a:prstGeom prst="rect">
            <a:avLst/>
          </a:prstGeom>
          <a:ln w="0">
            <a:noFill/>
          </a:ln>
        </p:spPr>
      </p:pic>
      <p:pic>
        <p:nvPicPr>
          <p:cNvPr id="114" name="H%20156" descr=""/>
          <p:cNvPicPr/>
          <p:nvPr/>
        </p:nvPicPr>
        <p:blipFill>
          <a:blip r:embed="rId3"/>
          <a:stretch/>
        </p:blipFill>
        <p:spPr>
          <a:xfrm>
            <a:off x="6537240" y="3048120"/>
            <a:ext cx="2530440" cy="3733560"/>
          </a:xfrm>
          <a:prstGeom prst="rect">
            <a:avLst/>
          </a:prstGeom>
          <a:ln w="0">
            <a:noFill/>
          </a:ln>
        </p:spPr>
      </p:pic>
      <p:sp>
        <p:nvSpPr>
          <p:cNvPr id="115" name=""/>
          <p:cNvSpPr/>
          <p:nvPr/>
        </p:nvSpPr>
        <p:spPr>
          <a:xfrm>
            <a:off x="228600" y="380880"/>
            <a:ext cx="2362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SINH ÑOÂI CUØNG TRÖÙNG, TREÛ ÑUÛ THAÙNG, 37 TUAÀN TUOÅI, SINH MOÅ, MEÏ BÒ TIEÅU ÑÖÔØNG. TREÛ TO CON, HÔI PHUØ</a:t>
            </a:r>
            <a:endParaRPr b="0" lang="en-US" sz="1400" spc="-1" strike="noStrike">
              <a:solidFill>
                <a:srgbClr val="ffffff"/>
              </a:solidFill>
              <a:latin typeface="Times New Roman"/>
            </a:endParaRPr>
          </a:p>
        </p:txBody>
      </p:sp>
      <p:sp>
        <p:nvSpPr>
          <p:cNvPr id="116" name=""/>
          <p:cNvSpPr/>
          <p:nvPr/>
        </p:nvSpPr>
        <p:spPr>
          <a:xfrm>
            <a:off x="2819520" y="3048120"/>
            <a:ext cx="2361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SINH ÑOÂI KHAÙC TRÖÙNG CUØNG GIÔÙI, 37 TUAÀN TUOÅI, THIEÁU CAÂN DO CHAÄM PHAÙT TRIEÅN TRÖÔÙC SINH</a:t>
            </a:r>
            <a:endParaRPr b="0" lang="en-US" sz="1400" spc="-1" strike="noStrike">
              <a:solidFill>
                <a:srgbClr val="ffffff"/>
              </a:solidFill>
              <a:latin typeface="Times New Roman"/>
            </a:endParaRPr>
          </a:p>
        </p:txBody>
      </p:sp>
      <p:sp>
        <p:nvSpPr>
          <p:cNvPr id="117" name=""/>
          <p:cNvSpPr/>
          <p:nvPr/>
        </p:nvSpPr>
        <p:spPr>
          <a:xfrm>
            <a:off x="4114800" y="586728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SINH ÑOÂI KHAÙC TRÖÙNG, KHAÙC GIÔÙI, 42 TUAÀN TUOÅI</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333760"/>
            <a:ext cx="518148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NI-Helve"/>
              </a:rPr>
              <a:t>BEÄNH LYÙ BAÙNH NHAU</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0" name="H%20143" descr=""/>
          <p:cNvPicPr/>
          <p:nvPr/>
        </p:nvPicPr>
        <p:blipFill>
          <a:blip r:embed="rId1"/>
          <a:stretch/>
        </p:blipFill>
        <p:spPr>
          <a:xfrm>
            <a:off x="1371600" y="914400"/>
            <a:ext cx="6477120" cy="4467240"/>
          </a:xfrm>
          <a:prstGeom prst="rect">
            <a:avLst/>
          </a:prstGeom>
          <a:ln w="0">
            <a:noFill/>
          </a:ln>
        </p:spPr>
      </p:pic>
      <p:sp>
        <p:nvSpPr>
          <p:cNvPr id="91" name=""/>
          <p:cNvSpPr/>
          <p:nvPr/>
        </p:nvSpPr>
        <p:spPr>
          <a:xfrm>
            <a:off x="380880" y="5638680"/>
            <a:ext cx="8534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TREÛ TO CON SAU SINH</a:t>
            </a:r>
            <a:r>
              <a:rPr b="0" lang="en-US" sz="1400" spc="-1" strike="noStrike">
                <a:solidFill>
                  <a:srgbClr val="ffffff"/>
                </a:solidFill>
                <a:latin typeface="VNI-Helve"/>
              </a:rPr>
              <a:t>: COÙ TÍNH GIA ÑÌNH HAY DO MEÏ BÒ TIEÅU ÑÖÔØNG, THÖÔØNG COÙ TAI BIEÁN CHU SINH HAY NGAY KHI ÑEÛ. HAØNG RAØO NHAU-THAI COÙ HAÏN CHEÁ, GAÂY THIEÁU NHAÄN OXY TÖØ MEÏ, DAÃN ÑEÁN SINH KHOÙ HAY CHAÄM PHAÙT TRIEÅN TRÖÔÙC SINH. CAÂN TROÏNG TREÛ SEÕ TIEÁN DAÀN ÑEÁN CHÆ SOÁ BÌNH THÖÔØNG TRONG NAÊM ÑAÀU TIEÂ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2" name="H%20144" descr=""/>
          <p:cNvPicPr/>
          <p:nvPr/>
        </p:nvPicPr>
        <p:blipFill>
          <a:blip r:embed="rId1"/>
          <a:stretch/>
        </p:blipFill>
        <p:spPr>
          <a:xfrm>
            <a:off x="76320" y="4011480"/>
            <a:ext cx="3932280" cy="2770200"/>
          </a:xfrm>
          <a:prstGeom prst="rect">
            <a:avLst/>
          </a:prstGeom>
          <a:ln w="0">
            <a:noFill/>
          </a:ln>
        </p:spPr>
      </p:pic>
      <p:pic>
        <p:nvPicPr>
          <p:cNvPr id="93" name="H%20145" descr=""/>
          <p:cNvPicPr/>
          <p:nvPr/>
        </p:nvPicPr>
        <p:blipFill>
          <a:blip r:embed="rId2"/>
          <a:stretch/>
        </p:blipFill>
        <p:spPr>
          <a:xfrm>
            <a:off x="2822400" y="76320"/>
            <a:ext cx="2664000" cy="3809880"/>
          </a:xfrm>
          <a:prstGeom prst="rect">
            <a:avLst/>
          </a:prstGeom>
          <a:ln w="0">
            <a:noFill/>
          </a:ln>
        </p:spPr>
      </p:pic>
      <p:pic>
        <p:nvPicPr>
          <p:cNvPr id="94" name="H%20146" descr=""/>
          <p:cNvPicPr/>
          <p:nvPr/>
        </p:nvPicPr>
        <p:blipFill>
          <a:blip r:embed="rId3"/>
          <a:stretch/>
        </p:blipFill>
        <p:spPr>
          <a:xfrm>
            <a:off x="76320" y="76320"/>
            <a:ext cx="2635200" cy="3809880"/>
          </a:xfrm>
          <a:prstGeom prst="rect">
            <a:avLst/>
          </a:prstGeom>
          <a:ln w="0">
            <a:noFill/>
          </a:ln>
        </p:spPr>
      </p:pic>
      <p:sp>
        <p:nvSpPr>
          <p:cNvPr id="95" name=""/>
          <p:cNvSpPr/>
          <p:nvPr/>
        </p:nvSpPr>
        <p:spPr>
          <a:xfrm>
            <a:off x="4800600" y="4648320"/>
            <a:ext cx="2819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NHOÀI MAÙU BAÙNH NHAU</a:t>
            </a:r>
            <a:r>
              <a:rPr b="0" lang="en-US" sz="1400" spc="-1" strike="noStrike">
                <a:solidFill>
                  <a:srgbClr val="ffffff"/>
                </a:solidFill>
                <a:latin typeface="VNI-Helve"/>
              </a:rPr>
              <a:t>: TREÛ DA ÑEN, 40 TUAÀN TUOÅI, COÙ DA KHOÂ, MOÛNG VAØ NHAÊN. TOÙC THÖA, MÔÕ DÖÔÙI DA KEÙM DO THIEÁU DINH DÖÔÕ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6" name="H%20147" descr=""/>
          <p:cNvPicPr/>
          <p:nvPr/>
        </p:nvPicPr>
        <p:blipFill>
          <a:blip r:embed="rId1"/>
          <a:stretch/>
        </p:blipFill>
        <p:spPr>
          <a:xfrm>
            <a:off x="3657600" y="3843360"/>
            <a:ext cx="5273640" cy="2654280"/>
          </a:xfrm>
          <a:prstGeom prst="rect">
            <a:avLst/>
          </a:prstGeom>
          <a:ln w="0">
            <a:noFill/>
          </a:ln>
        </p:spPr>
      </p:pic>
      <p:pic>
        <p:nvPicPr>
          <p:cNvPr id="97" name="H%20148%20B" descr=""/>
          <p:cNvPicPr/>
          <p:nvPr/>
        </p:nvPicPr>
        <p:blipFill>
          <a:blip r:embed="rId2"/>
          <a:stretch/>
        </p:blipFill>
        <p:spPr>
          <a:xfrm>
            <a:off x="2895480" y="173160"/>
            <a:ext cx="2286000" cy="3408120"/>
          </a:xfrm>
          <a:prstGeom prst="rect">
            <a:avLst/>
          </a:prstGeom>
          <a:ln w="0">
            <a:noFill/>
          </a:ln>
        </p:spPr>
      </p:pic>
      <p:pic>
        <p:nvPicPr>
          <p:cNvPr id="98" name="H%20148" descr=""/>
          <p:cNvPicPr/>
          <p:nvPr/>
        </p:nvPicPr>
        <p:blipFill>
          <a:blip r:embed="rId3"/>
          <a:stretch/>
        </p:blipFill>
        <p:spPr>
          <a:xfrm>
            <a:off x="228600" y="152280"/>
            <a:ext cx="2308320" cy="3505320"/>
          </a:xfrm>
          <a:prstGeom prst="rect">
            <a:avLst/>
          </a:prstGeom>
          <a:ln w="0">
            <a:noFill/>
          </a:ln>
        </p:spPr>
      </p:pic>
      <p:sp>
        <p:nvSpPr>
          <p:cNvPr id="99" name=""/>
          <p:cNvSpPr/>
          <p:nvPr/>
        </p:nvSpPr>
        <p:spPr>
          <a:xfrm>
            <a:off x="380880" y="4343400"/>
            <a:ext cx="28958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TREÛ SINH GIAØ THAÙNG</a:t>
            </a:r>
            <a:r>
              <a:rPr b="0" lang="en-US" sz="1400" spc="-1" strike="noStrike">
                <a:solidFill>
                  <a:srgbClr val="ffffff"/>
                </a:solidFill>
                <a:latin typeface="VNI-Helve"/>
              </a:rPr>
              <a:t>: 43 TUAÀN TUOÅI. TREÛ BÒ LOÄT DA, KHOÂ DA, BUÏNG HÌNH THUYEÀN, MOÂNG XEÏP, VIEÂM GOÙT CHAÂN DO COÏ XAÙ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0" name="H%20149" descr=""/>
          <p:cNvPicPr/>
          <p:nvPr/>
        </p:nvPicPr>
        <p:blipFill>
          <a:blip r:embed="rId1"/>
          <a:stretch/>
        </p:blipFill>
        <p:spPr>
          <a:xfrm>
            <a:off x="1600200" y="990720"/>
            <a:ext cx="6524640" cy="4494240"/>
          </a:xfrm>
          <a:prstGeom prst="rect">
            <a:avLst/>
          </a:prstGeom>
          <a:ln w="0">
            <a:noFill/>
          </a:ln>
        </p:spPr>
      </p:pic>
      <p:sp>
        <p:nvSpPr>
          <p:cNvPr id="101" name=""/>
          <p:cNvSpPr/>
          <p:nvPr/>
        </p:nvSpPr>
        <p:spPr>
          <a:xfrm>
            <a:off x="990720" y="5638680"/>
            <a:ext cx="7010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TREÛ SINH THIEÁU THAÙNG</a:t>
            </a:r>
            <a:r>
              <a:rPr b="0" lang="en-US" sz="1400" spc="-1" strike="noStrike">
                <a:solidFill>
                  <a:srgbClr val="ffffff"/>
                </a:solidFill>
                <a:latin typeface="VNI-Helve"/>
              </a:rPr>
              <a:t>: 37 TUAÀN TUOÅI, CAÂN NAËNG 1050g, ÑAÀU KHAÙ TO SO VÔÙI THAÂN MÌNH, CHI GAÄP SAU NHIEÀU (HÌNH TRAÙI), DA BOÙNG LAÙNH VÌ BÒ PHUØ VAØ COÙ NHIEÀU LOÂNG TÔ. MÔÕ DÖÔÙI DA KEÙM. ÑAÀU ÍT TOÙC, MAÉT LOÄ DO MAÁT CAÂN XÖÙNG VEÀ KÍCH THÖÔÙC GIÖÕA NHÔÕN CAÀU VAØ HOÁC MAÉ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2" name="H%20150" descr=""/>
          <p:cNvPicPr/>
          <p:nvPr/>
        </p:nvPicPr>
        <p:blipFill>
          <a:blip r:embed="rId1"/>
          <a:stretch/>
        </p:blipFill>
        <p:spPr>
          <a:xfrm>
            <a:off x="228600" y="1676520"/>
            <a:ext cx="4343400" cy="3003480"/>
          </a:xfrm>
          <a:prstGeom prst="rect">
            <a:avLst/>
          </a:prstGeom>
          <a:ln w="0">
            <a:noFill/>
          </a:ln>
        </p:spPr>
      </p:pic>
      <p:pic>
        <p:nvPicPr>
          <p:cNvPr id="103" name="H%20151" descr=""/>
          <p:cNvPicPr/>
          <p:nvPr/>
        </p:nvPicPr>
        <p:blipFill>
          <a:blip r:embed="rId2"/>
          <a:stretch/>
        </p:blipFill>
        <p:spPr>
          <a:xfrm>
            <a:off x="4648320" y="1676520"/>
            <a:ext cx="4343400" cy="2968560"/>
          </a:xfrm>
          <a:prstGeom prst="rect">
            <a:avLst/>
          </a:prstGeom>
          <a:ln w="0">
            <a:noFill/>
          </a:ln>
        </p:spPr>
      </p:pic>
      <p:sp>
        <p:nvSpPr>
          <p:cNvPr id="104" name=""/>
          <p:cNvSpPr/>
          <p:nvPr/>
        </p:nvSpPr>
        <p:spPr>
          <a:xfrm>
            <a:off x="228600" y="4800600"/>
            <a:ext cx="4267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TREÛ SINH NON</a:t>
            </a:r>
            <a:r>
              <a:rPr b="0" lang="en-US" sz="1400" spc="-1" strike="noStrike">
                <a:solidFill>
                  <a:srgbClr val="ffffff"/>
                </a:solidFill>
                <a:latin typeface="VNI-Helve"/>
              </a:rPr>
              <a:t> 28 TUAÀN TUOÅI, NAËNG 1020g, NGÖÏC LOÕM ÑIEÅN HÌNH, TREÛ VAØNG DA VAØ TÍM TAÙI. DA BOÙNG LAÙNG DO TREÛ BÒ PHUØ. (CAN THIEÄP HOÃ TRÔÏ HOÂ HAÁP COÙ THEÅ CÖÙU SOÁNG TREÛ SAU SINH; CAN THIEÄP ÑIEÀU TRÒ CORTICOID CHO MEÏ TRÖÔÙC SINH COÙ THEÅ LAØM GIAÛM NGUY CÔ SUY HOÂ HAÁP SÔ SINH NAØY)</a:t>
            </a:r>
            <a:endParaRPr b="0" lang="en-US" sz="1400" spc="-1" strike="noStrike">
              <a:solidFill>
                <a:srgbClr val="ffffff"/>
              </a:solidFill>
              <a:latin typeface="Times New Roman"/>
            </a:endParaRPr>
          </a:p>
        </p:txBody>
      </p:sp>
      <p:sp>
        <p:nvSpPr>
          <p:cNvPr id="105" name=""/>
          <p:cNvSpPr/>
          <p:nvPr/>
        </p:nvSpPr>
        <p:spPr>
          <a:xfrm>
            <a:off x="4648320" y="4876920"/>
            <a:ext cx="4267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HOÄI CHÖÙNG WILSON-MIKITY</a:t>
            </a:r>
            <a:r>
              <a:rPr b="0" lang="en-US" sz="1400" spc="-1" strike="noStrike">
                <a:solidFill>
                  <a:srgbClr val="ffffff"/>
                </a:solidFill>
                <a:latin typeface="VNI-Helve"/>
              </a:rPr>
              <a:t>. TREÛ BÒ VIEÂM MOÂ KEÕ PHOÅI KHOÂNG ROÕ NGUYEÂN NHAÂN, COÙ BIEÅU HIEÄN SUY HOÂ HAÁP MAÏN TÍNH. TREÛ THÔÛ CO KEÙO, BUÏNG CHÖÔÙ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H%20152" descr=""/>
          <p:cNvPicPr/>
          <p:nvPr/>
        </p:nvPicPr>
        <p:blipFill>
          <a:blip r:embed="rId1"/>
          <a:stretch/>
        </p:blipFill>
        <p:spPr>
          <a:xfrm>
            <a:off x="304920" y="228600"/>
            <a:ext cx="2305080" cy="3193920"/>
          </a:xfrm>
          <a:prstGeom prst="rect">
            <a:avLst/>
          </a:prstGeom>
          <a:ln w="0">
            <a:noFill/>
          </a:ln>
        </p:spPr>
      </p:pic>
      <p:pic>
        <p:nvPicPr>
          <p:cNvPr id="107" name="H%20153" descr=""/>
          <p:cNvPicPr/>
          <p:nvPr/>
        </p:nvPicPr>
        <p:blipFill>
          <a:blip r:embed="rId2"/>
          <a:stretch/>
        </p:blipFill>
        <p:spPr>
          <a:xfrm>
            <a:off x="4546440" y="387360"/>
            <a:ext cx="4292640" cy="6242040"/>
          </a:xfrm>
          <a:prstGeom prst="rect">
            <a:avLst/>
          </a:prstGeom>
          <a:ln w="0">
            <a:noFill/>
          </a:ln>
        </p:spPr>
      </p:pic>
      <p:sp>
        <p:nvSpPr>
          <p:cNvPr id="108" name=""/>
          <p:cNvSpPr/>
          <p:nvPr/>
        </p:nvSpPr>
        <p:spPr>
          <a:xfrm>
            <a:off x="152280" y="3657600"/>
            <a:ext cx="2362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SINH NON 28 TUAÀN TUOÅI, NAËNG 1021g, BÒ SUY HOÂ HAÁP</a:t>
            </a:r>
            <a:endParaRPr b="0" lang="en-US" sz="1400" spc="-1" strike="noStrike">
              <a:solidFill>
                <a:srgbClr val="ffffff"/>
              </a:solidFill>
              <a:latin typeface="Times New Roman"/>
            </a:endParaRPr>
          </a:p>
        </p:txBody>
      </p:sp>
      <p:sp>
        <p:nvSpPr>
          <p:cNvPr id="109" name=""/>
          <p:cNvSpPr/>
          <p:nvPr/>
        </p:nvSpPr>
        <p:spPr>
          <a:xfrm>
            <a:off x="2743200" y="762120"/>
            <a:ext cx="18288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LUÙC 4 TUOÅI RÖÔÛI, BÒ CHAÄM PHAÙT TRIEÅN, HAY BÒ TAÙI NHIEÃM TRUØNG ÑÖÔØNG HOÂ HAÁP COÙ CO THAÉT PHEÁ QUAÛN (VUØNG NGÖÏC DÖÔÙI BÒ LOÕM – </a:t>
            </a:r>
            <a:r>
              <a:rPr b="0" lang="en-US" sz="1400" spc="-1" strike="noStrike">
                <a:solidFill>
                  <a:srgbClr val="00ffff"/>
                </a:solidFill>
                <a:latin typeface="VNI-Helve"/>
              </a:rPr>
              <a:t>RAÕNH HARRISON</a:t>
            </a:r>
            <a:r>
              <a:rPr b="0" lang="en-US" sz="1400" spc="-1" strike="noStrike">
                <a:solidFill>
                  <a:srgbClr val="ffffff"/>
                </a:solidFill>
                <a:latin typeface="VNI-Helve"/>
              </a:rPr>
              <a:t>) </a:t>
            </a:r>
            <a:endParaRPr b="0" lang="en-US" sz="1400" spc="-1" strike="noStrike">
              <a:solidFill>
                <a:srgbClr val="ffffff"/>
              </a:solidFill>
              <a:latin typeface="Times New Roman"/>
            </a:endParaRPr>
          </a:p>
        </p:txBody>
      </p:sp>
      <p:sp>
        <p:nvSpPr>
          <p:cNvPr id="110" name=""/>
          <p:cNvSpPr/>
          <p:nvPr/>
        </p:nvSpPr>
        <p:spPr>
          <a:xfrm>
            <a:off x="990720" y="5715000"/>
            <a:ext cx="3124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LUÙC 11 TUOÅI, COÙ BIEÅU HIEÄN DAÄY THÌ (COÙ VUÙ NÖÕ), TÌNH TRAÏNG NHIEÃM TRUØNG ÑÖÔØNG HOÂ HAÁP KHOÂNG COØN NÖÕ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1066680" y="518148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Helve"/>
              </a:rPr>
              <a:t>CAÙC TRÖÔØNG HÔÏP ÑA THA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4:12:51Z</dcterms:created>
  <dc:creator>HUU</dc:creator>
  <dc:description/>
  <dc:language>en-US</dc:language>
  <cp:lastModifiedBy>HUU</cp:lastModifiedBy>
  <dcterms:modified xsi:type="dcterms:W3CDTF">2003-11-27T06:58:47Z</dcterms:modified>
  <cp:revision>3</cp:revision>
  <dc:subject/>
  <dc:title>BIEÅU HIEÄN COÙ LIEÂN QUAN BAÙNH NHAU</dc:title>
</cp:coreProperties>
</file>